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5D5-80CD-496C-9F95-E13A89B3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DF2-A989-4606-B4F4-EFE82A30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924-A55E-467E-8E9D-FBB65B70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A4B-A5CC-40B3-96CE-E64BE2D1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F77-41F5-4478-8F49-06BD3BFB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561-8121-4F82-9A32-CFFAB1D1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2D2-63F4-4C46-A3AF-5061C412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24B-ED70-453B-AFCB-02AD6AC3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068-9360-45C2-BC81-A2465151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DA1-7AE6-4699-8239-1A11B57E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583-253A-4D60-BDBA-C481FB69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F42-F209-47C5-92FE-C0BE462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D802-81A2-4030-9D55-4F61795FDE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6AFB-96C2-4D56-8FEB-B04402E98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6.xml"/><Relationship Id="rId3" Type="http://schemas.openxmlformats.org/officeDocument/2006/relationships/slide" Target="slide67.xml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Middleware Technolo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C92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ent-Server Architecture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har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symmetrical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ransparency of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ix and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ssage based ex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ncapsulation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109-DFCA-41C4-A12F-2DC40EF3F5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FFE9A-2EC8-408E-BEA3-FF6981BB8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ypes of Ser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File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atabase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ransaction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Grou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Object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Web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6C8-CE5C-4398-BEA0-A46D794C5B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548B9-0FE8-4F56-B96E-644A3F4F95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ile  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It is a computer responsible for the central storage and management of data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Allows users to sha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File server – a normal PC – Dedicated network attached 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System security to limit access to files to specific users or groups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ovell’s eDirectory, MS’s Activ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FBC-098B-4DA8-B0E4-844D3916E9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74C69-88AA-4077-903B-63EE73F85C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atabase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QL requests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erver uses processing power to find the reques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BMS provides server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Database Master servers  and Slav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lient application written by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C06-AB80-41D3-B597-0C27B034F7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E8504-3A04-4001-99DD-1812269A1A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ansaction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ransaction- a group of SQ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lient invokes Remote procedures – Servers execut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oth client and server component coded by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Online transaction Processing (OLTP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1B3-77C7-4C48-8FBB-E1223F57E3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0FE4C-09F1-4AD9-8D6E-610940AE97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roupware 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ddresses the management of semi-structur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pplications are created using a scripting language and form based interf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542-9A20-4A8F-B1FB-61436CC8C9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FC799-EABF-46E6-BBD2-A59AAB5B48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bject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 objects communicates with server objects using an O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RB locates an instance of object server class, invokes request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 objects provide support for concurrency and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arious ORB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RBA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  Object managemen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com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 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OM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 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O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 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58F-2252-4799-B47A-02607A0D61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A6B4F-05DA-4CE2-9C6B-F4803DBDBF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eb Ser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HTTP requests - HTTP responses along with optional data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Error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8000"/>
                </a:solidFill>
                <a:latin typeface="Arial"/>
              </a:rPr>
              <a:t>Supposed to serve requests quickly from more than one TCP/IP connection at a time.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403-FE13-4593-977B-A1E5C0C451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3D873-F65E-4844-8F56-A1900C11DB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ent/Server building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rchitecture Analogy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We buy houses and not 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us, computer users buy business solutions and not client/server archite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ow is the application split between the client and the serv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What functions go into the client and serv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n the client/server model accommodate businesses of all siz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an a single client/server model accommodate all these type of us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409-17EE-45AC-B3AC-C05CD1AF88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485AC-6941-40D1-B6A1-7479F6103B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Basic Building Blocks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mpon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iddleware and is cate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198-CB2B-4C91-BCE3-9FE895702B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7447B-E5F0-4F52-92A6-A7A76823C4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Unit-I 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iddle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iddleware is a general term for any program that serves to "glue together" or mediate between two separate progr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common application of middleware is to allow programs written for access to a particular database to access other databases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88E-D5DF-4247-81FD-84EF1123E4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55283-BC01-46B1-A021-8BB57D1C2B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 Four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for tiny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hop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lient/server software and most of the business services runs on the same machine – one person s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for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hop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and depart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lassic Etherne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single-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building block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for intergalactic enterp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ulti-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building block implementation of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for the post-scarcity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very machine is transformed in the world for both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nd a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. Personal agents on every machine and do the negoti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55D-B5F7-4DB1-9DE3-096A84AD8F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B6913-0291-4316-955B-A6E62CA96E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lient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perating system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 Graphical User Interface (GU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 ability to find and access distributed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Web browser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ovide the user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ownload the necessary components from the server on de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iddleware components handle the non-local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ents may also run a component of a Distributed System Management (DSM)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F7C-EC26-455E-B4DF-E90F3D78A94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65460-94E4-4F8A-AF3C-1BA8EE4D10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erver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er Operating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 server software package of some kin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QL Database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ransaction Processing (TP)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roupware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bject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eb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iddleware components handle the reception of requests for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 server may also run a DSM compon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57D-AD1C-4E38-BCB2-D2C76F7846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8C2E1-BEDC-4388-828D-8244DEFA08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iddleware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se run on both the client and the server sides of a client/server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ransport Sta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etwork Operating Systems (NOS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ervice-specific middle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ay also have a DSM component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BC9-54E3-452A-8D0F-710B33F924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986DF-5A33-400C-B1CC-D3D8EFBD4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eral middleware – provide substate for most client/server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mmunication sta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istributed direct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uthentication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Network time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mote Procedure Ca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Queuing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NOS extens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istributed file and print servic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15E-8164-4959-B4EB-0EEA26A7F6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91FC4-0C89-4770-9759-3CDDE03A44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ervice-Specific Middle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ataba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DBC, JDBC, SQLJ, DRDA, OLE DB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LT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 variety of proprietary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roupw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API, VIM, JavaMail, SMTP, POP3, IMAP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bjec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RBA, Microsoft's COM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nterne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TTP, CGI, XML, 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63E-AB1B-4B79-89E4-035C86E290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7171E-2E5F-47DE-83FF-99DD502C4C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erver-to-Server Middlew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ddleware software may also be used to coordinate inter-serv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rvers are often clients to other servers, and vice-ver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me server-to-server interactions require special middlew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il servers may do store-and-forward type messa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atabases and groupware use daemons to automatically replicat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122-1A71-4209-A97A-8FBDCD1CF5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61459-2BEC-4964-A74D-827B0DE023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nit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Enterprise Java B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Arial"/>
              </a:rPr>
              <a:t>Enterprise Java Be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ite once, run-anywhere, middle tie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volution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inframe/Termin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ransaction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 handle concurrent client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 statements as on logic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uaranteeing successful execution or non would be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CF5-0EB9-4DC2-ABF5-A3DCAA2D99E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F9728-9325-48D5-AC3C-5950D20F0F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ransaction 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vides API with ‘begin’, ‘commit’, and ‘rollback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gging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ACID properties of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tom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CBF-9EEB-4ADD-AA96-FDF13CEDA5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12EBE-6E91-4D28-B62F-C4896D667D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nterprise Application Integration-E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o exploit the Internet, E-commerce, Extranet, and other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iddlewar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P mon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P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Object Request Brokers (ORB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atabase access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essage Pass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6AF-3DA7-4535-B182-695118D7A4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FA07E-0FFC-4607-9D51-E924375E9D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OLTP   Vs    DSS/EIS/O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pdates in a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ponse time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handle large volume of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view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volves long-running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maller number of requests, longer thin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158-3730-4EA8-9AF5-A7C7F1327E24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C0BBA-3897-4FDA-9592-EF7B8C49C2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Evolu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wo-Ti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action integrity by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ree-Ti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action integrity by Middle tie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ed distributed comp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thin layer on top of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ub-Skel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ub uses I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53A-7431-4E81-A88D-508C5DCD02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574D5-5CBF-4A60-8299-603B35A4FD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 object oriented RPC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bjects written in one language can be called by objects written in a different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RBA clients can access EJB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ava version of 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need to write IDL.  RMIC handle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allows client side RMI calls to EJB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A85-7586-4A92-BF45-0F652CE8E9F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BF0D4-5EE0-4AB0-9466-61BFC5B4F2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JB’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specifies an execu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is a java class implements Session bean or entity 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ainer provides services to EJ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ainer provides proxy object for each 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exists in the middle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 encapsulate business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pports transaction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Maintai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0C5-FEBC-4F04-B632-730C677A9E2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5D04C-DA4C-47D8-8BE6-0BF81C780A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terprise JavaBean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EJB) is an architecture for setting up program components, written in the Java programming language, that run in the server parts of a computer network that uses the client/server mod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terprise JavaBeans is built on the JavaBeans technology for distributing program components (which are called Beans,) to clients in a net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E11-180E-4DCD-B222-A8EF1EEED62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F6FA7-CE34-4852-B761-1109D17C7D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terprise JavaBeans offers enterprises the advantage of being able to control change at the server rather than having to update each individual computer with a client whenever a new program component is changed or ad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components have the advantage of being reusable in multiple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be deployed across all major operating systems, not just Window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718-08A1-4BA3-8FF4-38E20B04771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FDD4C-74E7-4C8C-8620-7BFFD7F269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EJB’s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ically three-ti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server &amp; DB reside on the same machine – EJB server includes built in functionality for persistent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server &amp; Client – EJB bean makes a call to another EJB 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 three tier might reside on a singl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ent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Serve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91D-E1DD-47C4-819B-47954DD15C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74FBB-FCB1-4D23-AF55-11F03D1BB2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JB’s role in the thre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ent calls remote EJB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components live in the middle ti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objects reside in an EJB container which is in side of an EJB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B resides in the thir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JB beans accesses the DB through 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Description of Figure 2-5  follows"/>
          <p:cNvPicPr/>
          <p:nvPr/>
        </p:nvPicPr>
        <p:blipFill>
          <a:blip r:embed="rId1"/>
          <a:stretch/>
        </p:blipFill>
        <p:spPr>
          <a:xfrm>
            <a:off x="990720" y="3962520"/>
            <a:ext cx="70866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674-6648-4EA6-B2DB-02636E1A5AD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AF7BE-517B-4604-B86B-11A93B4CA3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Overview of EJB’s Soft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2660760"/>
            <a:ext cx="7238880" cy="4197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bean exists within the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ent communicates with bean through home interface, remote inte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F65-4DA2-4F1F-A7DD-F2735E8D28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DBAA9-5239-48D6-A169-BF11FAB0A6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Overview of EJB’s Soft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JB server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vides container with lower level services such as network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ye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JB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face between EJB and outsid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create pool of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vides services to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rt for transactions, management of multiple instances, persistence,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9E5-47EF-4936-859A-D0C9D44AF76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AA5F7-594B-4572-8612-D785B28546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lationship between two computer programs, the client makes a service request from another program, the serv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n be used in a singl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ore important in Comput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xample:  FTP, Internet, Internet b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CED-8808-43BA-B86C-D7969CB6D7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23FFD-DC79-4C10-9F24-8DB1F9F72E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nterprise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object is implemented, in addition Home interface and Remote interface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Types of EJB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162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7E1-33D9-40C1-9044-8FDC79E044D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A842A-D316-472A-9DA9-2C3FC9F9ED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ession Bea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is created by a Client and usually exist only for the duration of a single client/server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ntity Bea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represents a business objects in a persistent storage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 :  Customers, orders &amp;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9C7-1B60-4775-8EC4-C1B00A8D1C5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85DC3-D1E3-42CA-A1A3-7578E3A3A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stateless session bean</a:t>
            </a:r>
            <a:r>
              <a:rPr b="0" lang="en" sz="3200" spc="-1" strike="noStrike">
                <a:solidFill>
                  <a:srgbClr val="0000ff"/>
                </a:solidFill>
                <a:latin typeface="Arial"/>
              </a:rPr>
              <a:t> is a distributed object that does not have an associated conversational state, thus allowing concurrent access to the be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ff"/>
                </a:solidFill>
                <a:latin typeface="Arial"/>
              </a:rPr>
              <a:t>The contents of instance variables are not guaranteed to be preserved across method ca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Stateful session beans</a:t>
            </a:r>
            <a:r>
              <a:rPr b="0" lang="en" sz="3200" spc="-1" strike="noStrike">
                <a:solidFill>
                  <a:srgbClr val="0000ff"/>
                </a:solidFill>
                <a:latin typeface="Arial"/>
              </a:rPr>
              <a:t> are distributed objects having a conversational state. The state could be persisted, but access to the bean is limited to only one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126-1197-4333-9F48-EE286E7F583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3A3E7-4F24-4A7A-A57B-A5A71AF4AC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ession bean Vs Entity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B’s are persistent, allow shared access, have primary key, and may participate in relationships with other entit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n to use Entity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f the bean represents a business entity, not a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f the bean’s state must be per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: CreditcardEJB  - Entity 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reditcardverifierEJB – Session 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7BE-F4FE-44B5-9CF3-56F14257A40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6EFF8-3234-41C8-B66D-531E2FD977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JB Session &amp; Entity B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-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ession EJ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session bean instanc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non-persisten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s some business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uns on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ve as long as the client nee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B4F-3C00-48E6-92A9-C415CF0E269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571B6-4171-45D2-95CB-002BF5BBB5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traints on Session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JB cannot use threads – but container can run multiple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not directly access transaction manager – container is responsible for managing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not use JDBC commit and rollback – container issues commit and ro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t allowed to change security identity at run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not have static variables – it must be static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DBD-D07B-4AE3-8A98-EF1D86DF7C9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BA8D6-C69D-4E21-89DC-A22B914E1E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ession bean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t is irrevocably disappear from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imeout value exp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e server crashes, shutdown, or re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ssion beans are non-reentrant – another call to the same object  from same transaction context  throws remote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6F0-0C17-47A7-837A-C19EE288E55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81D78-4ADB-455B-9FAB-06C2A8A483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omponents of a Session EJ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remot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s EJBObject (All extended types are from javax.ej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home interface -Extends EJB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n class itself, called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s Session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implement java.io.Serializable (for stateful b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s business methods from the component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s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lifecyc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methods (ejb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XXX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EE6-65FA-4AA7-92C1-31F92AC4AB57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A4267-BA76-4D5D-B53B-CFCA7E77F8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eless Session bean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hod-read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ssion EJBs have no state, so activation and passivation are meaning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container simply destroys instances when low on memory, and creates new ones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ill, ejbActivate and ejbPassivate must be implemented i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an (as empty meth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99D-6655-4521-BDDA-7DBD877F042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09F9A-B972-494D-81F6-1B44AEB7ED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ent-server architecture - Static HTML pag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ase #1 of the client-server architecture - Client requests for static HTML pages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51B-E93A-4548-A563-214C7D0824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6A361-4580-420C-89E3-2AF211C712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9F5-775D-4E3A-879E-5C4597CDBD35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2E822-79B6-4024-AD60-1641DA44FF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ful session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164-F7D8-426A-9141-096508FF0DF1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244C8-3BCE-4AE9-9A00-BDF54B130E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Stateful session bea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state of an object consists of the values of its instance vari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a stateful session bean, the instance variables represent the state of a unique client-bean ses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cause the client interacts ("talks") with its bean, this state is often called the conversational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80E-1C5A-41D2-A2B9-A4EE4227F22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F4124-903E-4E80-A517-2D5F00E5BB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Stateful session b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teful session beans are appropriate if any of the following conditions are tru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n's state represents the interaction between the bean and a specific cli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n needs to hold information about the client across method invo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n mediates between the client and the other components of the application, presenting a simplified view to the cli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E6B-6231-44E6-BC81-E5CA69883D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304DA-B69D-4DE9-9CC3-E399167F92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ity B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concurrently by several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 manages database integrity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ing client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an instance of the bean for each client, and synchron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beans persist across multiple sessions and multiple users – long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imit on the lif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removed by explicit remove() or delete from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CC4-E043-4B58-86D5-63DE9C2780A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20223-BF62-4D34-B0BE-B504AE23E2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urvive a server crash or re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meou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ly represent data in a databa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map directly to the columns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d by 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n-Managed 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code that updates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–Managed 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8DC-85D3-4FA3-9E25-E9A3E9256EA5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7FAD9-D259-4C51-8247-C6FE2A2A03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key is represented by a Jav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lass Customerpk implements Serial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int cust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s the value from the client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961-5924-4E49-AE90-5CB121A3769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E26A1-9E0A-43C3-9D51-139EA09CF1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ity Bean Life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B9B-147A-4BED-A4A2-E98136E245F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EBD49-2514-41AB-B140-E021FD838E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of an Entity EJ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nte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inte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a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s javax.ejb.Entity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Primary Key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n exist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, Integer, Da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new class (e.g., for composite ke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eri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convention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B6C-17E9-4399-8FE9-6E7B77D4428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4AA87-240A-42B6-8E31-372584B9DB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– 4</a:t>
            </a:r>
            <a:br>
              <a:rPr sz="4000"/>
            </a:b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5EF-0483-4C3C-831A-B20399210969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5E1A2-67F6-4359-A225-9A9E9CBDD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ent-server - CGI Scrip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Case #2 of the client-server architecture - Client requests for CGI scripts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56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96A-0A74-495D-8F10-4E4F3C2D50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24AD4-9E47-4DD2-A354-1E62BB0A8D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ORIENT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P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O DEVELO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“DISTRIBUTED SYTEM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IFF.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WRITTEN IN DIFF., LANG, CAN BE CALLED B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RITTEN IN ANOTHER L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BA CLIENTS C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EJB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D94-343C-4449-A8CB-E79BF52A05A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0339C-B281-41A6-B471-72CFF5E053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91440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ommon Object Request Brok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How can distributed Object Oriented systems implemented in different languages and running on different platforms interac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RBA is the OMG’s compon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7CD-E52D-4CA0-8490-802E97C24BAF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03A66-09F9-4530-AEE8-05E321CAB2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N PLATFORM &amp; LANGUAGE INDEPENDENCE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WELL SUITED FOR OBJECT ORIENTED SYST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A 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OO SYSTEMS RUNNIG DIFF. PLATFORMS &amp; COMPILED IN DIFF., LANG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ACTION BTW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90D-D724-4FAD-A48A-E7942DD88C1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90778-AF47-46A2-8577-7B8899A6F7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Web from Hypertext to Simple-Response to Object Web"/>
          <p:cNvPicPr/>
          <p:nvPr/>
        </p:nvPicPr>
        <p:blipFill>
          <a:blip r:embed="rId1">
            <a:grayscl/>
            <a:alphaModFix amt="65000"/>
          </a:blip>
          <a:stretch/>
        </p:blipFill>
        <p:spPr>
          <a:xfrm>
            <a:off x="304920" y="380880"/>
            <a:ext cx="883908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C5E-A21D-4364-B9F7-2C110BE32DEC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627AB-8B2E-42E1-B24B-32AC445262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DISTRIBUT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NOLITHI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SYSTEMS &amp; MAIN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TI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CLIENT/SERV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ULTI TI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/S (OR) DISTRIBUT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17C-92B8-41A6-9320-80E8040C780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31C9B-78D2-4868-83FC-E767398833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Monolithic Systems and Mainfr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1532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153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4D8-D309-43C3-AA1F-BC57EB0B66B8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45AC7-EA63-4746-9B89-F54088A283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Two-tier client/serv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A8A-C848-4449-882A-417C58958975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6EFC2-121E-4E83-A67B-09C6BFDB31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Multi-tier C/S – Distribute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818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6BC-B13F-430C-ADC3-9F967A65F39A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B2506-3572-4109-A4F0-3EA882473B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BA provides a standard mechanism for defining the interfaces between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G provides directory and naming services, persistent object services, and transaction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eatur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nguage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4BD-54EF-4270-BE8E-6866E169A8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05492-F5B7-4293-8829-65D378D746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BA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ket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te Procedur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riente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F Distributed Compu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F standard to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-D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ed to only Microsof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Remote Method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ng of objects b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only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78F-8FBC-44EF-BABC-9EA007B43E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35CAF-F563-498F-96D8-AA553AF57E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Server side scripting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Case #3 of the client-server architecture - Client requests for Dynamic web pages developed using server-side programming languages such as PHP or ASP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7AE-954B-4A70-A740-9CF9535D21B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70C6B-D095-4EBE-B443-B4B4D44238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ject Oriented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Request Bro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 Definition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ion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ents and Servers, Stub and 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D1E-96C3-4A1A-9E2E-F147CCDDCF7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C0ED6-6BD1-4FC8-9B20-F0EF2F4E87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This diagram shows the interaction between the many CORBA parts.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80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BA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B5F-EA66-46E4-9885-63D421FCC710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3E009-9D9A-451B-A341-5145CC14A6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Object Request Broker (ORB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ilitates communication between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s a remote object upon a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shals and un-marshals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form independent 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E33-2DE9-4CC0-B328-BE26F1A83BD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3CB89-C232-4A76-89EA-6F20AE76AB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ORB is-When an application component wants to use a service provided by another component, it first must obtain an object reference for the object providing that serv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D27-94EA-4961-BC34-3925325BE6D0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79551-B4DC-41F8-8EEA-3BB5493E52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1800" y="603720"/>
            <a:ext cx="878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ording to the OMG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"CORBA allows applications to communicate with one another no matter where they are located or who has designed them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standard also defined the Interface Definition Language (IDL) and the Application Programming Interface (API) that makes client/server object interactions work in a specific implementation of an OR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F8E-D4DD-4217-9C38-0FB02C8230E9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32ED5-80D1-4B5E-8F46-853DA7446C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9640"/>
            <a:ext cx="87631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MG ORB model can be divided into two main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lication oriented compon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Interf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Interf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Fac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 oriented compon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Request Bro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98F-E196-4B74-8510-326BCC20B34C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A8A25-A8A7-429E-9CF3-9ABFE5E097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-7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304920"/>
          <a:ext cx="8153280" cy="63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8153280" cy="63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F00-3708-43A8-946C-F9AA53AC1C3E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5C773-56CA-40F7-A398-F3AD4B8F5B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6858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arshal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ers to the process of translating input parameters to a format that can be transmitted across a net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nmarshaling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reverse of marshaling; this process converts data from the network to output parame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F3C-A1FE-42EB-BCA6-38CBA3017FD1}" type="slidenum">
              <a:t>7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86220-D5AF-449C-B408-18152D783D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3520" y="0"/>
          <a:ext cx="7848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7848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C46-4819-4AB5-BC51-113880B1EE7B}" type="slidenum">
              <a:t>7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344FD-BC60-4A56-845E-2F8C2F9051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BA Networking( COMMUNICATIONS)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810-3EA7-46C4-B18C-F7E1EB374BD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A4960-A945-4570-857C-4E82CBB7FA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wo tier architectures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ree tier architectures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ree tier architecture with transaction processing monitor technology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ree tier with an ORB architecture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istributed/collaborative enterprise architecture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72C-E9BF-4527-A792-D496A60D5E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FC58C-F80A-45C4-893B-8003609E79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/W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-ORB protoc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ter-ORB Protocol (GI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Inter –ORB Protocol (II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 are built on top of II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OP protocols rest on TCP/IP, DCE protoc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ayer – ORB Protoco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044-9FE6-4B37-893B-E577A0B0878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A7F76-E824-45CB-B068-7A69E1E2DB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80880" y="304920"/>
          <a:ext cx="84582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89F-9514-4063-B025-B5BA9B8E764D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950A2-4D2A-476A-9CA1-3C5B6170B5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BA Object Mod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RBA client, a remote method call looks exactly like a local method c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Object Adap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F18-3FB7-4FB7-8E68-F7540E3BDDD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D22D3-B7A6-43BA-9BED-3DF10206C0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ossible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by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by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G’S ORB USES CALL BY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452-3C38-44D1-8A0B-28D5F87365C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8C884-507E-4DCF-8B5B-7B53ECB045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3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0"/>
          <a:ext cx="8382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82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924-97EE-48CA-B869-59515DEA1725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5DF05-12EB-489B-9ACB-0381CD507A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OBJECT ADAP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:To interface an object's implementation with its OR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3 object ADAPTER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Object Adap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et of methods for accessing ORB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rary Object Adap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O Database Adap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548604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accessing objects in  persistent stor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A2E-923D-4413-8F53-A51DD3A8C25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62109-7964-4642-9DBC-E48A9011D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interface b/w various CORBA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generic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languag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L is not a procedural language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can define only interfaces, not implemen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its name suggests, is the language used to define interfaces between application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1A6-1D67-4B26-81C9-2906655838B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BCEFD-D1AD-48DA-971F-A01039D232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 Ground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ensi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Definition Synt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d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C pre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ing &amp; co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419-BC05-4794-86AA-FACC6C9F329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B2BE6-909F-439E-8DAE-BA814D9AC5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&amp; w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&amp; long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 mod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&amp; long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igned ..,.,.,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igned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6D8-AB30-420C-85B7-1BBD7AEA1DF6}" type="slidenum">
              <a:t>8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6B801-B637-4067-9E9A-2141D371B7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umerate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 :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iminator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used in an IDL union, is a parameter that determines the value used by the un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FACE TYPE and s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01B-9968-4EEA-8CBF-A23397B80D4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C1FC1-CED7-4A3A-9B85-F98067C59B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ransaction Processing monitor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 ability to update multiple different DBMSs in a single trans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nnectivity to a variety of data sources including flat files, non-relational DBMS, and the mainfr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 ability to attach priorities to trans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obus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127-6283-4B02-B2F8-4B1C06F008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EF8AD-444A-497F-ACAD-43803B5E9F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a CORBA Ap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line of the process is th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efine the server's interfaces using IDL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Choose an implementation approach for the server's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Use the IDL compiler to generate client stubs and server skeletons for the serv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mplement the server interface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Compile the server applic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Run the server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ACE-EDAA-47BB-B27E-538D96FBA1F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A2612-C616-4DEA-A21E-0C3AB72EB5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ng the Server Interfac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 Define Interface as an IDL file 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impleStocks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tockMar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{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get_pri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ring symbol )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}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162-C170-40CF-BBEA-DF4CB6EFB43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0EA97-01C7-4596-9761-33CA98372E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ing an Implementation Approa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eritance mechanism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 a class implements an interface by inheriting from that interfac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gation 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which the methods of the interface class call the methods of the implementing class (delegating to those metho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713-5A79-4A0E-9239-FBA5042F6C20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C3EF6-3D86-4AC2-8898-6D6DA9A533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609480" y="609480"/>
          <a:ext cx="354348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35434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800600" y="380880"/>
          <a:ext cx="365760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3657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7C7-DC65-4461-A711-82F569A06EC7}" type="slidenum">
              <a:t>9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9028E-112A-4700-8BB5-5A8D9245EA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IDL compiler to generate client stubs and server skeletons for the server interfaces. </a:t>
            </a:r>
            <a:br>
              <a:rPr sz="2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mpiled wit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to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iler, the stubs and skeletons are placed in a pa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module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Eg., stockapp,weather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 the server interfac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ort org.omg.CORBA.*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/ All CORBA applications need these class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SimpleStocks.*;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/ The package containing our stu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tockMarketImpl exte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_StockMarketImpl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float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et_pr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String symbol ) {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float price = 0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for(int i = 0; i &lt; symbol.length(); i++) {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 price += (int) symbol.charAt( i 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price /= 5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return pric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tockMarketImpl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() {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uper();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dle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0CC-B425-47AA-9974-845FAFEF026A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38298-6511-40F6-9F39-8C785B98AD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Implement and Compile the server application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 Compile and Run the Client applicatio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3:28:49Z</dcterms:created>
  <dc:creator>P4</dc:creator>
  <dc:description/>
  <dc:language>en-US</dc:language>
  <cp:lastModifiedBy>Administrator</cp:lastModifiedBy>
  <dcterms:modified xsi:type="dcterms:W3CDTF">2011-06-08T04:12:40Z</dcterms:modified>
  <cp:revision>110</cp:revision>
  <dc:subject/>
  <dc:title>Slide 1</dc:title>
</cp:coreProperties>
</file>