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11BE-2315-425E-A9D3-62163F7F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4B36-7B94-4F25-80A2-67162A56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C1E9-2A88-48C8-A7BD-CD1C198A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6651-BFD7-42F2-A5D7-896272D4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D718-9FDD-4375-AB05-7B17116A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7B19-D01B-4382-BFC5-1839177B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BE6-DCFB-4B56-837E-FBDCD485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4073-F42C-420E-930D-7A2FE328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2213-ECEA-432D-9EB1-1350DA56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BBB6-195A-4B55-B456-1F5C537A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D0D3-3A88-4E94-B19F-4E6FEC4A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CC67-81BD-431E-8968-77573C7C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23A4-628A-4A95-B2B0-92B900AD87A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EF2B-6919-4454-9775-DF2AEF989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6.xml"/><Relationship Id="rId3" Type="http://schemas.openxmlformats.org/officeDocument/2006/relationships/slide" Target="slide67.xml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6.xml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Middleware Technolog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C92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lient-Server Architecture 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hare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 symmetrical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ransparency of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ix and 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essage based ex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Encapsulation of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nteg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9922-27FD-4C09-94C2-C088242F52F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5BB66-3E7C-4C41-9E32-82466D581F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ypes of Serv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File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Database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ransaction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Group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Object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Web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C1AE-5F0A-4592-B20A-9BDEF89C7E7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2DC03-7094-4586-8B8E-90E84D08EE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File  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8000"/>
                </a:solidFill>
                <a:latin typeface="Arial"/>
              </a:rPr>
              <a:t>It is a computer responsible for the central storage and management of data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8000"/>
                </a:solidFill>
                <a:latin typeface="Arial"/>
              </a:rPr>
              <a:t>Allows users to shar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8000"/>
                </a:solidFill>
                <a:latin typeface="Arial"/>
              </a:rPr>
              <a:t>File server – a normal PC – Dedicated network attached 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8000"/>
                </a:solidFill>
                <a:latin typeface="Arial"/>
              </a:rPr>
              <a:t>System security to limit access to files to specific users or groups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Novell’s eDirectory, MS’s Activ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AC78-7F35-47FC-A4CE-F845BA80FAB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683F7-D947-4CE9-92A0-07E66F55DB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atabase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QL requests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erver uses processing power to find the reques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DBMS provides server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8000"/>
                </a:solidFill>
                <a:latin typeface="Arial"/>
              </a:rPr>
              <a:t>Database Master servers  and Slave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lient application written by the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69BC-7A24-4E10-B3EE-F6E0783C55C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26172-768A-4261-AC6D-F9D80FB0C5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ransaction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ransaction- a group of SQL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lient invokes Remote procedures – Servers execute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Both client and server component coded by the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Online transaction Processing (OLTP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8ED8-BE65-48F3-AE1B-89064A25013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5ECDD-F714-4737-8772-A5AE959739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Groupware 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ddresses the management of semi-structur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pplications are created using a scripting language and form based interfa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CD99-422A-4561-A444-939B95E3385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0FF0D-0C13-4ACB-998C-E463123944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bject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lient objects communicates with server objects using an O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ORB locates an instance of object server class, invokes requested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erver objects provide support for concurrency and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arious ORB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ORBA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-  Object managemen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Dcom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-  Micro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SOM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-  I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O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-  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6834-73A3-4E08-9E23-010B64FC57D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8BED7-9E50-4BBE-9293-1D6773DCB1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eb Serv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8000"/>
                </a:solidFill>
                <a:latin typeface="Arial"/>
              </a:rPr>
              <a:t>HTTP requests - HTTP responses along with optional data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8000"/>
                </a:solidFill>
                <a:latin typeface="Arial"/>
              </a:rPr>
              <a:t>Error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8000"/>
                </a:solidFill>
                <a:latin typeface="Arial"/>
              </a:rPr>
              <a:t>Supposed to serve requests quickly from more than one TCP/IP connection at a time.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A741-8CDB-4D14-A1A4-B77D20A668D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F2994-BD8B-47B4-B520-EC8786A077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ent/Server building bl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rchitecture Analogy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We buy houses and not pl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hus, computer users buy business solutions and not client/server architec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How is the application split between the client and the serv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What functions go into the client and serv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an the client/server model accommodate businesses of all siz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an a single client/server model accommodate all these type of user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DE5E-BF95-4794-97BC-6A4491BA0E1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4E7EF7-A50D-4638-89E1-496D3869B7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 Basic Building Blocks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omponen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li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er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Middleware and is cate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E66A-E847-44B5-87D1-86056627298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D1ACC-7778-4AA5-9144-590F05EA4A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Unit-I 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iddle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iddleware is a general term for any program that serves to "glue together" or mediate between two separate progra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 common application of middleware is to allow programs written for access to a particular database to access other databases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5C9C-DF59-44CF-8D9D-121F8C9AFAB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85145-D903-45DD-87DB-B27185CC43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The Four sit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lient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erver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for tiny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hops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lient/server software and most of the business services runs on the same machine – one person sh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lient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erver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for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mall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hops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and depart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lassic Ethernet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lient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/single-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erver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building block imple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lient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erver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for intergalactic enterp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Multi-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erver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building block implementation of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lient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erver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lient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erver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for the post-scarcity wor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Every machine is transformed in the world for both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lient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and a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erver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. Personal agents on every machine and do the negoti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7433-A49F-45AD-A9AF-9BDCD949AF5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26A21-F136-48B6-8869-BCF3C33B1D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lient Com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Operating system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a Graphical User Interface (GU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the ability to find and access distributed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Web browser 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rovide the user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ownload the necessary components from the server on de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Middleware components handle the non-local ser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lients may also run a component of a Distributed System Management (DSM)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8D9-8972-4279-B887-5FE620A7239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1171E-9857-4DDE-BBD4-A116A78F36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erver Com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erver Operating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 server software package of some kin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QL Database ser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Transaction Processing (TP)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Groupware ser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Object ser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Web ser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Middleware components handle the reception of requests for serv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 server may also run a DSM compon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3F18-C198-44A8-A0D0-66B0B0FCA08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FA5D7-EA63-4041-A3E2-CEE6E4E1A1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Middleware Com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hese run on both the client and the server sides of a client/server appl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ransport Stac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Network Operating Systems (NOS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ervice-specific middlew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ay also have a DSM component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719D-DE06-48D2-A34A-E70882E11BC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21663-DC6B-4E9F-9CDC-3D6C45EA33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eneral middleware – provide substate for most client/server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ommunication sta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Distributed directo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uthentication ser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Network time ser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Remote Procedure Ca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Queuing ser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NOS extens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Distributed file and print services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BFFA-572E-4369-98A2-949DF4E5298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EBD57-BBAB-44A9-8CF5-1FB46F288E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ervice-Specific Middle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Databas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ODBC, JDBC, SQLJ, DRDA, OLE DB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OLTP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A variety of proprietary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Groupwa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API, VIM, JavaMail, SMTP, POP3, IMAP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Objec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ORBA, Microsoft's COM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Interne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HTTP, CGI, XML, 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92D3-1F82-435A-B4B5-AFD46801614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3C4ED-7F7F-46B0-8F84-B92223D514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Server-to-Server Middlew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ddleware software may also be used to coordinate inter-serv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rvers are often clients to other servers, and vice-ver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ome server-to-server interactions require special middlew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ail servers may do store-and-forward type messag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atabases and groupware use daemons to automatically replicate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A5BD-1D79-4277-AFC9-74D641B9ED1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19D2B3-38B8-4624-82D0-BB78F05B9A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Unit -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Enterprise Java B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Arial"/>
              </a:rPr>
              <a:t>Enterprise Java Be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rite once, run-anywhere, middle tier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volution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inframe/Termin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ransaction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o handle concurrent client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ral statements as on logical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uaranteeing successful execution or non would be exec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B9EC-63F9-4428-9FFB-00A39D17795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86814-7F70-4ED3-ADF7-5FA11B9EF9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Transaction proces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ovides API with ‘begin’, ‘commit’, and ‘rollback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ogging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ACID properties of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tom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6CCD-C856-45DD-B5E5-66FA7119D63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CF270-688E-46BE-AB7A-603B075C90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Enterprise Application Integration-E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o exploit the Internet, E-commerce, Extranet, and other new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iddleware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P moni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RP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Object Request Brokers (ORB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Database access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essage Pass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72F5-4E60-4ECF-A868-EE893EA585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C4DB5-167C-49F4-8D7C-DD08A6C5C6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OLTP   Vs    DSS/EIS/OL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pdates in a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sponse time is cri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n handle large volume of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view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volves long-running qu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maller number of requests, longer think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678E-95A7-43F6-9DCC-0C138875BB8B}" type="slidenum">
              <a:t>3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6A11D-1412-4B2B-9FF3-F2454AFDDA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Evolu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wo-Tier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ansaction integrity by DB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ree-Tier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ansaction integrity by Middle tier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mited distributed compu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 thin layer on top of S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ub-Skele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ub uses I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045A-12E9-4704-AAEC-B68EB9ADE15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F5E6D2-0AD3-4F13-9CCD-C0D136FA17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OR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 object oriented RPC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bjects written in one language can be called by objects written in a different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RBA clients can access EJB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R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ava version of COR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o need to write IDL.  RMIC handle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JB allows client side RMI calls to EJB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C75C-ED2D-42E4-908A-DCD54A607CF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53166-4533-44DA-9032-BBC1CC0E76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JB’s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JB specifies an execu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JB is a java class implements Session bean or entity 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tainer provides services to EJ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tainer provides proxy object for each 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JB exists in the middle t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o encapsulate business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upports transaction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n Maintain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F5FC-CCE1-47DB-BB35-E545FB85478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39791-35EB-4D98-8B52-636CB3091A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terprise JavaBean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(EJB) is an architecture for setting up program components, written in the Java programming language, that run in the server parts of a computer network that uses the client/server mod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nterprise JavaBeans is built on the JavaBeans technology for distributing program components (which are called Beans,) to clients in a networ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098B-E105-47BF-94A3-ABB189E100EB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1A035-C016-41E2-A112-AF37FA4C8B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nterprise JavaBeans offers enterprises the advantage of being able to control change at the server rather than having to update each individual computer with a client whenever a new program component is changed or ad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JB components have the advantage of being reusable in multiple appl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n be deployed across all major operating systems, not just Window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7DCD-E20E-4A85-AE6F-D63B73D05A5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A579C-5D76-4EBC-BA28-D8C1A64228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EJB’s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gically three-tie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JB server &amp; DB reside on the same machine – EJB server includes built in functionality for persistent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JB server &amp; Client – EJB bean makes a call to another EJB 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ll three tier might reside on a singl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ent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JB Server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248C-BD66-456E-90D5-5B598B21CD1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A48AE-3347-4BED-9192-21B8969E9D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EJB’s role in the three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ent calls remote EJB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JB components live in the middle ti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JB objects reside in an EJB container which is in side of an EJB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B resides in the third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JB beans accesses the DB through 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Description of Figure 2-5  follows"/>
          <p:cNvPicPr/>
          <p:nvPr/>
        </p:nvPicPr>
        <p:blipFill>
          <a:blip r:embed="rId1"/>
          <a:stretch/>
        </p:blipFill>
        <p:spPr>
          <a:xfrm>
            <a:off x="990720" y="3962520"/>
            <a:ext cx="7086600" cy="289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63BC-17D8-4399-87DA-5F8D6D2DD2AB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59714-C5E3-4A52-97BA-BE972BCC19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Overview of EJB’s Software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3520" y="2660760"/>
            <a:ext cx="7238880" cy="4197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JB bean exists within the 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ent communicates with bean through home interface, remote interf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0075-3908-4867-AAB3-F8B4DB6D8CC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5CFF1-B870-4403-BC0E-A6778F2540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Overview of EJB’s Software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EJB server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ovides container with lower level services such as network 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ayer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EJB 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terface between EJB and outsid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n create pool of b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ovides services to B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pport for transactions, management of multiple instances, persistence, an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952F-B30A-4D9A-93F3-C5641560EB2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81368-6EBE-4397-A57A-FBB2441D60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Relationship between two computer programs, the client makes a service request from another program, the server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an be used in a single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ore important in Computer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Example:  FTP, Internet, Internet b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F059-380A-452D-9FB0-0919354A73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66596-E8BD-4AA7-A988-9FF7541C84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Enterprise 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JB object is implemented, in addition Home interface and Remote interface imple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Types of EJB b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7162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4181-A091-458B-862E-66C871617CD5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FE6CC-7753-4787-87D3-D253B3FFB1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Session Bean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is created by a Client and usually exist only for the duration of a single client/server s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Entity Bean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represents a business objects in a persistent storage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 :  Customers, orders &amp;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FAAA-C452-4388-8100-C64A81BDC9A3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23A9A-0273-4697-A5CA-51F39E3007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ff"/>
                </a:solidFill>
                <a:latin typeface="Arial"/>
              </a:rPr>
              <a:t>A </a:t>
            </a:r>
            <a:r>
              <a:rPr b="1" lang="en" sz="3200" spc="-1" strike="noStrike">
                <a:solidFill>
                  <a:srgbClr val="0000ff"/>
                </a:solidFill>
                <a:latin typeface="Arial"/>
              </a:rPr>
              <a:t>stateless session bean</a:t>
            </a:r>
            <a:r>
              <a:rPr b="0" lang="en" sz="3200" spc="-1" strike="noStrike">
                <a:solidFill>
                  <a:srgbClr val="0000ff"/>
                </a:solidFill>
                <a:latin typeface="Arial"/>
              </a:rPr>
              <a:t> is a distributed object that does not have an associated conversational state, thus allowing concurrent access to the be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ff"/>
                </a:solidFill>
                <a:latin typeface="Arial"/>
              </a:rPr>
              <a:t>The contents of instance variables are not guaranteed to be preserved across method ca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ff"/>
                </a:solidFill>
                <a:latin typeface="Arial"/>
              </a:rPr>
              <a:t>Stateful session beans</a:t>
            </a:r>
            <a:r>
              <a:rPr b="0" lang="en" sz="3200" spc="-1" strike="noStrike">
                <a:solidFill>
                  <a:srgbClr val="0000ff"/>
                </a:solidFill>
                <a:latin typeface="Arial"/>
              </a:rPr>
              <a:t> are distributed objects having a conversational state. The state could be persisted, but access to the bean is limited to only one cl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237D-6CC5-4B67-98A5-4884F03D1FE2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F557C-63DA-4E62-BF2B-59B1A1FAFC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Session bean Vs Entity 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B’s are persistent, allow shared access, have primary key, and may participate in relationships with other entity b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en to use Entity 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f the bean represents a business entity, not a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f the bean’s state must be persis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: CreditcardEJB  - Entity 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reditcardverifierEJB – Session 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094C-80AB-45F3-9391-651659D5C2C0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E543B-0BAD-4BC8-A5AE-1912037708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JB Session &amp; Entity B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-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Session EJ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session bean instanc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 non-persistent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lements some business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uns on th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ve as long as the client need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5F10-54DD-4A66-A837-D4280A6662D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E82B8-6EB1-4E14-9F05-49D59AA287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10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straints on Session 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JB cannot use threads – but container can run multiple i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nnot directly access transaction manager – container is responsible for managing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nnot use JDBC commit and rollback – container issues commit and roll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ot allowed to change security identity at run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nnot have static variables – it must be static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A630-2250-4A7E-8C62-3A4025A33E4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41134-071C-4B63-B435-C5E18FCF58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ession bean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t is irrevocably disappear from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f timeout value exp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f the server crashes, shutdown, or re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ssion beans are non-reentrant – another call to the same object  from same transaction context  throws remote ex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C054-B7BB-4B32-B9AE-DA0A6CD08ED6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CD7B3-AA45-4601-9B71-8690EE93D9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omponents of a Session EJ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remot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tends EJBObject (All extended types are from javax.ej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home interface -Extends EJBH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bean class itself, called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tends Session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ould implement java.io.Serializable (for stateful b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lements business methods from the component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lements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lifecycl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methods (ejb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XXX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B401-0C53-453D-8D8B-BB9C9280561E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495DF-987D-40AA-B159-14B6406D9B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tateless Session bean lif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n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thod-read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ssion EJBs have no state, so activation and passivation are meaning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container simply destroys instances when low on memory, and creates new ones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ill, ejbActivate and ejbPassivate must be implemented in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ean (as empty metho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003A-821A-4124-9B7C-F02A2870511A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715EB-658B-46B4-83CB-5FF4045A54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lient-server architecture - Static HTML pag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Case #1 of the client-server architecture - Client requests for static HTML pages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28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5076-F176-49B2-9DFC-FB3D83ADE6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0B1E3-07A2-46F0-A7C0-71839A8EA6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449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61C8-2300-451A-92C7-062787B34610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EBD71-46B0-46F4-A735-E19A75A50F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ful session 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391520" cy="491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B426-1EF5-4849-9DF9-C6CFE4E782C1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70256-0ACF-441E-8C32-BB1BBEA8DC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Stateful session bea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state of an object consists of the values of its instance variab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 a stateful session bean, the instance variables represent the state of a unique client-bean ses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ecause the client interacts ("talks") with its bean, this state is often called the conversational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E131-069F-4181-8ECE-1080010D816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E04AC-535E-4D17-B0B4-61CEE23CC7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Stateful session b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ateful session beans are appropriate if any of the following conditions are tru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bean's state represents the interaction between the bean and a specific cli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bean needs to hold information about the client across method invoc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bean mediates between the client and the other components of the application, presenting a simplified view to the clien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112E-C576-468C-9578-7CEBAF1E839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17710-D633-4B39-921B-AE3FF6ACDC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ity B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concurrently by several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er manages database integrity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ing client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an instance of the bean for each client, and synchron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ty beans persist across multiple sessions and multiple users – long l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limit on the lif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removed by explicit remove() or delete from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5437-BBA0-47B8-B77C-FB9454633AA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AE3D5-F9C7-4EDD-BFEF-722B3E851A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3818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survive a server crash or re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imeou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ly represent data in a databas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 map directly to the columns in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d by primary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n-Managed Pers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code that updates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er –Managed Pers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BFFC-751F-4518-AB86-1EFEE50284E4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1E4C3-7AB4-4479-9EED-3F132F3682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4582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key is represented by a Java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class Customerpk implements Serializ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int custi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s the value from the client to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85CE-54AB-4DA9-9270-E00046C2B40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77398-5B37-458B-9A2D-70359C8C43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ity Bean Life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153280" cy="58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8387-4063-4B9A-B74F-32E05358C25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9064B-BDEB-450E-9285-035592CB8F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 of an Entity EJ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 interf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interf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an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s javax.ejb.EntityB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 Primary Key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n existing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, Integer, Dat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 new class (e.g., for composite ke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seriali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ing convention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7BD4-BB22-4C2A-B1F8-B066B5F89EA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5FCEA-B2BC-46AD-B894-AED708CB77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1980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 – 4</a:t>
            </a:r>
            <a:br>
              <a:rPr sz="4000"/>
            </a:br>
            <a:r>
              <a:rPr b="0" lang="en-US" sz="129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EE19-9F5E-48E7-9063-D95656476A74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F5624-F25D-41B7-9762-5E46457767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ent-server - CGI Scrip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Case #2 of the client-server architecture - Client requests for CGI scripts"/>
          <p:cNvPicPr/>
          <p:nvPr/>
        </p:nvPicPr>
        <p:blipFill>
          <a:blip r:embed="rId1"/>
          <a:stretch/>
        </p:blipFill>
        <p:spPr>
          <a:xfrm>
            <a:off x="380880" y="990720"/>
            <a:ext cx="8305920" cy="560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42A5-DD8F-42E1-B7FB-25D1815AF21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CE6BF-C281-4A95-987C-5FDE33CA1E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ORIENTE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P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TO DEVELO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“DISTRIBUTED SYTEMS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IFF.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WRITTEN IN DIFF., LANG, CAN BE CALLED BY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RITTEN IN ANOTHER LA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BA CLIENTS CA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 EJB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D35F-97F0-4D1D-95F5-C953AA18100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84778-F14D-4D69-835D-0A33B792DD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91440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Times New Roman"/>
              </a:rPr>
              <a:t>COR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Times New Roman"/>
              </a:rPr>
              <a:t>Common Object Request Broker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How can distributed Object Oriented systems implemented in different languages and running on different platforms interac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RBA is the OMG’s compon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7401-0688-47A5-8319-0C62C26E69E7}" type="slidenum">
              <a:t>6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1ACE4-EC55-4A2C-B1FB-87FC87D02D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N PLATFORM &amp; LANGUAGE INDEPENDENCE</a:t>
            </a: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WELL SUITED FOR OBJECT ORIENTED SYSTE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A 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OO SYSTEMS RUNNIG DIFF. PLATFORMS &amp; COMPILED IN DIFF., LANG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TERACTION BTWN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FD37-8CD0-4CD9-935A-2326D85B448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1DC4E-6A4E-494A-9643-BF0EC8BF72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Web from Hypertext to Simple-Response to Object Web"/>
          <p:cNvPicPr/>
          <p:nvPr/>
        </p:nvPicPr>
        <p:blipFill>
          <a:blip r:embed="rId1">
            <a:grayscl/>
            <a:alphaModFix amt="65000"/>
          </a:blip>
          <a:stretch/>
        </p:blipFill>
        <p:spPr>
          <a:xfrm>
            <a:off x="304920" y="380880"/>
            <a:ext cx="8839080" cy="617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91FB-A666-4CA3-8B56-AF6DF6AEBA57}" type="slidenum">
              <a:t>6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4CACC-DCC6-42B3-B3D8-53FF0579DA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DISTRIBUT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ONOLITHIC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SYSTEMS &amp; MAIN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TI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CLIENT/SERVER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MULTI TI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/S (OR) DISTRIBUT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9AD4-8AA3-400A-97EB-1508615FB21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1D1FE-6963-49B9-920F-F6BB132659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Monolithic Systems and Mainfr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7200" y="1600200"/>
          <a:ext cx="815328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1532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0386-04D8-4063-AE7D-1B3BF4476845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06AF3-92E1-4457-97D2-CCBE2E5D2A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Two-tier client/server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22960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5D6-D59F-4FF0-9EB3-0E69D2C11AAB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545C4-5E58-4CDA-9250-51BD6FF47F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Multi-tier C/S – Distributed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38188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B892-B5C0-4658-B434-BFA3E5F82CEB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B3D874-4193-4110-9340-10CCCCB2B1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BA provides a standard mechanism for defining the interfaces between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G provides directory and naming services, persistent object services, and transaction ser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feature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nguage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E93A-093B-4C50-8589-07CB876ABCF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B8D9E-BF91-4995-90E0-604540E5FF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BA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ket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ote Procedure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 oriented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F Distributed Comput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F standard to 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S-D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tricted to only Microsoft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va Remote Method Inv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ing of objects by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only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2F2D-4622-4642-AC09-80A02FE43B3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DD82D-21DD-46BA-AB42-81C63FD1BE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Server side scripting techno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Case #3 of the client-server architecture - Client requests for Dynamic web pages developed using server-side programming languages such as PHP or ASP"/>
          <p:cNvPicPr/>
          <p:nvPr/>
        </p:nvPicPr>
        <p:blipFill>
          <a:blip r:embed="rId1"/>
          <a:stretch/>
        </p:blipFill>
        <p:spPr>
          <a:xfrm>
            <a:off x="457200" y="990720"/>
            <a:ext cx="8153280" cy="58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EEE3-7AEB-4C0C-8398-86FF89C74D0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EF676-B5F5-49AD-824C-DD0B38C435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ject Oriented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 Request Bro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face Definition Langu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unications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ents and Servers, Stub and skele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72DE-2765-48CC-B9A5-17B2344E695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EA3BE-902B-4083-A8AC-14981F7397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This diagram shows the interaction between the many CORBA parts."/>
          <p:cNvPicPr/>
          <p:nvPr/>
        </p:nvPicPr>
        <p:blipFill>
          <a:blip r:embed="rId1"/>
          <a:stretch/>
        </p:blipFill>
        <p:spPr>
          <a:xfrm>
            <a:off x="838080" y="1600200"/>
            <a:ext cx="7848720" cy="48006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BA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675C-DFB0-462F-BC42-198CC78C3F69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C703A-EB32-4083-BAE9-8E5590C33B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Object Request Broker (ORB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ilitates communication between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cates a remote object upon a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re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shals and un-marshals param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tform independent 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7900-5D41-42B8-A6EB-0737B51F1BD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77980-78EF-4BD9-B308-DCD70296F5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0948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cept of ORB is-When an application component wants to use a service provided by another component, it first must obtain an object reference for the object providing that serv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506B-6EB0-4999-9B87-D2E2AE5F03D5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A0C2A-6452-4C60-ACEF-D58FAE3FDE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61800" y="603720"/>
            <a:ext cx="8782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cording to the OMG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"CORBA allows applications to communicate with one another no matter where they are located or who has designed them.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standard also defined the Interface Definition Language (IDL) and the Application Programming Interface (API) that makes client/server object interactions work in a specific implementation of an ORB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DB9C-9EF3-46AC-A5A8-7F6C86FCCAC2}" type="slidenum">
              <a:t>7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F1957-B0FA-4D6B-A773-52AA63DA3F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989640"/>
            <a:ext cx="876312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MG ORB model can be divided into two main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lication oriented compon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Interfa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 Interfa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Fac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stem oriented compon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Request Bro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Ser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7F97-E06C-4099-8019-BFE94128781E}" type="slidenum">
              <a:t>7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10F56-CF01-43C8-A7DC-6F40DDD49F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-7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5800" y="304920"/>
          <a:ext cx="8153280" cy="63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920"/>
                    <a:ext cx="8153280" cy="63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C69D-F650-482F-B1F4-C11F88B4FB04}" type="slidenum">
              <a:t>7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E1720-03C0-49B2-9037-DE27C6BF3D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480" y="6858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arshal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fers to the process of translating input parameters to a format that can be transmitted across a netwo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Unmarshaling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the reverse of marshaling; this process converts data from the network to output paramet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C930-CA11-4653-A193-86DD751EDC52}" type="slidenum">
              <a:t>7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6BEF0-D142-40AB-8888-5267C9052F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533520" y="0"/>
          <a:ext cx="7848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7848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90C0-6C51-429F-BEB5-8D87219AADF8}" type="slidenum">
              <a:t>7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A5ABC-26B3-433E-AF0F-D926C0395A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BA Networking( COMMUNICATIONS)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266E-9128-4772-9DE3-233A2488AA8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81622-0ECE-48BF-B7E1-4EA426268E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wo tier architectures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hree tier architectures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hree tier architecture with transaction processing monitor technology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hree tier with an ORB architecture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Distributed/collaborative enterprise architecture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F173-E7BB-49D4-B3A7-CD6FA058421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F4320-8744-4697-9A51-A310AB31C8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/W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-ORB protoc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Inter-ORB Protocol (GIO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Inter –ORB Protocol (IIO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s are built on top of II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IOP protocols rest on TCP/IP, DCE protoc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layer – ORB Protocol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BC90-72D2-4586-832E-FB8C722D1F8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7CF14-D2C7-43E6-84A2-082BE77F13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80880" y="304920"/>
          <a:ext cx="84582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4582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A571-B87E-4B2E-878C-C8F9F80ADD09}" type="slidenum">
              <a:t>8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A76B8-A5D1-409B-81AF-C90AE17E43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BA Object Mod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RBA client, a remote method call looks exactly like a local method c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 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Object Adap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5FC-5FC2-4EA0-8959-5173B989088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B9225-A228-4893-9417-279B0F3AAF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possible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by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by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G’S ORB USES CALL BY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C3C7-3B19-46A3-9488-7C9A1033599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F8548-F268-4E13-AC78-6DA1116D9E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23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80880" y="0"/>
          <a:ext cx="83822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8382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5F86-6E0B-479B-8ED6-B0DC6853A7A0}" type="slidenum">
              <a:t>8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D851D-AAE1-4541-A12D-BF634EFA36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OBJECT ADAP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 :To interface an object's implementation with its OR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3 object ADAPTER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Object Adap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set of methods for accessing ORB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brary Object Adap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O Database Adap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81080" y="548604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for accessing objects in  persistent stora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C702-313E-49A8-B30B-F60A40BF9DD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BF4C9-BAE0-4AEC-8532-CB135BE4EE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interface b/w various CORBA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generic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its own languag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L is not a procedural language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can define only interfaces, not implemen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its name suggests, is the language used to define interfaces between application compon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776F-01DA-4487-BD4B-03CA77C8473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7598D-A3A6-4430-883E-87E94385D6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 Ground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e Sensitiv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 Definition Synt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od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C pre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ling &amp; coh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0929-5E8C-47A5-8A19-F65A93B23F3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CC8DE-0FD4-42D0-A52C-1782973A8B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ITIVE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 &amp; wch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&amp; long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 mod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er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&amp; long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igned ..,.,.,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igned s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7F1E-098A-4616-AF83-C03DFDF6A6B6}" type="slidenum">
              <a:t>8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0DC49-92EB-4DEB-B57D-FDACD8FEF7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umerate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ucture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on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 :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iminator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used in an IDL union, is a parameter that determines the value used by the un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FACE TYPE and so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25DE-5EB0-4293-9734-B9D4E32D67F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10A2F-E759-43BC-9FB0-1AED5E62DE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ransaction Processing monitor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he ability to update multiple different DBMSs in a single trans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onnectivity to a variety of data sources including flat files, non-relational DBMS, and the mainfra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he ability to attach priorities to trans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robus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A52A-5981-493B-8484-41113EFC2B3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2B5FE-6378-463A-A796-C2F2C9CA4F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a CORBA Applic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line of the process is th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Define the server's interfaces using IDL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Choose an implementation approach for the server's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Use the IDL compiler to generate client stubs and server skeletons for the server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Implement the server interfaces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Compile the server applic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Run the server ap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D972-E5D7-49B2-A36E-D1409C71112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E0CE0-083E-43BC-8635-07A813F542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ng the Server Interfac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 Define Interface as an IDL file 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SimpleStocks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StockMark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{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get_pri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tring symbol )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};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2F56-2940-477B-9AF8-133F7978AE8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037E1-3464-44F4-842F-53DFE89BCB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sing an Implementation Approac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eritance mechanism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hich a class implements an interface by inheriting from that interfac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egation mechan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n which the methods of the interface class call the methods of the implementing class (delegating to those method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6CDE-97C4-4270-A870-D6BC49C0A298}" type="slidenum">
              <a:t>9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4C36F-F089-4E25-A9B6-E7FC21218B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609480" y="609480"/>
          <a:ext cx="354348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9480"/>
                    <a:ext cx="354348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0" y="11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800600" y="380880"/>
          <a:ext cx="3657600" cy="571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880"/>
                    <a:ext cx="36576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5727-8621-4A9A-9F3C-C295ABD0DA4F}" type="slidenum">
              <a:t>9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A9B36-5C51-4153-9633-04DA60CB5F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IDL compiler to generate client stubs and server skeletons for the server interfaces. </a:t>
            </a:r>
            <a:br>
              <a:rPr sz="2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990360" y="1981080"/>
            <a:ext cx="7010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ompiled with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toja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iler, the stubs and skeletons are placed in a pack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after ou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module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Eg., stockapp,weather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 the server interface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import org.omg.CORBA.*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// All CORBA applications need these class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 SimpleStocks.*;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// The package containing our stub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tockMarketImpl exte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_StockMarketImplB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float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et_pr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String symbol ) {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 float price = 0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 for(int i = 0; i &lt; symbol.length(); i++) {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 price += (int) symbol.charAt( i )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 }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 price /= 5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 return price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tockMarketImpl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() {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uper();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E922-F50C-42B1-BD53-8F0589CA5917}" type="slidenum">
              <a:t>9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FB21B-0575-4D56-9D24-61A171A60F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Implement and Compile the server application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. Compile and Run the Client application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13:28:49Z</dcterms:created>
  <dc:creator>P4</dc:creator>
  <dc:description/>
  <dc:language>en-US</dc:language>
  <cp:lastModifiedBy>Administrator</cp:lastModifiedBy>
  <dcterms:modified xsi:type="dcterms:W3CDTF">2011-06-08T04:12:40Z</dcterms:modified>
  <cp:revision>110</cp:revision>
  <dc:subject/>
  <dc:title>Slide 1</dc:title>
</cp:coreProperties>
</file>