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1B5E-58E0-4EDA-8F99-E9988F8C5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C147-8215-4F72-BA2D-DDCE72E6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9701-E814-4455-A8D3-99CEC485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02A0-7974-4749-9C78-C0A4E1DB6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9565-9098-4715-8067-51DCA9FB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6BC0-876C-4633-9798-ADE5CE74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B71B-6407-481D-A266-E1DBD42F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7D5A-4C82-40E6-895E-FBB62AF6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1D09-A239-4BEB-ABBD-483174A1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94FF-0947-4118-8EAB-AFC1C6EF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1372-D6F2-4D06-A8E4-D0D4450E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DB61-CD35-4ADA-ABFA-F64B3DD1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AE76FC-947B-4142-86E9-F2A0F2A2A05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383BF4-0E51-46BD-A24D-A26FDC0AADBF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17:47:13Z</dcterms:created>
  <dc:creator>최봉수</dc:creator>
  <dc:description/>
  <dc:language>en-US</dc:language>
  <cp:lastModifiedBy>맛있다 군만두</cp:lastModifiedBy>
  <dcterms:modified xsi:type="dcterms:W3CDTF">2023-07-13T08:13:55Z</dcterms:modified>
  <cp:revision>3</cp:revision>
  <dc:subject/>
  <dc:title>슬라이드 1</dc:title>
</cp:coreProperties>
</file>