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9594-7DEF-4A6E-8425-FD903F59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6AE-C581-4068-B27F-451050D4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418-C5F4-4A3A-B6C3-A5B805E4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41B-54A7-47A8-94B3-601CCAEE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C65-CDD3-4659-95E5-6CA41399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B5A-9658-4E2D-A5A5-3F3EAC44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94A-A855-4727-A355-CD920034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9B6-FE6D-4C90-B960-53EF2978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3DA-89C1-4FF7-8CAF-8FF94F6B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199-0B09-43E4-B6B5-56C0A2C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DCC-2652-4FF3-93C8-923C861A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7A7-5FF4-44E6-823F-CB9E1084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753C9-8813-4817-827E-4A482883720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2C2DF-2CEF-4FF5-A427-F1DE3DC463E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7:47:13Z</dcterms:created>
  <dc:creator>최봉수</dc:creator>
  <dc:description/>
  <dc:language>en-US</dc:language>
  <cp:lastModifiedBy>맛있다 군만두</cp:lastModifiedBy>
  <dcterms:modified xsi:type="dcterms:W3CDTF">2023-07-13T08:13:55Z</dcterms:modified>
  <cp:revision>3</cp:revision>
  <dc:subject/>
  <dc:title>슬라이드 1</dc:title>
</cp:coreProperties>
</file>