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Redding_Otis-I've_got_dreams_to_remember.wav" ContentType="audio/x-wav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8FB-BB4E-4E1D-A56D-5C7D16E4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A87-5502-426B-81D9-776D793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332-30F9-48AD-8964-426E4589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41F-9656-424E-95E9-3FB58196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2D1-BA40-4D4B-9F69-88BDDF48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1E8-8931-415D-BD77-5F49D05C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339-2984-4F45-8517-ACEC1E24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FDC-DE69-4D13-B64E-C16424C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3D5-A436-409F-9F7F-EE33175A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231-0C06-47BA-AB7F-D21FA1D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08F-65C4-4090-8C61-B594A04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CD0-1D89-4647-AF0E-799951D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20BC-9C93-40E6-B507-7FD42F15A2B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dding_Otis-I&apos;ve_got_dreams_to_rememb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4483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dirondack Mountains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ennedy Space Center, 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éfini Faunal Reserve, Republic of the Congo,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oango National Park, G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ower Ausable Lake, Adirondack Mountains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eteora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ingouli Falls, G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483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unt Atho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ear Ayparahui, Bolivia, 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ear Mount Princeton Hot Springs,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huket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kanda National Park, G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ikes Peak,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lateaux Batéké National Park, Gabon,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io Grande, Texas-Mexico 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85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antorini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erendipity Peak, Selkirk Mountains, British Columbia,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iberia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outh Georgia island, Falkland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ongass National Forest,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Vestmannaeyjar, Ic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Victoria Land, Antar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andhavgarh National Park, 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mbezi River area,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34000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ig Bend Ranch State Park,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anyon Country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ihuahuan Desert, 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ly, Minnesota,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astellorizon Island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10:42Z</dcterms:created>
  <dc:creator>Noa</dc:creator>
  <dc:description/>
  <dc:language>en-US</dc:language>
  <cp:lastModifiedBy>Smets</cp:lastModifiedBy>
  <dcterms:modified xsi:type="dcterms:W3CDTF">2008-10-07T03:58:56Z</dcterms:modified>
  <cp:revision>2</cp:revision>
  <dc:subject/>
  <dc:title>שקופית 1</dc:title>
</cp:coreProperties>
</file>