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Redding_Otis-I've_got_dreams_to_remember.wav" ContentType="audio/x-wav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0F8-0D8E-4B68-B5B9-D51DD33C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D7A-AA2D-4DC0-903B-FE9B7081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E02-0ECF-4B8C-AA1A-ED2F5CE5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75B-FEC2-4029-A77C-AA2DB402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F63-C991-4C01-BDB1-0B6C51A7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1D1-56A9-4D83-832B-735CC83D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EC7-16A0-4098-A770-83C22817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758-FCF1-43A3-8B87-847DF5AF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E96-D832-4230-B2F3-7289062C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EF6-A242-4876-A177-710681EA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768-7AEE-4BA4-82AA-B89D109E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637-F8B0-409C-BF93-F44EFB82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AFB7-B67A-4525-A420-103758513B78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dding_Otis-I&apos;ve_got_dreams_to_rememb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4483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Adirondack Mountains,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ennedy Space Center, F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Léfini Faunal Reserve, Republic of the Congo,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Loango National Park, Ga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Lower Ausable Lake, Adirondack Mountains,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eteora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ingouli Falls, Ga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483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unt Atho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ear Ayparahui, Bolivia, 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ear Mount Princeton Hot Springs,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huket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Akanda National Park, Ga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ikes Peak,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lateaux Batéké National Park, Gabon,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io Grande, Texas-Mexico 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585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antorini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erendipity Peak, Selkirk Mountains, British Columbia,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iberia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outh Georgia island, Falkland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ongass National Forest,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Vestmannaeyjar, Ic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Victoria Land, Antar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andhavgarh National Park, 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ambezi River area,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34000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angkok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ig Bend Ranch State Park,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anyon Country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ihuahuan Desert, New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ly, Minnesota,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astellorizon Island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10:42Z</dcterms:created>
  <dc:creator>Noa</dc:creator>
  <dc:description/>
  <dc:language>en-US</dc:language>
  <cp:lastModifiedBy>Smets</cp:lastModifiedBy>
  <dcterms:modified xsi:type="dcterms:W3CDTF">2008-10-07T03:58:56Z</dcterms:modified>
  <cp:revision>2</cp:revision>
  <dc:subject/>
  <dc:title>שקופית 1</dc:title>
</cp:coreProperties>
</file>