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5F00-69E6-4333-B864-09F5441C09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9117-1AD5-499D-A2F7-6195D8A2F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3CF4-132D-4B2A-8288-A831DED64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F126-43E9-496F-8161-408B5E713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5B07-B9A8-41F1-A0AC-FF957A96B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9D74-9D29-47B6-AA71-A050663C2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B093-8F4D-434B-B846-B6605DDE2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F33E-AFB1-4376-8124-5DB49DB94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1903-34C1-4474-BE39-7EBD2D13C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4DB3-1646-46AD-B9B4-AAE7E1573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D41B-57DA-4F81-BD35-135867880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F555-FDE6-4AE5-BDD6-6414CE377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E5F1-7EF6-42DA-917C-EB08E4AE1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5278-D20A-4784-BF7F-C04430569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B0D1-D035-44CB-9C2D-79B2A10FC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0875-4355-401B-B25B-9D3D2D4DC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3A93-83DF-45E2-BF3E-25D354166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73C3-A5F3-4FAF-8645-CF92DAF70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5092-B753-42D1-8A67-EB15AE56F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2EFB-9B35-4A6A-8536-E22B1B488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32E6-7622-4A6C-A1CD-15FA0F057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6094-D663-4105-ACDA-5A640AA3C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348C-210B-4BFE-8265-37CEA0847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D6C6-AC9E-4E65-BB26-DFCBDAFF0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DF5B-BB26-4FA3-869A-BD7085AA2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DF63-F7CD-4DA1-A855-8A02DD2AC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B873-A57E-4A49-9820-A9B6E1A0A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0912-D4AF-4E80-B735-52C8B2940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E43F-06EA-48BF-812C-BD764B55E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98A3-7EAC-4D11-84F5-D54CA7BF9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011E-6E08-419E-8974-FD94987C96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D4AE-94D0-477A-A5A8-290F91706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6F94-B491-4CE3-ABBA-E5392F322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F039-3ECB-486A-8D72-DC2172488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C438-6FA0-4B8D-878E-D9A2C3669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8216-8AA3-477F-BA1A-58A7ADB40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6EC3-1B26-4364-BBC8-525D74082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6684-A052-4BCB-82A0-7DAEA625B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9CF6-D0AC-4F95-A0DC-395EB31E6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4086-BB7C-44BE-A6D8-9365729C9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1486-60D4-43DF-BC65-33B058E16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AE5A-17FE-4417-A782-549CB3B9A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09C9-B800-4E02-96CC-E3ABA5519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D27E-CB15-4973-B24A-6EF295EEE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4CC7-B293-4101-882B-55E8E3BF1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A086-1E66-44AF-AA21-B224530CD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99CF-799E-4C6B-9882-4F5716403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23F1-B740-480B-AC75-5A947B0D2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506D-6583-4937-B392-FFDB50CA2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8257-5F1D-4EAA-9854-22B4A28DD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4416-E620-415E-88F5-EB31CEF05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81B7-A74F-48E9-B590-59C0CBAC2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F437-54CD-4C18-B93A-BB4E77CE9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D28C-3989-41D2-AF2D-015522847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919E-BB5B-4F90-85D8-8B72549F0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5926-88C2-4FD5-BC5E-6F62BB8F1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33EA-C090-4A76-89DC-FA697F3F9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93A1-03F8-4FCF-B75D-175C78FA7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AEBC-AC89-4DCC-9649-76A6A7981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CDEB-B715-46D5-8616-90212D310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67E9-FC88-4ACA-A377-C53DC4AD0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A45B-FF74-4458-953A-4D5A22A44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97C8-9D64-4C4C-B389-BCA007645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C898-E661-4020-ACDA-FDE75525A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5B96-6519-4884-8715-38A63EFF0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3069-3038-43A3-B1CA-E84AF2DA2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5B2B-5CAF-4FD7-BA8D-E6F46E72C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B010-8F6F-4D2F-AFB5-14C44A227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4979-1186-4BCB-99E3-D6C2AE8F1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71DB-ADF7-4BBF-961F-9E80FDB17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0910-40AC-447F-97F5-6309AC5A6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74E51-499B-41F5-BD6B-98937358E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B0B7F-02FC-44D2-8B0D-E0C0CC113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DBE2DA-FCDE-46A1-83F7-4DB1989C010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B9309C5-75C6-43D2-A61A-B33FD20049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14E79BA-C022-41B1-AF95-FE47DA609FB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0503CF8-2C41-44FB-91CA-E93B46FB56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F225EFC-6137-4032-ABD5-26C6FCF444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BBE803B-03C2-4060-A093-38B2BF1613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BE4E158-3CCA-407F-88A7-0828B6BB94D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7119A10-307E-4E05-A57F-38C8140E51A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A337003-20DE-4774-92F5-F1F031F74E1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21C0B34-80D8-43D4-819D-4698B9F757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A5618-FB78-42A6-9770-5B23B8B26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809F316-DC56-4A68-BBFC-BBC7E8E0C4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7BF116A-0E0A-4F7A-8720-81524021AE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60BBD8D-24B8-4D99-A945-6A678FE819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48F3BB8-EA21-4F2F-AA61-FF0141E064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641D279-52BD-4DFD-A6C1-E3FEE19187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5E1AB3-440E-4B4B-BB8B-B12AC6CE90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60216F-52D3-4FCE-97D2-2C43D75132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EC0698-A68D-4D37-9032-60AEE5C2F1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2BF0715-C1D1-48FF-8C24-CC80392305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9A2C8A9-529B-4CF8-B1FD-ACAE007DD4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2D0FA-3D48-4D9E-A737-41DCE23FB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B25ED80-8866-4726-9DF2-233D07E3A1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E84BDD-A36D-44E5-9407-7CC77472A8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DD54B0-3509-444C-997E-B4AE222B98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3057D8-0571-456E-A01C-4AFC15BE37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C3FECD-FB0D-47F3-9102-D985A4BDE3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FBD200-22D3-42FC-993E-A257808DC9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EEA43A-0127-44DE-A708-DC0156D5D9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D36912-8449-400F-AE1E-CDE42C7C7A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FA6778-ED22-40BF-981D-0DF8CA2D49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20B017-656E-4D45-BAE6-07ED6C14D3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5E000-9C61-48D4-8320-F20FF1DF9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6C1595-F0ED-4ECE-A18B-396062F6D0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B10D9B-2CEA-424B-8987-6C5F231472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16B8A4-773C-4C97-B8BB-6756C27FF6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71E0500-8ECC-4664-8002-97F264B990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940EA73-0E21-443A-9B10-AB5ABD3B8D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83F59E5-A2A6-4CC5-9DB4-7B8F2E709B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837F8E4-2784-4BF0-AD87-47F90EE205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2A26719-2DF4-4089-B540-9EEA5AF6D2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270D79E-94A3-40F3-88A3-D8D3EFA84E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8E23D8A-DA5B-4C1E-914E-F3F08E8339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39200-4DB7-4487-A029-84A076DC8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358CE9-CCDE-4878-A7B5-0C9CEC05B9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4CABDE8-C9DC-4FF9-9C5C-2B79B296F6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B756AC7-D2DD-4E29-844C-EA30B48B7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6A86A35-DD7A-4A3C-ACFA-327499E4D4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4BD90E0-A9D1-49D3-A18C-C63F5DD054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6FE60-80F2-45BA-B44A-3E39D5CC0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07070-6FAE-47BA-A650-598EC33C4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6DC44-7C91-4AE5-9752-1ECC3331F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8DF6F-B19C-4673-8CF0-C11362518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4DF88-C218-4F30-99EA-73E69ED20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DB822-474F-43CE-AF0D-F15A34D56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61F51-55E9-465B-9885-B989BB8E7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58E27-16C9-4FF2-9F5E-1187A81C8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9987F-3266-4AE8-9666-430713C3C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54BA1-6E19-4ED8-9685-EB6C7A4DE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5B5F7-3DA4-4A2D-A8A7-2C843DB3E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EB155F-D90A-4D20-B9A9-CC390402BB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34E9B-CE35-470A-BE3F-7683DF234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E9F822-4886-4E72-9A27-31D8BB6FE0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9A802-F841-44C5-8A18-04AF6CA1C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3D035-1EC8-406C-B424-DB5FA447C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1197-A8B9-4429-972F-BB9CEFFD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04FC2-3D29-4F22-A094-7055FFF8E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7BE3E-3D61-4BAE-9629-9D68056D7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7C57A-693D-45BD-9B25-575F335A8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045B6-AEAD-49A2-A76C-42994F82D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5E27F-6D45-4F4A-88A8-3078C663F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4A2A12-2B5B-4FE1-93E2-DFF36703DB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701A7-B332-43E2-84DE-5216C487B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BD47E93-1349-48F2-81DA-0E7260D109F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2A38AE8-15AC-4AE4-A0A9-18DD6902BB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47AD523-61A2-4E83-88CD-8A251B9AB8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8772C-3237-41EF-BC7B-CB35F1266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AA8742C-D01E-4FDF-9ADC-B4925F686B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03357B9-1EEE-45F1-8F58-9F187E203BF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7206961-B658-4CC3-A844-2E9EE2E5A1C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7E5433C-1370-49A6-8235-815FFA6B87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A9D5F89-055B-4B26-93B3-F2E999197A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31F4D83-C960-4988-BE4B-34B6DA7FDB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3830B62-675D-4E54-AB11-B17E912DC50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808C460-46B1-4A74-A1F1-27BBCC4A771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38EC037F-576D-4DDF-99B3-F8BE09C09B6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2D328A-8505-4F7F-8F5F-50A38273D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046E9-0114-4F1D-813E-DBDD054B4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19202-61FD-40C9-A5AC-9BB9FEFB8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80CA56-81C3-4076-926F-A426B9524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867F2D-F901-4194-8E77-09E30A8CD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46523B-3C5A-4F83-B3EE-96FF7925F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1CF79B-471E-4647-A57F-A9FA6E200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E5351-C397-4574-846D-713B45709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573125-A379-41BB-AE83-D788F347A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88E81-4DE3-499E-98BF-E898A2F22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D4D8F-9C2F-4EFF-9679-AB68458B51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81C5C0-DF32-489A-AEF7-19BF308A03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C5D7-D453-40A1-96C6-8C4E86347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3F4CC5-6C8E-4281-A2A2-CC24A760D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BBF564-93FC-4B73-BFA6-5774DD20C0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37E6E3-1C5A-4F12-B930-51AD9AB99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604826-D49C-4CE4-9948-8B964F193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E891EF-2E3C-41A7-BA5E-6B9B259113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20ECB-8F84-4B9A-B5EC-45B283345E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D2ACA1-A953-4A1F-A694-F109211560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2E67E-81D4-4552-8569-6F1861F62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408BF-D229-45CE-AD49-1A5760150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2F784-D564-44B5-8702-BA93BE3BD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69A4-95F7-4831-9A6E-1DD5084A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7B918-69BC-49C8-B2CA-C4C6EAC6D6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23775D-4077-4A98-8A46-C54CE48912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4D0F8F-7265-48B6-A33E-12F0B7D5DE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106BD7-C5D0-4FC0-BE14-F8343870FA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E932A-EE11-48EA-AC15-553F613D35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8DA49D-9611-46AA-97FB-190FF3296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41D77-12E4-4DC5-8E8F-DCFA89F37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3B8CA7-6AA7-4CF2-B525-6A33C462B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EC530-EF8B-4EA0-8841-180E644874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8C113-53D0-4280-B190-E362504F02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0CD8-4D69-44C7-B79C-20B438C6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7AFE3-340A-495C-AB5C-AF149BC36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AAF106-C082-4413-9962-DCAFFDB0E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FD8CF7-C551-404B-975F-169447A04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32C4F2-E9B0-4789-B25E-B660A5E9C6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9AEA0D-3AE5-47CD-839B-3F6ABE2547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B307A4-B21A-495C-9763-9C9B89EDB0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97024A-DD17-4253-ABB2-22A2F49440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C5ACA8-F572-495F-9AD2-EA745C977D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0E713F-1AEC-4F96-A101-FA53697DE9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8409A-4C8B-4876-990F-2141285CD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B947-7D94-4CB5-8644-4817545DE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55002B-9E14-4DCD-9EEA-9801012E31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D0FDE1-3382-4913-A251-DC425DD74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BFA5F-C200-4D1A-9747-ABCDC5044D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4C91F-C156-4125-B982-E33DCDDC7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926D6-98DB-46E6-9776-E28387E31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BAB831-BBBC-4DBD-A14A-7F978DCC73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A7A0CD-6DC0-4574-9BBF-24E6E506A9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1B8A2CA-ADCC-4F80-93B3-AF95CC55A7A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AD4BAAD-DD32-494F-A274-03799C132B7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A361A85-460D-4AFF-9A75-71FBC194B4F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DA88-9C85-4DA7-80E1-7684CE6B58D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9A35-72E5-4B66-B936-B0702F8C82C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0FC6-56B0-4157-9BEF-55BFFB2B602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D798-84CD-4E71-8209-CCD8D8EB47D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1952-8683-4C04-92F6-14640C39D61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1A7B-5BE2-4352-8175-DEC2BED0506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5AA3-B5B4-49B7-A11B-8ED05F45BCC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D4F7-FCB6-4E53-8377-CF9CDCE02C5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ECBA-89E1-42E3-A05D-0B26533FFA8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0243-D49F-47CD-A978-CA2E980C93ED}"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E574-247F-46BE-B797-4E97C1268C49}"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BBA0-3AD7-45DE-841F-F60CA7D2080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16349"/>
                </a:solidFill>
                <a:latin typeface="Georgia"/>
              </a:rPr>
              <a:t>BREECH DELIVERY and</a:t>
            </a:r>
            <a:br>
              <a:rPr sz="4200"/>
            </a:br>
            <a:r>
              <a:rPr b="1" lang="en-US" sz="4200" spc="-1" strike="noStrike">
                <a:solidFill>
                  <a:srgbClr val="d16349"/>
                </a:solidFill>
                <a:latin typeface="Georgia"/>
              </a:rPr>
              <a:t>VACUUM EXTRACT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BDOMINAL EXAMINATION:</a:t>
            </a:r>
            <a:br>
              <a:rPr sz="3000"/>
            </a:br>
            <a:r>
              <a:rPr b="1" lang="en-PH" sz="3000" spc="-1" strike="noStrike">
                <a:solidFill>
                  <a:srgbClr val="7b9899"/>
                </a:solidFill>
                <a:latin typeface="Georgia"/>
              </a:rPr>
              <a:t>LEOPOLD’S MANEUVER</a:t>
            </a:r>
            <a:endParaRPr b="0" lang="en-US" sz="3000" spc="-1" strike="noStrike">
              <a:solidFill>
                <a:srgbClr val="7b9899"/>
              </a:solidFill>
              <a:latin typeface="Georgia"/>
            </a:endParaRPr>
          </a:p>
        </p:txBody>
      </p:sp>
      <p:sp>
        <p:nvSpPr>
          <p:cNvPr id="636" name=""/>
          <p:cNvSpPr txBox="1"/>
          <p:nvPr/>
        </p:nvSpPr>
        <p:spPr>
          <a:xfrm>
            <a:off x="301320" y="1905120"/>
            <a:ext cx="8504280" cy="4572000"/>
          </a:xfrm>
          <a:prstGeom prst="rect">
            <a:avLst/>
          </a:prstGeom>
          <a:noFill/>
          <a:ln w="0">
            <a:noFill/>
          </a:ln>
        </p:spPr>
        <p:txBody>
          <a:bodyPr anchor="t">
            <a:normAutofit fontScale="98000"/>
          </a:bodyPr>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1</a:t>
            </a:r>
            <a:r>
              <a:rPr b="1" lang="en-PH" sz="2300" spc="-1" strike="noStrike" baseline="30000">
                <a:solidFill>
                  <a:srgbClr val="000000"/>
                </a:solidFill>
                <a:latin typeface="Georgia"/>
              </a:rPr>
              <a:t>st</a:t>
            </a:r>
            <a:r>
              <a:rPr b="0" lang="en-PH" sz="2300" spc="-1" strike="noStrike">
                <a:solidFill>
                  <a:srgbClr val="000000"/>
                </a:solidFill>
                <a:latin typeface="Georgia"/>
              </a:rPr>
              <a:t> - hard, round, readily ballotable fetal head is found to occupy the fundus</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2</a:t>
            </a:r>
            <a:r>
              <a:rPr b="1" lang="en-PH" sz="2300" spc="-1" strike="noStrike" baseline="30000">
                <a:solidFill>
                  <a:srgbClr val="000000"/>
                </a:solidFill>
                <a:latin typeface="Georgia"/>
              </a:rPr>
              <a:t>nd</a:t>
            </a:r>
            <a:r>
              <a:rPr b="1" lang="en-PH" sz="2300" spc="-1" strike="noStrike">
                <a:solidFill>
                  <a:srgbClr val="000000"/>
                </a:solidFill>
                <a:latin typeface="Georgia"/>
              </a:rPr>
              <a:t> </a:t>
            </a:r>
            <a:r>
              <a:rPr b="0" lang="en-PH" sz="2300" spc="-1" strike="noStrike">
                <a:solidFill>
                  <a:srgbClr val="000000"/>
                </a:solidFill>
                <a:latin typeface="Georgia"/>
              </a:rPr>
              <a:t>- indicates the back to be on one side of the abdomen and the small parts </a:t>
            </a:r>
            <a:r>
              <a:rPr b="0" lang="en-PH" sz="2300" spc="-1" strike="noStrike">
                <a:solidFill>
                  <a:srgbClr val="000000"/>
                </a:solidFill>
                <a:latin typeface="Georgia"/>
              </a:rPr>
              <a:t>	</a:t>
            </a:r>
            <a:r>
              <a:rPr b="0" lang="en-PH" sz="2300" spc="-1" strike="noStrike">
                <a:solidFill>
                  <a:srgbClr val="000000"/>
                </a:solidFill>
                <a:latin typeface="Georgia"/>
              </a:rPr>
              <a:t>	</a:t>
            </a:r>
            <a:r>
              <a:rPr b="0" lang="en-PH" sz="2300" spc="-1" strike="noStrike">
                <a:solidFill>
                  <a:srgbClr val="000000"/>
                </a:solidFill>
                <a:latin typeface="Georgia"/>
              </a:rPr>
              <a:t>	</a:t>
            </a:r>
            <a:r>
              <a:rPr b="0" lang="en-PH" sz="2300" spc="-1" strike="noStrike">
                <a:solidFill>
                  <a:srgbClr val="000000"/>
                </a:solidFill>
                <a:latin typeface="Georgia"/>
              </a:rPr>
              <a:t>	</a:t>
            </a:r>
            <a:r>
              <a:rPr b="0" lang="en-PH" sz="2300" spc="-1" strike="noStrike">
                <a:solidFill>
                  <a:srgbClr val="000000"/>
                </a:solidFill>
                <a:latin typeface="Georgia"/>
              </a:rPr>
              <a:t>            on the other</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3</a:t>
            </a:r>
            <a:r>
              <a:rPr b="1" lang="en-PH" sz="2300" spc="-1" strike="noStrike" baseline="30000">
                <a:solidFill>
                  <a:srgbClr val="000000"/>
                </a:solidFill>
                <a:latin typeface="Georgia"/>
              </a:rPr>
              <a:t>rd</a:t>
            </a:r>
            <a:r>
              <a:rPr b="0" lang="en-PH" sz="2300" spc="-1" strike="noStrike">
                <a:solidFill>
                  <a:srgbClr val="000000"/>
                </a:solidFill>
                <a:latin typeface="Georgia"/>
              </a:rPr>
              <a:t> - if engagement has not occurred—the intertrochanteric diameter of the fetal pelvis has not passed through the pelvic inlet—the breech is movable above the pelvic inlet</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4</a:t>
            </a:r>
            <a:r>
              <a:rPr b="1" lang="en-PH" sz="2300" spc="-1" strike="noStrike" baseline="30000">
                <a:solidFill>
                  <a:srgbClr val="000000"/>
                </a:solidFill>
                <a:latin typeface="Georgia"/>
              </a:rPr>
              <a:t>th</a:t>
            </a:r>
            <a:r>
              <a:rPr b="0" lang="en-PH" sz="2300" spc="-1" strike="noStrike">
                <a:solidFill>
                  <a:srgbClr val="000000"/>
                </a:solidFill>
                <a:latin typeface="Georgia"/>
              </a:rPr>
              <a:t> - shows the firm breech to be beneath the symphysis</a:t>
            </a:r>
            <a:endParaRPr b="0" lang="en-US" sz="2300" spc="-1" strike="noStrike">
              <a:solidFill>
                <a:srgbClr val="000000"/>
              </a:solidFill>
              <a:latin typeface="Georgi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Breech Presentation</a:t>
            </a:r>
            <a:r>
              <a:rPr b="0" lang="en-PH" sz="2300" spc="-1" strike="noStrike">
                <a:solidFill>
                  <a:srgbClr val="000000"/>
                </a:solidFill>
                <a:latin typeface="Georgia"/>
              </a:rPr>
              <a:t>-Fetal heart sounds usually are heard loudest slightly above the umbilicus</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Cephalic Breech</a:t>
            </a:r>
            <a:r>
              <a:rPr b="0" lang="en-PH" sz="2300" spc="-1" strike="noStrike">
                <a:solidFill>
                  <a:srgbClr val="000000"/>
                </a:solidFill>
                <a:latin typeface="Georgia"/>
              </a:rPr>
              <a:t>- the heart sounds are loudest below the umbilicus</a:t>
            </a:r>
            <a:endParaRPr b="0" lang="en-US" sz="2300" spc="-1" strike="noStrike">
              <a:solidFill>
                <a:srgbClr val="000000"/>
              </a:solidFill>
              <a:latin typeface="Georgia"/>
            </a:endParaRPr>
          </a:p>
          <a:p>
            <a:pPr marL="267120" indent="-2671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VAGINAL EXAMINATION</a:t>
            </a:r>
            <a:endParaRPr b="0" lang="en-US" sz="3300" spc="-1" strike="noStrike">
              <a:solidFill>
                <a:srgbClr val="7b9899"/>
              </a:solidFill>
              <a:latin typeface="Georgia"/>
            </a:endParaRPr>
          </a:p>
        </p:txBody>
      </p:sp>
      <p:graphicFrame>
        <p:nvGraphicFramePr>
          <p:cNvPr id="638" name=""/>
          <p:cNvGraphicFramePr/>
          <p:nvPr/>
        </p:nvGraphicFramePr>
        <p:xfrm>
          <a:off x="228600" y="1447920"/>
          <a:ext cx="8610480" cy="5029200"/>
        </p:xfrm>
        <a:graphic>
          <a:graphicData uri="http://schemas.openxmlformats.org/drawingml/2006/table">
            <a:tbl>
              <a:tblPr/>
              <a:tblGrid>
                <a:gridCol w="2666880"/>
                <a:gridCol w="5943600"/>
              </a:tblGrid>
              <a:tr h="51732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CATEGORIES OF BREECH</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r h="451188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000000"/>
                          </a:solidFill>
                          <a:latin typeface="Calibri"/>
                          <a:ea typeface="Calibri"/>
                        </a:rPr>
                        <a:t>FRANK BREECH</a:t>
                      </a:r>
                      <a:endParaRPr b="0" lang="en-US" sz="20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t">
                      <a:noAutofit/>
                    </a:bodyPr>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ischial tuberosities, the sacrum, and the anus usually are palpable</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after further descent, the external genitalia may be distinguishe</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anus may be mistaken for the mouth and the ischial      tuberosities for the malar eminences</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finger encounters muscular resistance with the anus</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finger, upon removal from the anus, sometimes is stained with meconium</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firmer, less yielding jaws are felt through the mouth</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he mouth and malar eminences form a triangular shape, whereas the ischial tuberosities and anus are in a straight line</a:t>
                      </a:r>
                      <a:endParaRPr b="0" lang="en-US" sz="1800" spc="-1" strike="noStrike">
                        <a:solidFill>
                          <a:srgbClr val="000000"/>
                        </a:solidFill>
                        <a:latin typeface="Arial"/>
                      </a:endParaRPr>
                    </a:p>
                    <a:p>
                      <a:pPr marL="343080" indent="-343080">
                        <a:lnSpc>
                          <a:spcPct val="100000"/>
                        </a:lnSpc>
                        <a:buClr>
                          <a:srgbClr val="000000"/>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1800" spc="-1" strike="noStrike">
                          <a:solidFill>
                            <a:srgbClr val="000000"/>
                          </a:solidFill>
                          <a:latin typeface="Calibri"/>
                          <a:ea typeface="Calibri"/>
                        </a:rPr>
                        <a:t>the most accurate information</a:t>
                      </a:r>
                      <a:r>
                        <a:rPr b="1" lang="en-PH" sz="1800" spc="-1" strike="noStrike">
                          <a:solidFill>
                            <a:srgbClr val="000000"/>
                          </a:solidFill>
                          <a:latin typeface="Calibri"/>
                          <a:ea typeface="Calibri"/>
                        </a:rPr>
                        <a:t>: the location of </a:t>
                      </a:r>
                      <a:r>
                        <a:rPr b="1" lang="en-PH" sz="1800" spc="-1" strike="noStrike" u="sng">
                          <a:solidFill>
                            <a:srgbClr val="000000"/>
                          </a:solidFill>
                          <a:uFillTx/>
                          <a:latin typeface="Calibri"/>
                          <a:ea typeface="Calibri"/>
                        </a:rPr>
                        <a:t>the sacrum and its spinous processes, establishes the diagnosis of position and variety</a:t>
                      </a:r>
                      <a:endParaRPr b="0" lang="en-US" sz="18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VAGINAL EXAMINATION</a:t>
            </a:r>
            <a:endParaRPr b="0" lang="en-US" sz="3300" spc="-1" strike="noStrike">
              <a:solidFill>
                <a:srgbClr val="7b9899"/>
              </a:solidFill>
              <a:latin typeface="Georgia"/>
            </a:endParaRPr>
          </a:p>
        </p:txBody>
      </p:sp>
      <p:graphicFrame>
        <p:nvGraphicFramePr>
          <p:cNvPr id="640" name=""/>
          <p:cNvGraphicFramePr/>
          <p:nvPr/>
        </p:nvGraphicFramePr>
        <p:xfrm>
          <a:off x="228600" y="1447920"/>
          <a:ext cx="8610480" cy="3595680"/>
        </p:xfrm>
        <a:graphic>
          <a:graphicData uri="http://schemas.openxmlformats.org/drawingml/2006/table">
            <a:tbl>
              <a:tblPr/>
              <a:tblGrid>
                <a:gridCol w="2666880"/>
                <a:gridCol w="5943600"/>
              </a:tblGrid>
              <a:tr h="38088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CATEGORIES OF BREECH</a:t>
                      </a: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r h="89856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000000"/>
                          </a:solidFill>
                          <a:latin typeface="Calibri"/>
                          <a:ea typeface="Calibri"/>
                        </a:rPr>
                        <a:t>COMPLETE BREECH</a:t>
                      </a:r>
                      <a:endParaRPr b="0" lang="en-US" sz="20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feet may be felt alongside the buttocks</a:t>
                      </a:r>
                      <a:endParaRPr b="0" lang="en-US" sz="24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r h="2316240">
                <a:tc>
                  <a:txBody>
                    <a:bodyPr lIns="47520" rIns="4752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000" spc="-1" strike="noStrike">
                          <a:solidFill>
                            <a:srgbClr val="000000"/>
                          </a:solidFill>
                          <a:latin typeface="Calibri"/>
                          <a:ea typeface="Calibri"/>
                        </a:rPr>
                        <a:t>FOOTLING BREECH</a:t>
                      </a:r>
                      <a:endParaRPr b="0" lang="en-US" sz="20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one or both feet are inferior to the buttocks</a:t>
                      </a:r>
                      <a:endParaRPr b="0" lang="en-US" sz="2400" spc="-1" strike="noStrike">
                        <a:solidFill>
                          <a:srgbClr val="000000"/>
                        </a:solidFill>
                        <a:latin typeface="Arial"/>
                      </a:endParaRPr>
                    </a:p>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foot can readily be identified as right or left on the basis of the </a:t>
                      </a:r>
                      <a:endParaRPr b="0" lang="en-US" sz="2400" spc="-1" strike="noStrike">
                        <a:solidFill>
                          <a:srgbClr val="000000"/>
                        </a:solidFill>
                        <a:latin typeface="Arial"/>
                      </a:endParaRPr>
                    </a:p>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relation to the great toe</a:t>
                      </a:r>
                      <a:endParaRPr b="0" lang="en-US" sz="2400" spc="-1" strike="noStrike">
                        <a:solidFill>
                          <a:srgbClr val="000000"/>
                        </a:solidFill>
                        <a:latin typeface="Arial"/>
                      </a:endParaRPr>
                    </a:p>
                  </a:txBody>
                  <a:tcPr anchor="ctr" marL="47520" marR="47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IMAGING TECHNIQUES</a:t>
            </a:r>
            <a:endParaRPr b="0" lang="en-US" sz="3300" spc="-1" strike="noStrike">
              <a:solidFill>
                <a:srgbClr val="7b9899"/>
              </a:solidFill>
              <a:latin typeface="Georgia"/>
            </a:endParaRPr>
          </a:p>
        </p:txBody>
      </p:sp>
      <p:sp>
        <p:nvSpPr>
          <p:cNvPr id="642" name=""/>
          <p:cNvSpPr txBox="1"/>
          <p:nvPr/>
        </p:nvSpPr>
        <p:spPr>
          <a:xfrm>
            <a:off x="301320" y="1447560"/>
            <a:ext cx="8504280" cy="52578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ULTRASOUND-</a:t>
            </a:r>
            <a:endParaRPr b="0" lang="en-US" sz="2300" spc="-1" strike="noStrike">
              <a:solidFill>
                <a:srgbClr val="000000"/>
              </a:solidFill>
              <a:latin typeface="Georgia"/>
            </a:endParaRPr>
          </a:p>
          <a:p>
            <a:pPr lvl="1" marL="547560" indent="-272880">
              <a:lnSpc>
                <a:spcPct val="80000"/>
              </a:lnSpc>
              <a:spcBef>
                <a:spcPts val="49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Georgia"/>
              </a:rPr>
              <a:t>used to confirm a clinically suspected breech presentation and to identify, if possible, any fetal anomalies</a:t>
            </a:r>
            <a:endParaRPr b="0" lang="en-US" sz="2000" spc="-1" strike="noStrike">
              <a:solidFill>
                <a:srgbClr val="646b86"/>
              </a:solidFill>
              <a:latin typeface="Georgia"/>
            </a:endParaRPr>
          </a:p>
          <a:p>
            <a:pPr lvl="1" marL="547560" indent="-272880">
              <a:lnSpc>
                <a:spcPct val="80000"/>
              </a:lnSpc>
              <a:spcBef>
                <a:spcPts val="49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Georgia"/>
              </a:rPr>
              <a:t>If cesarean delivery is planned, additional imaging is not indicated. If, however, vaginal delivery is considered, the type of breech presentation and the degree of flexion or deflexion of the head is important.</a:t>
            </a:r>
            <a:endParaRPr b="0" lang="en-US" sz="20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CT SCAN</a:t>
            </a:r>
            <a:endParaRPr b="0" lang="en-US" sz="2300" spc="-1" strike="noStrike">
              <a:solidFill>
                <a:srgbClr val="000000"/>
              </a:solidFill>
              <a:latin typeface="Georgia"/>
            </a:endParaRPr>
          </a:p>
          <a:p>
            <a:pPr lvl="1" marL="547560" indent="-272880">
              <a:lnSpc>
                <a:spcPct val="80000"/>
              </a:lnSpc>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will provide pelvic measurements and configuration at lower doses of radiation than standard radiography</a:t>
            </a:r>
            <a:endParaRPr b="0" lang="en-US" sz="2200" spc="-1" strike="noStrike">
              <a:solidFill>
                <a:srgbClr val="646b86"/>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MRI</a:t>
            </a:r>
            <a:endParaRPr b="0" lang="en-US" sz="2300" spc="-1" strike="noStrike">
              <a:solidFill>
                <a:srgbClr val="000000"/>
              </a:solidFill>
              <a:latin typeface="Georgia"/>
            </a:endParaRPr>
          </a:p>
          <a:p>
            <a:pPr lvl="1" marL="547560" indent="-272880">
              <a:lnSpc>
                <a:spcPct val="80000"/>
              </a:lnSpc>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provides reliable information about pelvic capacity and architecture without ionizing radiation</a:t>
            </a:r>
            <a:endParaRPr b="0" lang="en-US" sz="2200" spc="-1" strike="noStrike">
              <a:solidFill>
                <a:srgbClr val="646b86"/>
              </a:solidFill>
              <a:latin typeface="Georgia"/>
            </a:endParaRPr>
          </a:p>
          <a:p>
            <a:pPr lvl="1" marL="547560" indent="-272880">
              <a:lnSpc>
                <a:spcPct val="80000"/>
              </a:lnSpc>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not always readily available</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PROGNOSIS</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oth mother and fetus are at greater risk with breech presentation compared with cephalic present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eech presentation may not be coincidental, but rather is a consequence of poor fetal qu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Obstetrical intervention will not eliminate all mortality and long-term morbidity associated with breech present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PERINATAL MORBIDITY AND MORTALITY</a:t>
            </a:r>
            <a:endParaRPr b="0" lang="en-US" sz="3000" spc="-1" strike="noStrike">
              <a:solidFill>
                <a:srgbClr val="7b9899"/>
              </a:solidFill>
              <a:latin typeface="Georgia"/>
            </a:endParaRPr>
          </a:p>
        </p:txBody>
      </p:sp>
      <p:sp>
        <p:nvSpPr>
          <p:cNvPr id="646" name=""/>
          <p:cNvSpPr txBox="1"/>
          <p:nvPr/>
        </p:nvSpPr>
        <p:spPr>
          <a:xfrm>
            <a:off x="301320" y="1526760"/>
            <a:ext cx="8504280" cy="46450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ognosis for the fetus in a breech presentation is considerably worse than when in a vertex present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major contributors to perinatal loss: preterm delivery, congenital anomalies, and birth traum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With a term fetus, some degree of head molding may be essential for it to negotiate the birth canal successfull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PERINATAL MORBIDITY AND MORTALITY</a:t>
            </a:r>
            <a:endParaRPr b="0" lang="en-US" sz="3000" spc="-1" strike="noStrike">
              <a:solidFill>
                <a:srgbClr val="7b9899"/>
              </a:solidFill>
              <a:latin typeface="Georgia"/>
            </a:endParaRPr>
          </a:p>
        </p:txBody>
      </p:sp>
      <p:sp>
        <p:nvSpPr>
          <p:cNvPr id="648" name=""/>
          <p:cNvSpPr txBox="1"/>
          <p:nvPr/>
        </p:nvSpPr>
        <p:spPr>
          <a:xfrm>
            <a:off x="301320" y="1527120"/>
            <a:ext cx="8504280" cy="4873680"/>
          </a:xfrm>
          <a:prstGeom prst="rect">
            <a:avLst/>
          </a:prstGeom>
          <a:noFill/>
          <a:ln w="0">
            <a:noFill/>
          </a:ln>
        </p:spPr>
        <p:txBody>
          <a:bodyPr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PH" sz="2200" spc="-1" strike="noStrike">
                <a:solidFill>
                  <a:srgbClr val="000000"/>
                </a:solidFill>
                <a:latin typeface="Georgia"/>
              </a:rPr>
              <a:t>Thus, in certain cases:</a:t>
            </a:r>
            <a:endParaRPr b="0" lang="en-US" sz="2200" spc="-1" strike="noStrike">
              <a:solidFill>
                <a:srgbClr val="000000"/>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Delivery may be delayed many minutes while the aftercoming head accommodates to the maternal pelvis, resulting in hypoxia and acidemia, which can become severe; or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Delivery may be forced, causing trauma from compression, traction, or both.</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With a preterm fetus, the disparity between the size of the head and buttocks is even greater than with a larger fetu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umbilical cord length is significantly shorter in breech present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multiple coils of cord entangling the fetus are more common with breech presentations</a:t>
            </a: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8840" y="4572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MECHANICAL PROBLEM ENCOUNTERED IN DELIVERY OF BREECH DELIVERY:</a:t>
            </a:r>
            <a:endParaRPr b="0" lang="en-US" sz="30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t times, the buttocks and lower extremities of the preterm fetus will pass through the cervix and be delivered, and yet the cervix will not be dilated adequately for the head to escap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Mechanical problem with breech delivery is entrapment of the fetal arm behind the neck (nuchal arm), which complicates up to 6 percent of vaginal breech deliveries and is associated with increased neonatal mortal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8840" y="45720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MECHANICAL PROBLEM ENCOUNTERED IN DELIVERY OF BREECH DELIVERY:</a:t>
            </a:r>
            <a:endParaRPr b="0" lang="en-US" sz="30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DUHRSSEN’S INCISION</a:t>
            </a:r>
            <a:endParaRPr b="0" lang="en-US" sz="2800" spc="-1" strike="noStrike">
              <a:solidFill>
                <a:srgbClr val="000000"/>
              </a:solidFill>
              <a:latin typeface="Georgia"/>
            </a:endParaRPr>
          </a:p>
          <a:p>
            <a:pPr lvl="1" marL="547560" indent="-272880">
              <a:spcBef>
                <a:spcPts val="70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at 10 o'clock (already cut) and 2 o'clock (being cut with bandage scissors) to relieve entrapped aftercoming head. Infrequently, an additional incision is required at 6 o'clock</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The incisions are so placed as to minimize bleeding from the laterally located cervical branches of the uterine artery.</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UNFAVORABLE PELVIS</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ecause there is no time for molding of the aftercoming head, a moderately contracted pelvis that had not previously caused problems in delivery of an average-size cephalic fetus might prove dangerous with a breec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Gynecoid</a:t>
            </a:r>
            <a:r>
              <a:rPr b="0" lang="en-PH" sz="2700" spc="-1" strike="noStrike">
                <a:solidFill>
                  <a:srgbClr val="000000"/>
                </a:solidFill>
                <a:latin typeface="Georgia"/>
              </a:rPr>
              <a:t> (round) and </a:t>
            </a:r>
            <a:r>
              <a:rPr b="1" lang="en-PH" sz="2700" spc="-1" strike="noStrike">
                <a:solidFill>
                  <a:srgbClr val="000000"/>
                </a:solidFill>
                <a:latin typeface="Georgia"/>
              </a:rPr>
              <a:t>anthropoid </a:t>
            </a:r>
            <a:r>
              <a:rPr b="0" lang="en-PH" sz="2700" spc="-1" strike="noStrike">
                <a:solidFill>
                  <a:srgbClr val="000000"/>
                </a:solidFill>
                <a:latin typeface="Georgia"/>
              </a:rPr>
              <a:t>(elliptical) pelves are favorable configur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 </a:t>
            </a:r>
            <a:r>
              <a:rPr b="1" lang="en-PH" sz="2700" spc="-1" strike="noStrike">
                <a:solidFill>
                  <a:srgbClr val="000000"/>
                </a:solidFill>
                <a:latin typeface="Georgia"/>
              </a:rPr>
              <a:t>platypelloid</a:t>
            </a:r>
            <a:r>
              <a:rPr b="0" lang="en-PH" sz="2700" spc="-1" strike="noStrike">
                <a:solidFill>
                  <a:srgbClr val="000000"/>
                </a:solidFill>
                <a:latin typeface="Georgia"/>
              </a:rPr>
              <a:t> (anteroposteriorly flat) and </a:t>
            </a:r>
            <a:r>
              <a:rPr b="1" lang="en-PH" sz="2700" spc="-1" strike="noStrike">
                <a:solidFill>
                  <a:srgbClr val="000000"/>
                </a:solidFill>
                <a:latin typeface="Georgia"/>
              </a:rPr>
              <a:t>android</a:t>
            </a:r>
            <a:r>
              <a:rPr b="0" lang="en-PH" sz="2700" spc="-1" strike="noStrike">
                <a:solidFill>
                  <a:srgbClr val="000000"/>
                </a:solidFill>
                <a:latin typeface="Georgia"/>
              </a:rPr>
              <a:t> (heart-shaped) pelves are not favora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BREECH EXTRACTION AND DELIVERY</a:t>
            </a:r>
            <a:endParaRPr b="0" lang="en-US" sz="30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BREECH</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when the buttocks of the fetus enter the pelvis before the head</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derives from the same word as </a:t>
            </a:r>
            <a:r>
              <a:rPr b="0" i="1" lang="en-PH" sz="2700" spc="-1" strike="noStrike">
                <a:solidFill>
                  <a:srgbClr val="000000"/>
                </a:solidFill>
                <a:latin typeface="Georgia"/>
              </a:rPr>
              <a:t>britches,</a:t>
            </a:r>
            <a:r>
              <a:rPr b="0" lang="en-PH" sz="2700" spc="-1" strike="noStrike">
                <a:solidFill>
                  <a:srgbClr val="000000"/>
                </a:solidFill>
                <a:latin typeface="Georgia"/>
              </a:rPr>
              <a:t> which described a cloth covering the loins and thighs</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eech presentation is more common remote from term</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efore the onset of labor the fetus turns spontaneously to a cephalic presentation, so that breech presentation persists in only about 3 to 4 percent of singleton deliveries</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HYPEREXTENSION OF THE </a:t>
            </a:r>
            <a:br>
              <a:rPr sz="3000"/>
            </a:br>
            <a:r>
              <a:rPr b="1" lang="en-PH" sz="3000" spc="-1" strike="noStrike">
                <a:solidFill>
                  <a:srgbClr val="7b9899"/>
                </a:solidFill>
                <a:latin typeface="Georgia"/>
              </a:rPr>
              <a:t>FETAL HEAD</a:t>
            </a:r>
            <a:endParaRPr b="0" lang="en-US" sz="3000" spc="-1" strike="noStrike">
              <a:solidFill>
                <a:srgbClr val="7b9899"/>
              </a:solidFill>
              <a:latin typeface="Georgia"/>
            </a:endParaRPr>
          </a:p>
        </p:txBody>
      </p:sp>
      <p:sp>
        <p:nvSpPr>
          <p:cNvPr id="656"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800" spc="-1" strike="noStrike">
                <a:solidFill>
                  <a:srgbClr val="000000"/>
                </a:solidFill>
                <a:latin typeface="Georgia"/>
              </a:rPr>
              <a:t>STARGAZER/FLYING FETUS- </a:t>
            </a:r>
            <a:r>
              <a:rPr b="0" lang="en-PH" sz="2800" spc="-1" strike="noStrike">
                <a:solidFill>
                  <a:srgbClr val="000000"/>
                </a:solidFill>
                <a:latin typeface="Georgia"/>
              </a:rPr>
              <a:t>hyperextension of the fetal head</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may result in injury to the cervical spinal cord</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55160" y="304920"/>
            <a:ext cx="8836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LABOR INDUCTION AND AUGMENTATION</a:t>
            </a:r>
            <a:endParaRPr b="0" lang="en-US" sz="30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Induction of labor in women with a breech presentation is defended by some clinicians and condemned by other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TERM BREECH FETUS</a:t>
            </a:r>
            <a:endParaRPr b="0" lang="en-US" sz="3300" spc="-1" strike="noStrike">
              <a:solidFill>
                <a:srgbClr val="7b9899"/>
              </a:solidFill>
              <a:latin typeface="Georgia"/>
            </a:endParaRPr>
          </a:p>
        </p:txBody>
      </p:sp>
      <p:sp>
        <p:nvSpPr>
          <p:cNvPr id="660" name=""/>
          <p:cNvSpPr txBox="1"/>
          <p:nvPr/>
        </p:nvSpPr>
        <p:spPr>
          <a:xfrm>
            <a:off x="301320" y="1527120"/>
            <a:ext cx="8504280" cy="4873680"/>
          </a:xfrm>
          <a:prstGeom prst="rect">
            <a:avLst/>
          </a:prstGeom>
          <a:noFill/>
          <a:ln w="0">
            <a:noFill/>
          </a:ln>
        </p:spPr>
        <p:txBody>
          <a:bodyPr anchor="t">
            <a:normAutofit fontScale="97000"/>
          </a:bodyPr>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PLANNED VAGINAL  DELIVERY:</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Increased neonatal mortality and morbidity</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causes of death were head entrapment, cerebral injury and intracranial hemorrhage, cord prolapse, and severe asphyxia</a:t>
            </a:r>
            <a:endParaRPr b="0" lang="en-US" sz="2300" spc="-1" strike="noStrike">
              <a:solidFill>
                <a:srgbClr val="000000"/>
              </a:solidFill>
              <a:latin typeface="Georgia"/>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PLANNED CS DELIVERY:</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 </a:t>
            </a:r>
            <a:r>
              <a:rPr b="1" lang="en-PH" sz="2300" spc="-1" strike="noStrike">
                <a:solidFill>
                  <a:srgbClr val="000000"/>
                </a:solidFill>
                <a:latin typeface="Georgia"/>
              </a:rPr>
              <a:t>PRETERM FETUS</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The aftercoming head of a preterm fetus may be trapped by a cervix that is sufficiently effaced and dilated to allow passage of the thorax but not of the less-compressible head. </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The consequences of vaginal delivery :hypoxia and physical trauma</a:t>
            </a:r>
            <a:endParaRPr b="0" lang="en-US" sz="2300" spc="-1" strike="noStrike">
              <a:solidFill>
                <a:srgbClr val="000000"/>
              </a:solidFill>
              <a:latin typeface="Georgia"/>
            </a:endParaRPr>
          </a:p>
          <a:p>
            <a:pPr marL="264600" indent="-26460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preterm infants undergoing cesarean delivery had a better prognosis</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RECOMMENDATIONS FOR DELIVERY </a:t>
            </a:r>
            <a:endParaRPr b="0" lang="en-US" sz="3000" spc="-1" strike="noStrike">
              <a:solidFill>
                <a:srgbClr val="7b9899"/>
              </a:solidFill>
              <a:latin typeface="Georgia"/>
            </a:endParaRPr>
          </a:p>
        </p:txBody>
      </p:sp>
      <p:sp>
        <p:nvSpPr>
          <p:cNvPr id="662" name=""/>
          <p:cNvSpPr txBox="1"/>
          <p:nvPr/>
        </p:nvSpPr>
        <p:spPr>
          <a:xfrm>
            <a:off x="301320" y="1828800"/>
            <a:ext cx="8504280" cy="427032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Cesarean delivery is commonly but not exclusively used in the following circumstance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 large fetu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ny degree of contraction or unfavorable shape of the pelvis.</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 hyperextended head.</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When delivery is indicated in the absence of spontaneous labor (some clinicians use oxytocin augmenta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Uterine dysfunction (some use oxytocin augmentatio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RECOMMENDATIONS FOR DELIVERY </a:t>
            </a:r>
            <a:endParaRPr b="0" lang="en-US" sz="3000" spc="-1" strike="noStrike">
              <a:solidFill>
                <a:srgbClr val="7b9899"/>
              </a:solidFill>
              <a:latin typeface="Georgia"/>
            </a:endParaRPr>
          </a:p>
        </p:txBody>
      </p:sp>
      <p:sp>
        <p:nvSpPr>
          <p:cNvPr id="664" name=""/>
          <p:cNvSpPr txBox="1"/>
          <p:nvPr/>
        </p:nvSpPr>
        <p:spPr>
          <a:xfrm>
            <a:off x="301320" y="175248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Incomplete or footling breech presenta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An apparently healthy and viable preterm fetus with the mother in either active labor or in whom delivery is indicated.</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Severe fetal growth restric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Previous perinatal death or children suffering from birth trauma.</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 </a:t>
            </a:r>
            <a:r>
              <a:rPr b="0" lang="en-PH" sz="2400" spc="-1" strike="noStrike">
                <a:solidFill>
                  <a:srgbClr val="000000"/>
                </a:solidFill>
                <a:latin typeface="Georgia"/>
                <a:ea typeface="Arial"/>
              </a:rPr>
              <a:t>A request for sterilizatio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ea typeface="Arial"/>
              </a:rPr>
              <a:t>Lack of an experienced operator</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24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66" name=""/>
          <p:cNvSpPr txBox="1"/>
          <p:nvPr/>
        </p:nvSpPr>
        <p:spPr>
          <a:xfrm>
            <a:off x="301320" y="1526760"/>
            <a:ext cx="8504280" cy="5102280"/>
          </a:xfrm>
          <a:prstGeom prst="rect">
            <a:avLst/>
          </a:prstGeom>
          <a:noFill/>
          <a:ln w="0">
            <a:noFill/>
          </a:ln>
        </p:spPr>
        <p:txBody>
          <a:bodyPr anchor="t">
            <a:normAutofit fontScale="97000"/>
          </a:bodyPr>
          <a:p>
            <a:pPr marL="264600" indent="-26460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Vaginal delivery requires skilled participation by the obstetrician for a favorable outcome</a:t>
            </a:r>
            <a:endParaRPr b="0" lang="en-US" sz="24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Engagement and descent</a:t>
            </a:r>
            <a:r>
              <a:rPr b="0" lang="en-PH" sz="2500" spc="-1" strike="noStrike">
                <a:solidFill>
                  <a:srgbClr val="000000"/>
                </a:solidFill>
                <a:latin typeface="Georgia"/>
              </a:rPr>
              <a:t> </a:t>
            </a:r>
            <a:endParaRPr b="0" lang="en-US" sz="2500" spc="-1" strike="noStrike">
              <a:solidFill>
                <a:srgbClr val="000000"/>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000" spc="-1" strike="noStrike">
                <a:solidFill>
                  <a:srgbClr val="000000"/>
                </a:solidFill>
                <a:latin typeface="Georgia"/>
              </a:rPr>
              <a:t>usually take place with the bitrochanteric diameter in one of the </a:t>
            </a:r>
            <a:r>
              <a:rPr b="0" lang="en-PH" sz="2400" spc="-1" strike="noStrike">
                <a:solidFill>
                  <a:srgbClr val="000000"/>
                </a:solidFill>
                <a:latin typeface="Georgia"/>
              </a:rPr>
              <a:t>oblique pelvic diameters</a:t>
            </a:r>
            <a:endParaRPr b="0" lang="en-US" sz="2400" spc="-1" strike="noStrike">
              <a:solidFill>
                <a:srgbClr val="646b86"/>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The anterior hip usually descends more rapidly than the posterior hip</a:t>
            </a:r>
            <a:endParaRPr b="0" lang="en-US" sz="2400" spc="-1" strike="noStrike">
              <a:solidFill>
                <a:srgbClr val="646b86"/>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when the resistance of the pelvic floor is met, internal rotation of 45 degrees usually follows, bringing the anterior hip toward the pubic arch and allowing the bitrochanteric diameter to occupy the anteroposterior diameter of the pelvic outlet. </a:t>
            </a:r>
            <a:endParaRPr b="0" lang="en-US" sz="2400" spc="-1" strike="noStrike">
              <a:solidFill>
                <a:srgbClr val="646b86"/>
              </a:solidFill>
              <a:latin typeface="Georgia"/>
            </a:endParaRPr>
          </a:p>
          <a:p>
            <a:pPr lvl="1" marL="531000" indent="-264600">
              <a:lnSpc>
                <a:spcPct val="80000"/>
              </a:lnSpc>
              <a:spcBef>
                <a:spcPts val="601"/>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If the posterior extremity is prolapsed, however, it rotates to the symphysis pubis rather than the anterior hip.</a:t>
            </a:r>
            <a:endParaRPr b="0" lang="en-US" sz="2400" spc="-1" strike="noStrike">
              <a:solidFill>
                <a:srgbClr val="646b86"/>
              </a:solidFill>
              <a:latin typeface="Georgia"/>
            </a:endParaRPr>
          </a:p>
          <a:p>
            <a:pPr marL="264600" indent="-26460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28240" y="46044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After rotation</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descent continues until the perineum is distended by the advancing breech, and the anterior hip appears at the vulva.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By lateral flexion of the fetal body, the posterior hip then is forced over the perineum, which retracts over the buttocks, thus allowing the infant to straighten out when the anterior hip is born. </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The legs and feet follow the breech and may be born spontaneously or with aid.</a:t>
            </a:r>
            <a:endParaRPr b="0" lang="en-US" sz="24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70" name=""/>
          <p:cNvSpPr txBox="1"/>
          <p:nvPr/>
        </p:nvSpPr>
        <p:spPr>
          <a:xfrm>
            <a:off x="301320" y="1526760"/>
            <a:ext cx="8504280" cy="5102280"/>
          </a:xfrm>
          <a:prstGeom prst="rect">
            <a:avLst/>
          </a:prstGeom>
          <a:noFill/>
          <a:ln w="0">
            <a:noFill/>
          </a:ln>
        </p:spPr>
        <p:txBody>
          <a:bodyPr anchor="t">
            <a:normAutofit fontScale="99000"/>
          </a:bodyPr>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fter the birth of the breech, there is </a:t>
            </a:r>
            <a:r>
              <a:rPr b="1" lang="en-PH" sz="2500" spc="-1" strike="noStrike">
                <a:solidFill>
                  <a:srgbClr val="000000"/>
                </a:solidFill>
                <a:latin typeface="Georgia"/>
              </a:rPr>
              <a:t>slight external rotation</a:t>
            </a:r>
            <a:r>
              <a:rPr b="0" lang="en-PH" sz="2500" spc="-1" strike="noStrike">
                <a:solidFill>
                  <a:srgbClr val="000000"/>
                </a:solidFill>
                <a:latin typeface="Georgia"/>
              </a:rPr>
              <a:t>, with the back turning anteriorly as the shoulders are brought into relation with one of the oblique diameters of the pelvis. </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shoulders then </a:t>
            </a:r>
            <a:r>
              <a:rPr b="1" lang="en-PH" sz="2500" spc="-1" strike="noStrike">
                <a:solidFill>
                  <a:srgbClr val="000000"/>
                </a:solidFill>
                <a:latin typeface="Georgia"/>
              </a:rPr>
              <a:t>descend </a:t>
            </a:r>
            <a:r>
              <a:rPr b="0" lang="en-PH" sz="2500" spc="-1" strike="noStrike">
                <a:solidFill>
                  <a:srgbClr val="000000"/>
                </a:solidFill>
                <a:latin typeface="Georgia"/>
              </a:rPr>
              <a:t>rapidly and undergo </a:t>
            </a:r>
            <a:r>
              <a:rPr b="1" lang="en-PH" sz="2500" spc="-1" strike="noStrike">
                <a:solidFill>
                  <a:srgbClr val="000000"/>
                </a:solidFill>
                <a:latin typeface="Georgia"/>
              </a:rPr>
              <a:t>internal rotation</a:t>
            </a:r>
            <a:r>
              <a:rPr b="0" lang="en-PH" sz="2500" spc="-1" strike="noStrike">
                <a:solidFill>
                  <a:srgbClr val="000000"/>
                </a:solidFill>
                <a:latin typeface="Georgia"/>
              </a:rPr>
              <a:t>, with the bisacromial diameter occupying the anteroposterior plane. </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Immediately following the shoulders, the head, which is normally sharply flexed upon the thorax, enters the pelvis in one of the oblique diameters and then rotates in such a manner as to bring the posterior portion of the neck under the symphysis pubis. </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head is then born in flexion.</a:t>
            </a:r>
            <a:endParaRPr b="0" lang="en-US" sz="2500" spc="-1" strike="noStrike">
              <a:solidFill>
                <a:srgbClr val="000000"/>
              </a:solidFill>
              <a:latin typeface="Georgia"/>
            </a:endParaRPr>
          </a:p>
          <a:p>
            <a:pPr marL="270000" indent="-27000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TECHNIQUES FOR BREECH DELIVERY</a:t>
            </a:r>
            <a:br>
              <a:rPr sz="3000"/>
            </a:br>
            <a:r>
              <a:rPr b="1" lang="en-PH" sz="3000" spc="-1" strike="noStrike">
                <a:solidFill>
                  <a:srgbClr val="7b9899"/>
                </a:solidFill>
                <a:latin typeface="Georgia"/>
              </a:rPr>
              <a:t>LABOR AND SPONTANEOUS DELIVERY</a:t>
            </a:r>
            <a:endParaRPr b="0" lang="en-US" sz="3000" spc="-1" strike="noStrike">
              <a:solidFill>
                <a:srgbClr val="7b9899"/>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fontScale="96000"/>
          </a:bodyPr>
          <a:p>
            <a:pPr marL="261720" indent="-2617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breech may engage in the transverse diameter of the pelvis, with the sacrum directed anteriorly or posteriorly. The mechanism of labor in the transverse position differs only in that internal rotation occurs through an arc of 90 rather than 45 degrees. Infrequently, rotation occurs in such a manner that the back of the infant is directed posteriorly instead of anteriorly. Such rotation should be prevented if possible. Although the head may be delivered by allowing the chin and face to pass beneath the symphysis, the slightest traction on the body may cause extension of the head, which increases the diameter of the head that must pass through the pelvis.</a:t>
            </a:r>
            <a:endParaRPr b="0" lang="en-US" sz="2500" spc="-1" strike="noStrike">
              <a:solidFill>
                <a:srgbClr val="000000"/>
              </a:solidFill>
              <a:latin typeface="Georgia"/>
            </a:endParaRPr>
          </a:p>
          <a:p>
            <a:pPr marL="261720" indent="-2617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METHODS OF VAGINAL DELIVERY</a:t>
            </a:r>
            <a:endParaRPr b="0" lang="en-US" sz="3300" spc="-1" strike="noStrike">
              <a:solidFill>
                <a:srgbClr val="7b9899"/>
              </a:solidFill>
              <a:latin typeface="Georgia"/>
            </a:endParaRPr>
          </a:p>
        </p:txBody>
      </p:sp>
      <p:sp>
        <p:nvSpPr>
          <p:cNvPr id="674" name=""/>
          <p:cNvSpPr txBox="1"/>
          <p:nvPr/>
        </p:nvSpPr>
        <p:spPr>
          <a:xfrm>
            <a:off x="301320" y="1527120"/>
            <a:ext cx="8504280" cy="457200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3 GENERAL METHODS OF BREECH DELIVERY</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500" spc="-1" strike="noStrike">
                <a:solidFill>
                  <a:srgbClr val="000000"/>
                </a:solidFill>
                <a:latin typeface="Georgia"/>
              </a:rPr>
              <a:t>Spontaneous breech delivery</a:t>
            </a:r>
            <a:r>
              <a:rPr b="0" i="1" lang="en-PH" sz="2500" spc="-1" strike="noStrike">
                <a:solidFill>
                  <a:srgbClr val="000000"/>
                </a:solidFill>
                <a:latin typeface="Georgia"/>
              </a:rPr>
              <a:t>.</a:t>
            </a:r>
            <a:r>
              <a:rPr b="0" lang="en-PH" sz="2500" spc="-1" strike="noStrike">
                <a:solidFill>
                  <a:srgbClr val="000000"/>
                </a:solidFill>
                <a:latin typeface="Georgia"/>
              </a:rPr>
              <a:t> The infant is expelled entirely spontaneously without any traction or manipulation other than support of the infant.</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500" spc="-1" strike="noStrike">
                <a:solidFill>
                  <a:srgbClr val="000000"/>
                </a:solidFill>
                <a:latin typeface="Georgia"/>
              </a:rPr>
              <a:t>Partial breech extraction</a:t>
            </a:r>
            <a:r>
              <a:rPr b="0" i="1" lang="en-PH" sz="2500" spc="-1" strike="noStrike">
                <a:solidFill>
                  <a:srgbClr val="000000"/>
                </a:solidFill>
                <a:latin typeface="Georgia"/>
              </a:rPr>
              <a:t>.</a:t>
            </a:r>
            <a:r>
              <a:rPr b="0" lang="en-PH" sz="2500" spc="-1" strike="noStrike">
                <a:solidFill>
                  <a:srgbClr val="000000"/>
                </a:solidFill>
                <a:latin typeface="Georgia"/>
              </a:rPr>
              <a:t> The infant is delivered spontaneously as far as the umbilicus, but the remainder of the body is extracted or delivered with operator traction and assisted maneuvers, with or without maternal expulsive effort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PH" sz="2500" spc="-1" strike="noStrike">
                <a:solidFill>
                  <a:srgbClr val="000000"/>
                </a:solidFill>
                <a:latin typeface="Georgia"/>
              </a:rPr>
              <a:t>Total breech extraction</a:t>
            </a:r>
            <a:r>
              <a:rPr b="0" i="1" lang="en-PH" sz="2500" spc="-1" strike="noStrike">
                <a:solidFill>
                  <a:srgbClr val="000000"/>
                </a:solidFill>
                <a:latin typeface="Georgia"/>
              </a:rPr>
              <a:t>.</a:t>
            </a:r>
            <a:r>
              <a:rPr b="0" lang="en-PH" sz="2500" spc="-1" strike="noStrike">
                <a:solidFill>
                  <a:srgbClr val="000000"/>
                </a:solidFill>
                <a:latin typeface="Georgia"/>
              </a:rPr>
              <a:t> The entire body of the infant is extracted by the obstetrician.</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46044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200" spc="-1" strike="noStrike">
                <a:solidFill>
                  <a:srgbClr val="002060"/>
                </a:solidFill>
                <a:latin typeface="Calibri"/>
                <a:ea typeface="Calibri"/>
              </a:rPr>
              <a:t>PREVALENCE OF BREECH PRESENTATION BY GESTATIONAL AGE</a:t>
            </a:r>
            <a:endParaRPr b="0" lang="en-US" sz="3200" spc="-1" strike="noStrike">
              <a:solidFill>
                <a:srgbClr val="7b9899"/>
              </a:solidFill>
              <a:latin typeface="Georgia"/>
            </a:endParaRPr>
          </a:p>
        </p:txBody>
      </p:sp>
      <p:graphicFrame>
        <p:nvGraphicFramePr>
          <p:cNvPr id="618" name=""/>
          <p:cNvGraphicFramePr/>
          <p:nvPr/>
        </p:nvGraphicFramePr>
        <p:xfrm>
          <a:off x="533520" y="1600200"/>
          <a:ext cx="8001000" cy="4800600"/>
        </p:xfrm>
        <a:graphic>
          <a:graphicData uri="http://schemas.openxmlformats.org/drawingml/2006/table">
            <a:tbl>
              <a:tblPr/>
              <a:tblGrid>
                <a:gridCol w="2427120"/>
                <a:gridCol w="1347840"/>
                <a:gridCol w="1349280"/>
                <a:gridCol w="1258920"/>
                <a:gridCol w="1617840"/>
              </a:tblGrid>
              <a:tr h="409680">
                <a:tc>
                  <a:txBody>
                    <a:bodyPr lIns="68760" rIns="6876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PRESENTATIO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Gestational Age (wk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BREECH</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VERTEX</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TOTAL</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1800" spc="-1" strike="noStrike">
                          <a:solidFill>
                            <a:srgbClr val="000000"/>
                          </a:solidFill>
                          <a:latin typeface="Calibri"/>
                          <a:ea typeface="Calibri"/>
                        </a:rPr>
                        <a:t>BREECH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1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7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89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9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7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8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45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2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5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8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3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2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0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6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1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2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9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42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7</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8</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9</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37-4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5</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136</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400" spc="-1" strike="noStrike">
                          <a:solidFill>
                            <a:srgbClr val="000000"/>
                          </a:solidFill>
                          <a:latin typeface="Calibri"/>
                          <a:ea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MANAGEMENT OF LABOR</a:t>
            </a:r>
            <a:endParaRPr b="0" lang="en-US" sz="3300" spc="-1" strike="noStrike">
              <a:solidFill>
                <a:srgbClr val="7b9899"/>
              </a:solidFill>
              <a:latin typeface="Georgia"/>
            </a:endParaRPr>
          </a:p>
        </p:txBody>
      </p:sp>
      <p:sp>
        <p:nvSpPr>
          <p:cNvPr id="676" name=""/>
          <p:cNvSpPr txBox="1"/>
          <p:nvPr/>
        </p:nvSpPr>
        <p:spPr>
          <a:xfrm>
            <a:off x="301320" y="1527120"/>
            <a:ext cx="8504280" cy="4572000"/>
          </a:xfrm>
          <a:prstGeom prst="rect">
            <a:avLst/>
          </a:prstGeom>
          <a:noFill/>
          <a:ln w="0">
            <a:noFill/>
          </a:ln>
        </p:spPr>
        <p:txBody>
          <a:bodyPr anchor="t">
            <a:normAutofit fontScale="97000"/>
          </a:bodyPr>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ssessment  to establish the status of the membranes, labor, and fetal condition.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Close surveillance of fetal heart rate and uterine contractions.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Recruitment of  nursing, obstetrical, and anesthesia team to accomplish a vaginal or abdominal delivery, nursery is notified.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 venous catheter is inserted and an infusion begun as soon as the woman arrives in the labor suite. </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Emergency induction of anesthesia, or hemorrhage from lacerations or from uterine atony, are but two of many reasons that may require immediate intravenous access for the administration of medications, fluids, or blood.</a:t>
            </a:r>
            <a:endParaRPr b="0" lang="en-US" sz="2500" spc="-1" strike="noStrike">
              <a:solidFill>
                <a:srgbClr val="000000"/>
              </a:solidFill>
              <a:latin typeface="Georgia"/>
            </a:endParaRPr>
          </a:p>
          <a:p>
            <a:pPr marL="264600" indent="-26460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STAGE OF LABOR</a:t>
            </a:r>
            <a:endParaRPr b="0" lang="en-US" sz="3300" spc="-1" strike="noStrike">
              <a:solidFill>
                <a:srgbClr val="7b9899"/>
              </a:solidFill>
              <a:latin typeface="Georgia"/>
            </a:endParaRPr>
          </a:p>
        </p:txBody>
      </p:sp>
      <p:sp>
        <p:nvSpPr>
          <p:cNvPr id="67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Assessment of cervical dilatation and effacement and the station of the presenting part are essential for planning the route of delivery</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ETAL CONDITION</a:t>
            </a:r>
            <a:endParaRPr b="0" lang="en-US" sz="3300" spc="-1" strike="noStrike">
              <a:solidFill>
                <a:srgbClr val="7b9899"/>
              </a:solidFill>
              <a:latin typeface="Georgia"/>
            </a:endParaRPr>
          </a:p>
        </p:txBody>
      </p:sp>
      <p:sp>
        <p:nvSpPr>
          <p:cNvPr id="680"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Cesarean delivery is not performed under emergency conditions for an anomalous infant with no chance of surviva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ETAL MONITORING</a:t>
            </a:r>
            <a:endParaRPr b="0" lang="en-US" sz="3300" spc="-1" strike="noStrike">
              <a:solidFill>
                <a:srgbClr val="7b9899"/>
              </a:solidFill>
              <a:latin typeface="Georgia"/>
            </a:endParaRPr>
          </a:p>
        </p:txBody>
      </p:sp>
      <p:sp>
        <p:nvSpPr>
          <p:cNvPr id="682"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Fetal heart rate is recorded at least every 15 minutes. </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Most clinicians prefer continuous electronic monitoring of fetal heart rate and uterine contraction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 </a:t>
            </a:r>
            <a:r>
              <a:rPr b="0" lang="en-PH" sz="2800" spc="-1" strike="noStrike">
                <a:solidFill>
                  <a:srgbClr val="000000"/>
                </a:solidFill>
                <a:latin typeface="Georgia"/>
              </a:rPr>
              <a:t>Vaginal examination should be performed following rupture to check for cord prolaps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ROUTE OF DELIVERY</a:t>
            </a:r>
            <a:endParaRPr b="0" lang="en-US" sz="3300" spc="-1" strike="noStrike">
              <a:solidFill>
                <a:srgbClr val="7b9899"/>
              </a:solidFill>
              <a:latin typeface="Georgia"/>
            </a:endParaRPr>
          </a:p>
        </p:txBody>
      </p:sp>
      <p:sp>
        <p:nvSpPr>
          <p:cNvPr id="684"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choice of abdominal or vaginal delivery is based on the type of breech, flexion of the head, fetal size, quality of uterine contractions, and size of the maternal pelvi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22860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TIMING OF DELIVERY</a:t>
            </a:r>
            <a:endParaRPr b="0" lang="en-US" sz="3300" spc="-1" strike="noStrike">
              <a:solidFill>
                <a:srgbClr val="7b9899"/>
              </a:solidFill>
              <a:latin typeface="Georgia"/>
            </a:endParaRPr>
          </a:p>
        </p:txBody>
      </p:sp>
      <p:sp>
        <p:nvSpPr>
          <p:cNvPr id="686"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Delivery is easier, and in turn, morbidity and mortality are probably lower, when the breech is allowed to deliver spontaneously to the umbilicus</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Delivery team</a:t>
            </a:r>
            <a:r>
              <a:rPr b="0" lang="en-PH" sz="2500" spc="-1" strike="noStrike">
                <a:solidFill>
                  <a:srgbClr val="000000"/>
                </a:solidFill>
                <a:latin typeface="Georgia"/>
              </a:rPr>
              <a:t> include:</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1.An obstetrician skilled in the art of breech extraction.</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2.An associate to assist with the delivery.</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 </a:t>
            </a:r>
            <a:r>
              <a:rPr b="0" lang="en-PH" sz="2500" spc="-1" strike="noStrike">
                <a:solidFill>
                  <a:srgbClr val="000000"/>
                </a:solidFill>
                <a:latin typeface="Georgia"/>
              </a:rPr>
              <a:t>3.Anesthesia personnel who can assure adequate analgesia or anesthesia when needed.</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 </a:t>
            </a:r>
            <a:r>
              <a:rPr b="0" lang="en-PH" sz="2500" spc="-1" strike="noStrike">
                <a:solidFill>
                  <a:srgbClr val="000000"/>
                </a:solidFill>
                <a:latin typeface="Georgia"/>
              </a:rPr>
              <a:t>4.An individual trained to resuscitate the infant</a:t>
            </a:r>
            <a:endParaRPr b="0" lang="en-US" sz="2500" spc="-1" strike="noStrike">
              <a:solidFill>
                <a:srgbClr val="000000"/>
              </a:solidFill>
              <a:latin typeface="Georgia"/>
            </a:endParaRPr>
          </a:p>
          <a:p>
            <a:pPr marL="261720" indent="-26172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8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9" name="Picture 2" descr="Figure 24-6"/>
          <p:cNvPicPr/>
          <p:nvPr/>
        </p:nvPicPr>
        <p:blipFill>
          <a:blip r:embed="rId1"/>
          <a:stretch/>
        </p:blipFill>
        <p:spPr>
          <a:xfrm>
            <a:off x="1600200" y="1371600"/>
            <a:ext cx="5952960" cy="500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9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2" name="Picture 2" descr="Figure 24-7"/>
          <p:cNvPicPr/>
          <p:nvPr/>
        </p:nvPicPr>
        <p:blipFill>
          <a:blip r:embed="rId1"/>
          <a:stretch/>
        </p:blipFill>
        <p:spPr>
          <a:xfrm>
            <a:off x="1295280" y="1676520"/>
            <a:ext cx="6681960" cy="4267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9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5" name="Picture 2" descr="Figure 24-8"/>
          <p:cNvPicPr/>
          <p:nvPr/>
        </p:nvPicPr>
        <p:blipFill>
          <a:blip r:embed="rId1"/>
          <a:stretch/>
        </p:blipFill>
        <p:spPr>
          <a:xfrm>
            <a:off x="2057400" y="1676520"/>
            <a:ext cx="525132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6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98" name="Picture 2" descr="Figure 24-9"/>
          <p:cNvPicPr/>
          <p:nvPr/>
        </p:nvPicPr>
        <p:blipFill>
          <a:blip r:embed="rId1"/>
          <a:stretch/>
        </p:blipFill>
        <p:spPr>
          <a:xfrm>
            <a:off x="1319040" y="1295280"/>
            <a:ext cx="6301080" cy="495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ETIOLOGY</a:t>
            </a:r>
            <a:endParaRPr b="0" lang="en-US" sz="3300" spc="-1" strike="noStrike">
              <a:solidFill>
                <a:srgbClr val="7b9899"/>
              </a:solidFill>
              <a:latin typeface="Georgia"/>
            </a:endParaRPr>
          </a:p>
        </p:txBody>
      </p:sp>
      <p:sp>
        <p:nvSpPr>
          <p:cNvPr id="620" name=""/>
          <p:cNvSpPr txBox="1"/>
          <p:nvPr/>
        </p:nvSpPr>
        <p:spPr>
          <a:xfrm>
            <a:off x="301320" y="1676520"/>
            <a:ext cx="8504280" cy="4572000"/>
          </a:xfrm>
          <a:prstGeom prst="rect">
            <a:avLst/>
          </a:prstGeom>
          <a:noFill/>
          <a:ln w="0">
            <a:noFill/>
          </a:ln>
        </p:spPr>
        <p:txBody>
          <a:bodyPr anchor="t">
            <a:normAutofit/>
          </a:bodyPr>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Gestational age</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Hydramnio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Uterine relaxation associated with great parity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Multiple fetuse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Oligohydramnio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Hydrocephaly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Anencephaly </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Previous breech delivery</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Uterine anomalies</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Pelvic tumor</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Placenta previa</a:t>
            </a:r>
            <a:endParaRPr b="0" lang="en-US" sz="2500" spc="-1" strike="noStrike">
              <a:solidFill>
                <a:srgbClr val="000000"/>
              </a:solidFill>
              <a:latin typeface="Georgia"/>
            </a:endParaRPr>
          </a:p>
          <a:p>
            <a:pPr marL="272880" indent="-27288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SSISTED FRANK BREECH DELIVERY</a:t>
            </a:r>
            <a:endParaRPr b="0" lang="en-US" sz="3000" spc="-1" strike="noStrike">
              <a:solidFill>
                <a:srgbClr val="7b9899"/>
              </a:solidFill>
              <a:latin typeface="Georgia"/>
            </a:endParaRPr>
          </a:p>
        </p:txBody>
      </p:sp>
      <p:sp>
        <p:nvSpPr>
          <p:cNvPr id="70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01" name="Picture 2" descr="Figure 24-10"/>
          <p:cNvPicPr/>
          <p:nvPr/>
        </p:nvPicPr>
        <p:blipFill>
          <a:blip r:embed="rId1"/>
          <a:stretch/>
        </p:blipFill>
        <p:spPr>
          <a:xfrm>
            <a:off x="2209680" y="1523880"/>
            <a:ext cx="4788000" cy="4496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RANK BREECH EXTRACTION</a:t>
            </a:r>
            <a:endParaRPr b="0" lang="en-US" sz="3300" spc="-1" strike="noStrike">
              <a:solidFill>
                <a:srgbClr val="7b9899"/>
              </a:solidFill>
              <a:latin typeface="Georgia"/>
            </a:endParaRPr>
          </a:p>
        </p:txBody>
      </p:sp>
      <p:sp>
        <p:nvSpPr>
          <p:cNvPr id="70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04" name="Picture 2" descr="Figure 24-11"/>
          <p:cNvPicPr/>
          <p:nvPr/>
        </p:nvPicPr>
        <p:blipFill>
          <a:blip r:embed="rId1"/>
          <a:stretch/>
        </p:blipFill>
        <p:spPr>
          <a:xfrm>
            <a:off x="2114640" y="1523880"/>
            <a:ext cx="51670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RANK BREECH EXTRACTION</a:t>
            </a:r>
            <a:endParaRPr b="0" lang="en-US" sz="3300" spc="-1" strike="noStrike">
              <a:solidFill>
                <a:srgbClr val="7b9899"/>
              </a:solidFill>
              <a:latin typeface="Georgia"/>
            </a:endParaRPr>
          </a:p>
        </p:txBody>
      </p:sp>
      <p:sp>
        <p:nvSpPr>
          <p:cNvPr id="70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07" name="Picture 2" descr="Figure 24-12"/>
          <p:cNvPicPr/>
          <p:nvPr/>
        </p:nvPicPr>
        <p:blipFill>
          <a:blip r:embed="rId1"/>
          <a:stretch/>
        </p:blipFill>
        <p:spPr>
          <a:xfrm>
            <a:off x="2057400" y="1600200"/>
            <a:ext cx="497052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0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0" name="Picture 2" descr="Figure 24-13"/>
          <p:cNvPicPr/>
          <p:nvPr/>
        </p:nvPicPr>
        <p:blipFill>
          <a:blip r:embed="rId1"/>
          <a:stretch/>
        </p:blipFill>
        <p:spPr>
          <a:xfrm>
            <a:off x="1393920" y="1523880"/>
            <a:ext cx="6302160" cy="487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38088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1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3" name="Picture 2" descr="Figure 24-14"/>
          <p:cNvPicPr/>
          <p:nvPr/>
        </p:nvPicPr>
        <p:blipFill>
          <a:blip r:embed="rId1"/>
          <a:stretch/>
        </p:blipFill>
        <p:spPr>
          <a:xfrm>
            <a:off x="1695600" y="1523880"/>
            <a:ext cx="5924520" cy="4191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6" name="Picture 2" descr="Figure 24-15"/>
          <p:cNvPicPr/>
          <p:nvPr/>
        </p:nvPicPr>
        <p:blipFill>
          <a:blip r:embed="rId1"/>
          <a:stretch/>
        </p:blipFill>
        <p:spPr>
          <a:xfrm>
            <a:off x="2038320" y="1600200"/>
            <a:ext cx="5124600" cy="4267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19" name="Picture 2" descr="Figure 24-16"/>
          <p:cNvPicPr/>
          <p:nvPr/>
        </p:nvPicPr>
        <p:blipFill>
          <a:blip r:embed="rId1"/>
          <a:stretch/>
        </p:blipFill>
        <p:spPr>
          <a:xfrm>
            <a:off x="2031840" y="1523880"/>
            <a:ext cx="5131080" cy="4419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2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2" name="Picture 2" descr="Figure 24-17"/>
          <p:cNvPicPr/>
          <p:nvPr/>
        </p:nvPicPr>
        <p:blipFill>
          <a:blip r:embed="rId1"/>
          <a:stretch/>
        </p:blipFill>
        <p:spPr>
          <a:xfrm>
            <a:off x="2057400" y="1600200"/>
            <a:ext cx="50706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COMPLETE/INCOMPLETE BREECH EXTRACTION</a:t>
            </a:r>
            <a:endParaRPr b="0" lang="en-US" sz="3000" spc="-1" strike="noStrike">
              <a:solidFill>
                <a:srgbClr val="7b9899"/>
              </a:solidFill>
              <a:latin typeface="Georgia"/>
            </a:endParaRPr>
          </a:p>
        </p:txBody>
      </p:sp>
      <p:sp>
        <p:nvSpPr>
          <p:cNvPr id="7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5" name="Picture 2" descr="Figure 24-18"/>
          <p:cNvPicPr/>
          <p:nvPr/>
        </p:nvPicPr>
        <p:blipFill>
          <a:blip r:embed="rId1"/>
          <a:stretch/>
        </p:blipFill>
        <p:spPr>
          <a:xfrm>
            <a:off x="1371600" y="1219320"/>
            <a:ext cx="6384960" cy="541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DELIVERY OF THE AFTERCOMING HEAD</a:t>
            </a:r>
            <a:endParaRPr b="0" lang="en-US" sz="3000" spc="-1" strike="noStrike">
              <a:solidFill>
                <a:srgbClr val="7b9899"/>
              </a:solidFill>
              <a:latin typeface="Georgia"/>
            </a:endParaRPr>
          </a:p>
        </p:txBody>
      </p:sp>
      <p:sp>
        <p:nvSpPr>
          <p:cNvPr id="727"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500" spc="-1" strike="noStrike">
                <a:solidFill>
                  <a:srgbClr val="000000"/>
                </a:solidFill>
                <a:latin typeface="Georgia"/>
              </a:rPr>
              <a:t>MAURICEAU</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400" spc="-1" strike="noStrike">
                <a:solidFill>
                  <a:srgbClr val="000000"/>
                </a:solidFill>
                <a:latin typeface="Georgia"/>
              </a:rPr>
              <a:t>Index and middle finger of one hand are applied over the maxilla, to flex the head, while the fetal body rests on the palm of the hand and forearm.</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29" name="Picture 2" descr="Figure 24-19"/>
          <p:cNvPicPr/>
          <p:nvPr/>
        </p:nvPicPr>
        <p:blipFill>
          <a:blip r:embed="rId1"/>
          <a:stretch/>
        </p:blipFill>
        <p:spPr>
          <a:xfrm>
            <a:off x="4343400" y="1676520"/>
            <a:ext cx="4495680" cy="458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COMPLICATIONS</a:t>
            </a:r>
            <a:endParaRPr b="0" lang="en-US" sz="3300" spc="-1" strike="noStrike">
              <a:solidFill>
                <a:srgbClr val="7b9899"/>
              </a:solidFill>
              <a:latin typeface="Georgia"/>
            </a:endParaRPr>
          </a:p>
        </p:txBody>
      </p:sp>
      <p:sp>
        <p:nvSpPr>
          <p:cNvPr id="622" name=""/>
          <p:cNvSpPr txBox="1"/>
          <p:nvPr/>
        </p:nvSpPr>
        <p:spPr>
          <a:xfrm>
            <a:off x="301320" y="182880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erinatal morbidity and mortality from difficult delive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Low birthweight from preterm delivery, growth restriction, or bot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olapsed cor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lacenta previ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neonatal, and infant anomal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terine anomalies and tumo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1" name=""/>
          <p:cNvSpPr txBox="1"/>
          <p:nvPr/>
        </p:nvSpPr>
        <p:spPr>
          <a:xfrm>
            <a:off x="301320" y="1371600"/>
            <a:ext cx="8504280" cy="4572000"/>
          </a:xfrm>
          <a:prstGeom prst="rect">
            <a:avLst/>
          </a:prstGeom>
          <a:noFill/>
          <a:ln w="0">
            <a:noFill/>
          </a:ln>
        </p:spPr>
        <p:txBody>
          <a:bodyPr anchor="t">
            <a:normAutofit fontScale="95000"/>
          </a:bodyPr>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The forearm is straddled by the fetal legs.</a:t>
            </a:r>
            <a:endParaRPr b="0" lang="en-US" sz="2200" spc="-1" strike="noStrike">
              <a:solidFill>
                <a:srgbClr val="000000"/>
              </a:solidFill>
              <a:latin typeface="Georgia"/>
            </a:endParaRPr>
          </a:p>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 </a:t>
            </a:r>
            <a:r>
              <a:rPr b="0" lang="en-PH" sz="2200" spc="-1" strike="noStrike">
                <a:solidFill>
                  <a:srgbClr val="000000"/>
                </a:solidFill>
                <a:latin typeface="Georgia"/>
              </a:rPr>
              <a:t>Two fingers of the other hand then are hooked over the fetal neck, and grasping the shoulders, downward traction is applied until the suboccipital region appears under the symphysis. </a:t>
            </a:r>
            <a:endParaRPr b="0" lang="en-US" sz="2200" spc="-1" strike="noStrike">
              <a:solidFill>
                <a:srgbClr val="000000"/>
              </a:solidFill>
              <a:latin typeface="Georgia"/>
            </a:endParaRPr>
          </a:p>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200" spc="-1" strike="noStrike">
                <a:solidFill>
                  <a:srgbClr val="000000"/>
                </a:solidFill>
                <a:latin typeface="Georgia"/>
              </a:rPr>
              <a:t>Gentle suprapubic pressure simultaneously applied by an assistant helps keep the head flexed. The body then is elevated toward the maternal abdomen, and the mouth, nose, brow, and eventually the occiput emerge successively over the perineum. </a:t>
            </a: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59200" indent="-25920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It is emphasized that with this maneuver, the operator uses both hands simultaneously and in tandem to exert continuous downward gentle traction simultaneously on the fetal neck and on the maxilla.</a:t>
            </a:r>
            <a:r>
              <a:rPr b="0" lang="en-PH"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t the same time, appropriate suprapubic pressure applied by an assistant is helpful in delivery of the hea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DELIVERY OF THE AFTERCOMING HEAD</a:t>
            </a:r>
            <a:endParaRPr b="0" lang="en-US" sz="3000" spc="-1" strike="noStrike">
              <a:solidFill>
                <a:srgbClr val="7b9899"/>
              </a:solidFill>
              <a:latin typeface="Georgia"/>
            </a:endParaRPr>
          </a:p>
        </p:txBody>
      </p:sp>
      <p:sp>
        <p:nvSpPr>
          <p:cNvPr id="73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2.PRAGUE MANEUV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36" name="Picture 2" descr="Figure 24-20"/>
          <p:cNvPicPr/>
          <p:nvPr/>
        </p:nvPicPr>
        <p:blipFill>
          <a:blip r:embed="rId1"/>
          <a:stretch/>
        </p:blipFill>
        <p:spPr>
          <a:xfrm>
            <a:off x="1724040" y="2057400"/>
            <a:ext cx="5743440" cy="4343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38"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the back of the fetus fails to rotate to the anterior. </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When this occurs, rotation of the back to the anterior may be achieved by using stronger traction on the fetal legs or bony pelvis.</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 </a:t>
            </a:r>
            <a:r>
              <a:rPr b="0" lang="en-PH" sz="2500" spc="-1" strike="noStrike">
                <a:solidFill>
                  <a:srgbClr val="000000"/>
                </a:solidFill>
                <a:latin typeface="Georgia"/>
              </a:rPr>
              <a:t>If the back still remains oriented posteriorly, extraction may be accomplished using the Mauriceau maneuver and delivering the fetus back down. </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500" spc="-1" strike="noStrike">
                <a:solidFill>
                  <a:srgbClr val="000000"/>
                </a:solidFill>
                <a:latin typeface="Georgia"/>
              </a:rPr>
              <a:t>If this is impossible, the fetus still may be delivered using the modified Prague maneuver, which, as practiced today, consists of two fingers of one hand grasping the shoulders of the back-down fetus from below while the other hand draws the feet up over the maternal abdomen</a:t>
            </a:r>
            <a:endParaRPr b="0" lang="en-US" sz="2500" spc="-1" strike="noStrike">
              <a:solidFill>
                <a:srgbClr val="000000"/>
              </a:solidFill>
              <a:latin typeface="Georgia"/>
            </a:endParaRPr>
          </a:p>
          <a:p>
            <a:pPr marL="256320" indent="-2563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ORCEPS TO AFTERCOMING HEAD</a:t>
            </a:r>
            <a:endParaRPr b="0" lang="en-US" sz="3300" spc="-1" strike="noStrike">
              <a:solidFill>
                <a:srgbClr val="7b9899"/>
              </a:solidFill>
              <a:latin typeface="Georgia"/>
            </a:endParaRPr>
          </a:p>
        </p:txBody>
      </p:sp>
      <p:sp>
        <p:nvSpPr>
          <p:cNvPr id="740"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PIPER FORCEPS –</a:t>
            </a:r>
            <a:r>
              <a:rPr b="0" lang="en-PH" sz="2300" spc="-1" strike="noStrike">
                <a:solidFill>
                  <a:srgbClr val="000000"/>
                </a:solidFill>
                <a:latin typeface="Georgia"/>
              </a:rPr>
              <a:t>specialized forceps used to deliver the aftercoming head.</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300" spc="-1" strike="noStrike">
                <a:solidFill>
                  <a:srgbClr val="000000"/>
                </a:solidFill>
                <a:latin typeface="Georgia"/>
              </a:rPr>
              <a:t>The blades of the forceps should not be applied to the aftercoming head until it has been brought into the pelvis by gentle traction, combined with suprapubic pressure, and is engaged. Suspension of the body of the fetus in a towel effectively holds the fetus and helps keep the arms out of the way.</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A.</a:t>
            </a:r>
            <a:r>
              <a:rPr b="0" lang="en-PH" sz="2300" spc="-1" strike="noStrike">
                <a:solidFill>
                  <a:srgbClr val="000000"/>
                </a:solidFill>
                <a:latin typeface="Georgia"/>
              </a:rPr>
              <a:t>The fetal body is elevated using a warm towel and the left blade of the forceps is applied to the aftercoming head.</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B.</a:t>
            </a:r>
            <a:r>
              <a:rPr b="0" lang="en-PH" sz="2300" spc="-1" strike="noStrike">
                <a:solidFill>
                  <a:srgbClr val="000000"/>
                </a:solidFill>
                <a:latin typeface="Georgia"/>
              </a:rPr>
              <a:t> The right blade is applied with the body still elevated. </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300" spc="-1" strike="noStrike">
                <a:solidFill>
                  <a:srgbClr val="000000"/>
                </a:solidFill>
                <a:latin typeface="Georgia"/>
              </a:rPr>
              <a:t>C.</a:t>
            </a:r>
            <a:r>
              <a:rPr b="0" lang="en-PH" sz="2300" spc="-1" strike="noStrike">
                <a:solidFill>
                  <a:srgbClr val="000000"/>
                </a:solidFill>
                <a:latin typeface="Georgia"/>
              </a:rPr>
              <a:t> Forceps delivery of the aftercoming head.</a:t>
            </a: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67120" indent="-26712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Figure 24-21"/>
          <p:cNvPicPr/>
          <p:nvPr/>
        </p:nvPicPr>
        <p:blipFill>
          <a:blip r:embed="rId1"/>
          <a:srcRect l="0" t="0" r="0" b="4596"/>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ENTRAPMENT OF THE AFTERCOMING HEAD</a:t>
            </a:r>
            <a:endParaRPr b="0" lang="en-US" sz="3000" spc="-1" strike="noStrike">
              <a:solidFill>
                <a:srgbClr val="7b9899"/>
              </a:solidFill>
              <a:latin typeface="Georgia"/>
            </a:endParaRPr>
          </a:p>
        </p:txBody>
      </p:sp>
      <p:sp>
        <p:nvSpPr>
          <p:cNvPr id="74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small preterm fetuses, the incompletely dilated cervix will not allow delivery of the aftercoming head. With gentle traction on the fetal body, the cervix, at times, may be manually slipped over the occipu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DUHRSSEN INCISION</a:t>
            </a:r>
            <a:endParaRPr b="0" lang="en-US" sz="3300" spc="-1" strike="noStrike">
              <a:solidFill>
                <a:srgbClr val="7b9899"/>
              </a:solidFill>
              <a:latin typeface="Georgia"/>
            </a:endParaRPr>
          </a:p>
        </p:txBody>
      </p:sp>
      <p:sp>
        <p:nvSpPr>
          <p:cNvPr id="7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8" name="Picture 2" descr="Figure 24-4"/>
          <p:cNvPicPr/>
          <p:nvPr/>
        </p:nvPicPr>
        <p:blipFill>
          <a:blip r:embed="rId1"/>
          <a:stretch/>
        </p:blipFill>
        <p:spPr>
          <a:xfrm>
            <a:off x="1066680" y="1447920"/>
            <a:ext cx="7013520" cy="4952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ANALGESIA AND ANESTHESIA</a:t>
            </a:r>
            <a:endParaRPr b="0" lang="en-US" sz="3300" spc="-1" strike="noStrike">
              <a:solidFill>
                <a:srgbClr val="7b9899"/>
              </a:solidFill>
              <a:latin typeface="Georgia"/>
            </a:endParaRPr>
          </a:p>
        </p:txBody>
      </p:sp>
      <p:sp>
        <p:nvSpPr>
          <p:cNvPr id="7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nesthesia for breech decomposition and extraction must provide sufficient relaxation to allow intrauterine manipulation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EPIDURAL ANALGESIA-</a:t>
            </a:r>
            <a:r>
              <a:rPr b="0" lang="en-PH" sz="2700" spc="-1" strike="noStrike">
                <a:solidFill>
                  <a:srgbClr val="000000"/>
                </a:solidFill>
                <a:latin typeface="Georgia"/>
              </a:rPr>
              <a:t>provide sufficient relaxation to allow intrauterine manipul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GENERAL ANESTHESIA-</a:t>
            </a:r>
            <a:r>
              <a:rPr b="0" lang="en-PH" sz="2700" spc="-1" strike="noStrike">
                <a:solidFill>
                  <a:srgbClr val="000000"/>
                </a:solidFill>
                <a:latin typeface="Georgia"/>
              </a:rPr>
              <a:t>may be required to relax the uterus as well as to provide analgesi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MATERNAL INJURIES</a:t>
            </a:r>
            <a:endParaRPr b="0" lang="en-US" sz="3300" spc="-1" strike="noStrike">
              <a:solidFill>
                <a:srgbClr val="7b9899"/>
              </a:solidFill>
              <a:latin typeface="Georgia"/>
            </a:endParaRPr>
          </a:p>
        </p:txBody>
      </p:sp>
      <p:sp>
        <p:nvSpPr>
          <p:cNvPr id="7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increase the risk of infe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rupture of the uterus, lacerations of the cervix</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extensions of the episiotomy and deep perineal te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nesthesia sufficient to induce appreciable uterine relaxation may cause uterine atony and, in turn, postpartum hemorrha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3 CATEGORIES OF BREECH</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1.DOUBLE FOOTLING BREECH</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5" name="Picture 2" descr="Figure 24-3"/>
          <p:cNvPicPr/>
          <p:nvPr/>
        </p:nvPicPr>
        <p:blipFill>
          <a:blip r:embed="rId1"/>
          <a:stretch/>
        </p:blipFill>
        <p:spPr>
          <a:xfrm>
            <a:off x="2362320" y="2057400"/>
            <a:ext cx="4430520" cy="4191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FETAL INJURIES</a:t>
            </a:r>
            <a:endParaRPr b="0" lang="en-US" sz="3300" spc="-1" strike="noStrike">
              <a:solidFill>
                <a:srgbClr val="7b9899"/>
              </a:solidFill>
              <a:latin typeface="Georgia"/>
            </a:endParaRPr>
          </a:p>
        </p:txBody>
      </p:sp>
      <p:sp>
        <p:nvSpPr>
          <p:cNvPr id="75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racture of the humerus, clavicle and femu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Hematomas of the sternocleidomastoid musc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achial plexus inju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5" name="Picture 2" descr="Figure 24-22"/>
          <p:cNvPicPr/>
          <p:nvPr/>
        </p:nvPicPr>
        <p:blipFill>
          <a:blip r:embed="rId1"/>
          <a:srcRect l="0" t="0" r="0" b="7997"/>
          <a:stretch/>
        </p:blipFill>
        <p:spPr>
          <a:xfrm>
            <a:off x="4343400" y="2514600"/>
            <a:ext cx="3987720" cy="396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VERSION</a:t>
            </a:r>
            <a:endParaRPr b="0" lang="en-US" sz="3300" spc="-1" strike="noStrike">
              <a:solidFill>
                <a:srgbClr val="7b9899"/>
              </a:solidFill>
              <a:latin typeface="Georgia"/>
            </a:endParaRPr>
          </a:p>
        </p:txBody>
      </p:sp>
      <p:sp>
        <p:nvSpPr>
          <p:cNvPr id="757"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ocedure in which the fetal presentation is altered by physical manipulation, either substituting one pole of a longitudinal presentation for the other or converting an oblique or transverse lie into a longitudinal presentation</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PODALIC  VERSION-</a:t>
            </a:r>
            <a:r>
              <a:rPr b="0" lang="en-PH" sz="2700" spc="-1" strike="noStrike">
                <a:solidFill>
                  <a:srgbClr val="000000"/>
                </a:solidFill>
                <a:latin typeface="Georgia"/>
              </a:rPr>
              <a:t>the head or breech is made the presenting par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EXTERNAL CEPHALIC VERSION-</a:t>
            </a:r>
            <a:r>
              <a:rPr b="0" lang="en-PH" sz="2700" spc="-1" strike="noStrike">
                <a:solidFill>
                  <a:srgbClr val="000000"/>
                </a:solidFill>
                <a:latin typeface="Georgia"/>
              </a:rPr>
              <a:t>manipulations are performed exclusively through the abdominal wall</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0" name="Picture 2" descr="Figure 24-23"/>
          <p:cNvPicPr/>
          <p:nvPr/>
        </p:nvPicPr>
        <p:blipFill>
          <a:blip r:embed="rId1"/>
          <a:stretch/>
        </p:blipFill>
        <p:spPr>
          <a:xfrm>
            <a:off x="533520" y="1371600"/>
            <a:ext cx="7983360" cy="4952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INDICATIONS OF EXTERNAL CEPHALIC VERSION</a:t>
            </a:r>
            <a:endParaRPr b="0" lang="en-US" sz="3000" spc="-1" strike="noStrike">
              <a:solidFill>
                <a:srgbClr val="7b9899"/>
              </a:solidFill>
              <a:latin typeface="Georgia"/>
            </a:endParaRPr>
          </a:p>
        </p:txBody>
      </p:sp>
      <p:sp>
        <p:nvSpPr>
          <p:cNvPr id="7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breech presentation is recognized prior to labor in a woman who has reached 36 weeks' gestation, external cephalic version should be consider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should nIncreasing parityot be attempted if there is a contraindication to vaginal delive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ior uterine incision is a relative contraindic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FACTORS ASSOCIATED WITH SUCCESSFUL VERSION</a:t>
            </a:r>
            <a:endParaRPr b="0" lang="en-US" sz="3000" spc="-1" strike="noStrike">
              <a:solidFill>
                <a:srgbClr val="7b9899"/>
              </a:solidFill>
              <a:latin typeface="Georgia"/>
            </a:endParaRPr>
          </a:p>
        </p:txBody>
      </p:sp>
      <p:sp>
        <p:nvSpPr>
          <p:cNvPr id="76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Increasing par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presentation, and then the amount of amnionic flui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Gestational a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maternal obesity, anterior placenta, cervical dilatation, descent of the breech into the pelvis, and anterior or posterior positioning of the fetal spin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TECHNIQU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TZ is performed to confirm nonvertex presentation and adequacy of amnionic fluid volume, to rule out obvious fetal anomalies if not done previously, and to identify placental loc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External monitoring is performed to assess fetal heart rate reactivit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The nonstress test is repeated after version until a normal test result is obtain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FORWARD ROLL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Each hand grasps one of the fetal poles, and the buttocks are elevated from the maternal pelvis and displaced laterall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The buttocks are then gently guided toward the fundus, while the head is directed </a:t>
            </a:r>
            <a:r>
              <a:rPr b="0" lang="en-PH" sz="2700" spc="-1" strike="noStrike">
                <a:solidFill>
                  <a:srgbClr val="000000"/>
                </a:solidFill>
                <a:latin typeface="Georgia"/>
              </a:rPr>
              <a:t>	</a:t>
            </a:r>
            <a:r>
              <a:rPr b="0" lang="en-PH" sz="2700" spc="-1" strike="noStrike">
                <a:solidFill>
                  <a:srgbClr val="000000"/>
                </a:solidFill>
                <a:latin typeface="Georgia"/>
              </a:rPr>
              <a:t>toward the pelv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BACKWARD FL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CONDUCTION ANALGESIA-</a:t>
            </a:r>
            <a:r>
              <a:rPr b="0" lang="en-PH" sz="2700" spc="-1" strike="noStrike">
                <a:solidFill>
                  <a:srgbClr val="000000"/>
                </a:solidFill>
                <a:latin typeface="Georgia"/>
              </a:rPr>
              <a:t> increased success with version when epidural analgesia is used</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TOCOLYSIS-</a:t>
            </a:r>
            <a:r>
              <a:rPr b="0" lang="en-PH" sz="2700" spc="-1" strike="noStrike">
                <a:solidFill>
                  <a:srgbClr val="000000"/>
                </a:solidFill>
                <a:latin typeface="Georgia"/>
              </a:rPr>
              <a:t> uterine relaxation with a tocolytic ag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COMPLICATIONS</a:t>
            </a:r>
            <a:endParaRPr b="0" lang="en-US" sz="3300" spc="-1" strike="noStrike">
              <a:solidFill>
                <a:srgbClr val="7b9899"/>
              </a:solidFill>
              <a:latin typeface="Georgia"/>
            </a:endParaRPr>
          </a:p>
        </p:txBody>
      </p:sp>
      <p:sp>
        <p:nvSpPr>
          <p:cNvPr id="77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lacental abrup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terine ruptur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mnionic fluid embolis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omaternal hemorrhag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Isoimmuniza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Preterm labor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distr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Fetal demis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INTERNAL VERSION</a:t>
            </a:r>
            <a:endParaRPr b="0" lang="en-US" sz="3300" spc="-1" strike="noStrike">
              <a:solidFill>
                <a:srgbClr val="7b9899"/>
              </a:solidFill>
              <a:latin typeface="Georgia"/>
            </a:endParaRPr>
          </a:p>
        </p:txBody>
      </p:sp>
      <p:sp>
        <p:nvSpPr>
          <p:cNvPr id="77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accomplished inside the uterine cav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700" spc="-1" strike="noStrike">
                <a:solidFill>
                  <a:srgbClr val="000000"/>
                </a:solidFill>
                <a:latin typeface="Georgia"/>
              </a:rPr>
              <a:t>used only for delivery of a second twi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3 CATEGORIES OF BREECH</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2.COMPLETE BREECH</a:t>
            </a:r>
            <a:endParaRPr b="0" lang="en-US" sz="2700" spc="-1" strike="noStrike">
              <a:solidFill>
                <a:srgbClr val="000000"/>
              </a:solidFill>
              <a:latin typeface="Georgia"/>
            </a:endParaRPr>
          </a:p>
        </p:txBody>
      </p:sp>
      <p:pic>
        <p:nvPicPr>
          <p:cNvPr id="628" name="Picture 2" descr="Figure 24-2"/>
          <p:cNvPicPr/>
          <p:nvPr/>
        </p:nvPicPr>
        <p:blipFill>
          <a:blip r:embed="rId1"/>
          <a:stretch/>
        </p:blipFill>
        <p:spPr>
          <a:xfrm>
            <a:off x="1676520" y="2057400"/>
            <a:ext cx="4952880" cy="4282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INTERNAL VERSION</a:t>
            </a:r>
            <a:endParaRPr b="0" lang="en-US" sz="3300" spc="-1" strike="noStrike">
              <a:solidFill>
                <a:srgbClr val="7b9899"/>
              </a:solidFill>
              <a:latin typeface="Georgia"/>
            </a:endParaRPr>
          </a:p>
        </p:txBody>
      </p:sp>
      <p:sp>
        <p:nvSpPr>
          <p:cNvPr id="776" name=""/>
          <p:cNvSpPr txBox="1"/>
          <p:nvPr/>
        </p:nvSpPr>
        <p:spPr>
          <a:xfrm>
            <a:off x="301320" y="1527120"/>
            <a:ext cx="8504280" cy="4572000"/>
          </a:xfrm>
          <a:prstGeom prst="rect">
            <a:avLst/>
          </a:prstGeom>
          <a:noFill/>
          <a:ln w="0">
            <a:noFill/>
          </a:ln>
        </p:spPr>
        <p:txBody>
          <a:bodyPr anchor="t">
            <a:normAutofit/>
          </a:bodyPr>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Insertion of a hand into the uterine cavity to turn the fetus manually.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The operator seizes one or both feet and draws them through the fully dilated cervix while using the other hand to transabdominally push the upper portion of the fetal body in the opposite direction.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Georgia"/>
              </a:rPr>
              <a:t>The operation is followed by breech extraction</a:t>
            </a: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46b86"/>
                </a:solidFill>
                <a:latin typeface="Georgia"/>
              </a:rPr>
              <a:t>THANK YOU</a:t>
            </a:r>
            <a:endParaRPr b="0" lang="en-US" sz="6000" spc="-1" strike="noStrike">
              <a:solidFill>
                <a:srgbClr val="000000"/>
              </a:solidFill>
              <a:latin typeface="Georgia"/>
            </a:endParaRPr>
          </a:p>
        </p:txBody>
      </p:sp>
      <p:sp>
        <p:nvSpPr>
          <p:cNvPr id="778"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4200" spc="-1" strike="noStrike">
              <a:solidFill>
                <a:srgbClr val="d1634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300" spc="-1" strike="noStrike">
                <a:solidFill>
                  <a:srgbClr val="7b9899"/>
                </a:solidFill>
                <a:latin typeface="Georgia"/>
              </a:rPr>
              <a:t>3 CATEGORIES OF BREECH</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PH" sz="2700" spc="-1" strike="noStrike">
                <a:solidFill>
                  <a:srgbClr val="000000"/>
                </a:solidFill>
                <a:latin typeface="Georgia"/>
              </a:rPr>
              <a:t>3.FRANK BREECH </a:t>
            </a:r>
            <a:endParaRPr b="0" lang="en-US" sz="2700" spc="-1" strike="noStrike">
              <a:solidFill>
                <a:srgbClr val="000000"/>
              </a:solidFill>
              <a:latin typeface="Georgia"/>
            </a:endParaRPr>
          </a:p>
        </p:txBody>
      </p:sp>
      <p:pic>
        <p:nvPicPr>
          <p:cNvPr id="631" name="Picture 2" descr="Figure 24-1"/>
          <p:cNvPicPr/>
          <p:nvPr/>
        </p:nvPicPr>
        <p:blipFill>
          <a:blip r:embed="rId1"/>
          <a:stretch/>
        </p:blipFill>
        <p:spPr>
          <a:xfrm>
            <a:off x="1905120" y="2057400"/>
            <a:ext cx="467820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3000" spc="-1" strike="noStrike">
                <a:solidFill>
                  <a:srgbClr val="7b9899"/>
                </a:solidFill>
                <a:latin typeface="Georgia"/>
              </a:rPr>
              <a:t>ABDOMINAL EXAMINATION:</a:t>
            </a:r>
            <a:br>
              <a:rPr sz="3000"/>
            </a:br>
            <a:r>
              <a:rPr b="1" lang="en-PH" sz="3000" spc="-1" strike="noStrike">
                <a:solidFill>
                  <a:srgbClr val="7b9899"/>
                </a:solidFill>
                <a:latin typeface="Georgia"/>
              </a:rPr>
              <a:t>LEOPOLD’S MANEUVER</a:t>
            </a:r>
            <a:endParaRPr b="0" lang="en-US" sz="30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4" name="Picture 2" descr="Figure 24-23"/>
          <p:cNvPicPr/>
          <p:nvPr/>
        </p:nvPicPr>
        <p:blipFill>
          <a:blip r:embed="rId1"/>
          <a:srcRect l="0" t="0" r="0" b="10168"/>
          <a:stretch/>
        </p:blipFill>
        <p:spPr>
          <a:xfrm>
            <a:off x="685800" y="1600200"/>
            <a:ext cx="77770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5T06:35:36Z</dcterms:created>
  <dc:creator>Carla L. dela Cruz, MD.</dc:creator>
  <dc:description/>
  <dc:language>en-US</dc:language>
  <cp:lastModifiedBy>joseph c. nash</cp:lastModifiedBy>
  <dcterms:modified xsi:type="dcterms:W3CDTF">2012-06-07T04:57:42Z</dcterms:modified>
  <cp:revision>5</cp:revision>
  <dc:subject/>
  <dc:title>Slide 1</dc:title>
</cp:coreProperties>
</file>