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AC80-3827-4024-92FF-8FE459C2AF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67B9-78E4-4EB1-A533-1802654E2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F5F4-0C68-42CC-B5B2-50A0F426D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8FCD-10CC-4D8D-9DB1-F3B7615A0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EA11-8D72-454C-A708-F549EB1A6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0F07-668B-4C57-8EFC-7935466C1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A83D-8F3D-4FBD-BDBA-E06F1F6E3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768F-61A3-4FAA-BAC1-17297F329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1578-AC8B-48FA-B6E2-E5661EF74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CE0A-DEF0-41C7-A96A-8A6704138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8B51-B588-44DF-8F38-A3507E49A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4C67-AB21-4652-937D-1782DEE7F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4A07-DFD2-4DDB-BECC-B587486EC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3064-5BBA-467A-92C6-5A5131FF5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D110-7D1C-4A0D-BF10-F5A301727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3AA4-1221-437F-9EA3-7E772537F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E627-B395-43E8-8960-80D423BE7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BA06-63E6-4DB9-863C-AB089E74F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084B-4360-413A-AA3C-C895F7A46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5588-2F54-44AF-B051-C030658ED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7BF1-DF02-48B0-BE19-3E239B546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FA63-C038-4DC5-8590-87020F057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B3AB-25AA-442A-92F8-8AB7FEB68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FA5F-515D-4B1E-8BBB-72A431F77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543E-FC3E-4E83-8B97-F21A9B0C5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1D28-5C38-454E-9CA4-0A9ADB8E4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8C9E-E4A1-43E8-8B37-F43EFC178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564F-8B62-4903-875D-F80CFB12C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7957-F449-42C0-848A-BF1DBB46D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4AFA-B8C6-4CFA-84AD-1E2FBDE82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5E5B-528E-4963-A7C2-26C66873B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41D2-DF0D-43EF-95F1-B46716D13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FFEE-56A2-4DE5-BED5-A1B6359CF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18E2-D364-492B-915F-7E7A977E3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75D6-0A45-428B-B194-4E354E3EF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C4B0-501B-4E02-8F85-22B9E2D2A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D5FC-FF85-470C-8D21-007CB199D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0396-A8C2-4D7C-BF1B-614969A23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A85A-83A8-4B38-B429-9F6EFA193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C3CB-4D5B-4EA7-809C-B5B8AA4F9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B146-35FD-4027-9CCD-B357AEF1D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C2F8-0D7C-42F7-A539-6F0C052CE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94FF-2810-4A84-BA75-9CB19FE26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3E36-7C7F-4A91-938F-8D0781E04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2109-EC2F-4474-88F7-AB106E911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6F71-3F05-4602-8A4A-28FF8319C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FBA3-FA6D-4B2B-9D9E-5182ABD0B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0481-53AA-4902-B480-336B1D718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4BD5-7FB2-4951-82EE-FD2B0A48C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5402-BD46-4C9E-BA25-4FA81B0D9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D24C-71A3-4BC9-B44D-341A903F9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D1E3-1D56-4D9C-B1A1-24ADFA25B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81D8-8E23-47AE-B9C4-58CBE4C3F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647D-C1DF-42DE-98C2-6B8B0BC7A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69F7-BB61-4504-8C91-5987464C6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5D1C-CCFA-4706-9EB8-74673D464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2DCE-F236-4EA0-948D-E0E8992BD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9EAF-9080-4295-8924-C5022D16F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DBBE-289F-43EF-994F-06CD0E49C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4A22-2E33-4581-B9E9-4DB097E38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72D7-1CAC-4AD6-83B5-C160B163A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2CF1-BFFC-4547-A975-7E76FDBF0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0EA8-5BC9-47BA-B469-D165DEBCC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C799-F1A4-493F-83F4-CE0E03199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5E0D-DD10-4C27-84BF-B6CF22377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6272-80D1-4514-922C-684D76AA9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E904-C991-4026-862B-958D72A62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AAF3-2F1D-419D-8C82-2D1D9DAC62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7801-0175-4F5A-A899-C2794770B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A0CE-DA0E-43C5-8659-1745731B7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C567-D159-482B-9C8C-173F5B2C6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01098-BB54-4A01-8E83-965D712BB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6648-19AF-451F-8663-38CA0BBD2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1C94DA8-5815-48F2-B296-7B13ED8DFD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9900879-76D5-4791-AC33-015F4B3D22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0823281-0536-4C7F-8C95-D2E0865FCC7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709BEE-164D-4C67-B16E-9D7A9A8582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645C4FC-0B47-4D4B-9BBD-D488B4139C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86BB9FD-E5C3-4751-A933-158F6E8355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B19E458-DDD6-4468-A7F4-45B538E74E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777731B-5C00-4EE3-8BBE-CE510F85320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9D65648-9493-486B-A4AA-312F61ECF56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29FE288-1D60-4603-A40B-44816F13FE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263F1-FFA3-48D8-B9DB-DBD67993C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643C63C-47A1-4B12-8D34-A90716455A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4E87A3-059F-4BD1-B271-1F226F85E0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7DA3379-3B4F-496F-812D-FE0067F474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F521F83-E5ED-4A85-852B-17470686A2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AF368B-99BB-429F-A485-37FF9A641D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4D489FC-6E73-4DF2-A90A-46FA54652E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4F6F12-31D8-448F-B4CA-E38078A363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0AC09A-3565-4B37-BB1C-8749930AA4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B22CAE5-64E9-4E54-95A2-F1D1CC16DC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2B683B6-1751-4E2E-9AA7-4873EBEC10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FE969-BE95-48E0-AAAF-1959E72B2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DD5D1A7-2318-4035-8048-730ADF85E6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5B0E47-B742-49DF-8830-B8F3DC75E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05D499-AFE2-4AC0-94B7-B37942E5DC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D77A56-CE56-4BB5-8734-ED76ACF1BB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BF9ED6-391B-4493-917F-681924C247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916D9E-5979-4F5D-8F5F-B89E46874A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80B8DC-6622-475C-89B1-C2BCEA172D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5EB46A-64A2-4D32-98AD-9D55602746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3BD3A8-B004-49A0-BEFF-A083376AE5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4D6393-B059-4377-8679-B1BE4C2BD4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62067-3E11-4933-871D-7E711BD08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45FDC0-ED2E-4158-9875-8A272D6BEA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E586D7-B729-49DA-9F5F-5CCC151CC8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D94D36-DB68-4BCC-99D7-92F90B1F80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52056F4-D1FF-4871-A8C3-6675F84EBC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C375B9A-2570-432C-81A3-68BE409B1F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A0FA12D-4E19-40BB-9883-9B12E2CF38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E4CEEEF-F4C7-4EA0-8A04-1519D60322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2CE2B03-F112-4236-8E76-79FE4C34AA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30B1993-3A53-46B9-BAB9-D0BE901B08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F5DD3A-3251-4C2C-B0D3-E7CE8F3B9C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BB9E2-1B94-4991-A5DF-0CAE1BC8F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BB1452-8B47-4167-8007-D8BD162696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B0FDCD-7453-4BC3-B427-9134A8DAC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F0B33F5-258B-485C-9FFB-48DF5C5C36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CED7CF7-ADF0-4470-A19C-844259FC2B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821678E-8753-429D-B81C-3189E4F50D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E5929-FC72-44F2-A7D7-3296B0F0E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563CD-0264-411A-82C8-BD7D8128A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D6359-EE3B-4255-B6E3-D4CC0F13E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8FEFD-1835-4BFD-972F-4239728E5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324AB-5EDA-4486-9994-DC295BAF2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D27A-5D1F-482A-96A8-672F4A94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A1CD1-6F98-4FB5-AEE0-878DC7AF0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39169-00A4-4114-90FA-CFB0149EA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3C042-FBC0-4CCF-AE15-23E662E51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362AF-10E0-4708-A5AF-8BA428394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2B135-0B07-4DEA-ABDF-6FBB8171A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27ACF-1BC9-4BBE-BDF0-FB2363079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510C7-B863-4467-BF62-282E0E8CE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D0A2C-73AF-4840-97A1-ED5AE37BC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9EC78-F3BC-4B52-85A6-94C0517BF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85FAB-AE5B-465C-AA1A-D56F1C6A4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7221-AE98-4B74-A02A-4ABF7B8E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5D3B9F-3C12-425A-A406-07D7F265B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DE131-37E4-4017-A4A8-1934E7E1C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7FA3F-E5D8-49C8-8BCD-902D23234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ECCFF-BBAE-4C9F-89C5-B0FAD3709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FD06F-B120-4FFA-89E5-E598F2C4A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FF571D-6CE6-4CB0-904F-8E479DD8DF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E56C3B-2413-4DE4-8829-94A4832FB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18C57F7-2C5A-4CF6-8E2F-B41F314E48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3F91DC9-AD3F-4BDD-ABB7-B390BC3F47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6A159B-B150-4265-8470-86724C262E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F198B-3F21-42E9-846B-F7A1C4D73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A8CEBCC-93F2-47D2-B85B-C8DD836597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1608CC9-95D2-4A8D-9BA1-BB8A03C96F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F19FD05-4096-4F18-817C-1A069136B2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2FA3D8-E57F-4C99-80C1-0B3167D4EB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A55E26-096E-40F5-BB8D-5FC70C7F46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4921B8-1852-4D69-B50E-6D988397DE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8E9D19A-05A4-4585-82C4-6DEF4C713E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2D321F6-75B2-4461-84CA-D1BA64DEDA4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347159F-DF7F-4EDD-8871-4EAF916C200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A88B25-6696-4967-B5CE-B7E136DC0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44CA3-E9A4-49F1-B7D5-981DCA6C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B7873-A821-47EC-8897-D720C6DDD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39360-7567-41B1-9908-B1A2889DA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57E81-5B59-4BC3-81EB-210FB0B7EA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484F2-2CF7-4F26-A59E-F4E4412D9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4F4DB-49AD-40B2-A9FB-721F37422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D8C36-81E4-405D-A012-106EB55E8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CAF3A-131C-437E-AD33-75DA5CE4A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22D5B-D371-4E0C-9C5A-9F41EC24F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F9CA6-92A4-456F-B825-D65EDF68D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3DFA24-B95A-422A-98F7-10AD4BE9DB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4BD9-638A-4CE6-8261-9A0A4F1E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C5E27A-1122-4FBF-8987-BE9B90B697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A406A0-3970-42B4-BC21-70842A096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8D11A-0836-4A52-827A-8A7535A79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7902B-22A2-47C2-B1DD-8A7AD96BB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CEB70-AE05-4B25-B658-F9DD54FA3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AE6DF-5CE8-4ADC-8922-C46E49140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1AA63-C282-4462-9DB7-6B657216A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777BBA-DD36-41F8-A3FC-74C9A068F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5182C-7271-43B9-AFD1-360491B0C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C2851-6023-4F26-B450-E1E0A11A2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76E7-54ED-4C74-B820-E9B5D7166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8708A-638E-40D1-AEF8-489DB4970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1C2CC8-B43A-464E-AF15-D0FB1533E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2D662D-42F0-4327-98A4-B138E9DD2B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268C01-06D8-44B3-BD4D-DFF235799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61C4CA-E6DB-4D6B-B854-C0466EE7A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DA3AF-5607-4DCE-884B-22440AD36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7939E8-8250-4D23-A974-FC7DD684E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7DA55-6A00-4675-A3AB-F97EA028F5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3241E-5293-4F8B-90F6-34A283186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871CF-1D38-48F5-A3E0-AD699D1093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5EEDF-7F39-4685-9547-826A063DA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DFF4B-EBAC-497F-A28F-BFAD3E07C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8BE6E-3E93-4F86-8808-7A1CCA130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9F2F4-69A7-49D3-B69C-F62F07275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659C53-9118-45DA-B11F-2236DD3487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86C7D2-3877-4C4D-B488-0B9F90EE3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6E425F-5139-48FF-87EF-C88F7E0596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A705F-309D-436A-807F-943B7076AC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B96B5-5339-4748-946C-6E58E9D8F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D4974F-34E1-4E57-B6CB-666DFE7E5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ED7BC-7E39-48FF-91F7-581A025A4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ABEA-0C04-48A9-AE9B-7E0088D7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E2FF2-1D52-4CCA-A421-A8D4A69A1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069F76-495C-48EC-959D-D76633352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FC1B6-B071-4326-9AF7-2677F5471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C76AA-5849-489C-94AB-A922A3C02E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458C6-B03E-480E-A2DE-A84578586A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983E41-BC5F-45BE-81E6-4E09AA981A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96658D-5F5D-48D7-9F36-F1FAF01AF0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4CBFB97-8B62-4D6D-9C21-6E51EEEA712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970C77F-7EBD-4783-8182-CE69F038193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7A4FEF6-8933-4195-8DF6-C4FE5B2C262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DF42-257E-4D6F-BD44-393AFAB8D49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F9E8-555B-4619-AB3F-F51F154FEDE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2AEC-9B7F-441B-BA94-0BE28C76ACE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667B-48F1-48EE-BCC8-5B6EFE54A1E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3021-5362-4F51-AF87-478E2204156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BD91-EDB5-4AC7-9296-7829BC99570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C43C-331E-4C28-9F65-0AB019AFBAE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A400-A372-4EC9-A0A6-843684F658B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E8C8-AEA9-46D4-AB17-9B996C0225D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F7A5-6C16-4141-9852-1072F291CF3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DB92-FA87-48AE-9E0A-2CC1F8A68D3C}"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5F6A-46E6-456C-95BE-62707AFB122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16349"/>
                </a:solidFill>
                <a:latin typeface="Georgia"/>
              </a:rPr>
              <a:t>BREECH DELIVERY and</a:t>
            </a:r>
            <a:br>
              <a:rPr sz="4200"/>
            </a:br>
            <a:r>
              <a:rPr b="1" lang="en-US" sz="4200" spc="-1" strike="noStrike">
                <a:solidFill>
                  <a:srgbClr val="d16349"/>
                </a:solidFill>
                <a:latin typeface="Georgia"/>
              </a:rPr>
              <a:t>VACUUM EXTRACT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BDOMINAL EXAMINATION:</a:t>
            </a:r>
            <a:br>
              <a:rPr sz="3000"/>
            </a:br>
            <a:r>
              <a:rPr b="1" lang="en-PH" sz="3000" spc="-1" strike="noStrike">
                <a:solidFill>
                  <a:srgbClr val="7b9899"/>
                </a:solidFill>
                <a:latin typeface="Georgia"/>
              </a:rPr>
              <a:t>LEOPOLD’S MANEUVER</a:t>
            </a:r>
            <a:endParaRPr b="0" lang="en-US" sz="3000" spc="-1" strike="noStrike">
              <a:solidFill>
                <a:srgbClr val="7b9899"/>
              </a:solidFill>
              <a:latin typeface="Georgia"/>
            </a:endParaRPr>
          </a:p>
        </p:txBody>
      </p:sp>
      <p:sp>
        <p:nvSpPr>
          <p:cNvPr id="636" name=""/>
          <p:cNvSpPr txBox="1"/>
          <p:nvPr/>
        </p:nvSpPr>
        <p:spPr>
          <a:xfrm>
            <a:off x="301320" y="1905120"/>
            <a:ext cx="8504280" cy="4572000"/>
          </a:xfrm>
          <a:prstGeom prst="rect">
            <a:avLst/>
          </a:prstGeom>
          <a:noFill/>
          <a:ln w="0">
            <a:noFill/>
          </a:ln>
        </p:spPr>
        <p:txBody>
          <a:bodyPr anchor="t">
            <a:normAutofit fontScale="98000"/>
          </a:bodyPr>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1</a:t>
            </a:r>
            <a:r>
              <a:rPr b="1" lang="en-PH" sz="2300" spc="-1" strike="noStrike" baseline="30000">
                <a:solidFill>
                  <a:srgbClr val="000000"/>
                </a:solidFill>
                <a:latin typeface="Georgia"/>
              </a:rPr>
              <a:t>st</a:t>
            </a:r>
            <a:r>
              <a:rPr b="0" lang="en-PH" sz="2300" spc="-1" strike="noStrike">
                <a:solidFill>
                  <a:srgbClr val="000000"/>
                </a:solidFill>
                <a:latin typeface="Georgia"/>
              </a:rPr>
              <a:t> - hard, round, readily ballotable fetal head is found to occupy the fundus</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2</a:t>
            </a:r>
            <a:r>
              <a:rPr b="1" lang="en-PH" sz="2300" spc="-1" strike="noStrike" baseline="30000">
                <a:solidFill>
                  <a:srgbClr val="000000"/>
                </a:solidFill>
                <a:latin typeface="Georgia"/>
              </a:rPr>
              <a:t>nd</a:t>
            </a:r>
            <a:r>
              <a:rPr b="1" lang="en-PH" sz="2300" spc="-1" strike="noStrike">
                <a:solidFill>
                  <a:srgbClr val="000000"/>
                </a:solidFill>
                <a:latin typeface="Georgia"/>
              </a:rPr>
              <a:t> </a:t>
            </a:r>
            <a:r>
              <a:rPr b="0" lang="en-PH" sz="2300" spc="-1" strike="noStrike">
                <a:solidFill>
                  <a:srgbClr val="000000"/>
                </a:solidFill>
                <a:latin typeface="Georgia"/>
              </a:rPr>
              <a:t>- indicates the back to be on one side of the abdomen and the small parts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on the other</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3</a:t>
            </a:r>
            <a:r>
              <a:rPr b="1" lang="en-PH" sz="2300" spc="-1" strike="noStrike" baseline="30000">
                <a:solidFill>
                  <a:srgbClr val="000000"/>
                </a:solidFill>
                <a:latin typeface="Georgia"/>
              </a:rPr>
              <a:t>rd</a:t>
            </a:r>
            <a:r>
              <a:rPr b="0" lang="en-PH" sz="2300" spc="-1" strike="noStrike">
                <a:solidFill>
                  <a:srgbClr val="000000"/>
                </a:solidFill>
                <a:latin typeface="Georgia"/>
              </a:rPr>
              <a:t> - if engagement has not occurred—the intertrochanteric diameter of the fetal pelvis has not passed through the pelvic inlet—the breech is movable above the pelvic inlet</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4</a:t>
            </a:r>
            <a:r>
              <a:rPr b="1" lang="en-PH" sz="2300" spc="-1" strike="noStrike" baseline="30000">
                <a:solidFill>
                  <a:srgbClr val="000000"/>
                </a:solidFill>
                <a:latin typeface="Georgia"/>
              </a:rPr>
              <a:t>th</a:t>
            </a:r>
            <a:r>
              <a:rPr b="0" lang="en-PH" sz="2300" spc="-1" strike="noStrike">
                <a:solidFill>
                  <a:srgbClr val="000000"/>
                </a:solidFill>
                <a:latin typeface="Georgia"/>
              </a:rPr>
              <a:t> - shows the firm breech to be beneath the symphysis</a:t>
            </a:r>
            <a:endParaRPr b="0" lang="en-US" sz="2300" spc="-1" strike="noStrike">
              <a:solidFill>
                <a:srgbClr val="000000"/>
              </a:solidFill>
              <a:latin typeface="Georgi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Breech Presentation</a:t>
            </a:r>
            <a:r>
              <a:rPr b="0" lang="en-PH" sz="2300" spc="-1" strike="noStrike">
                <a:solidFill>
                  <a:srgbClr val="000000"/>
                </a:solidFill>
                <a:latin typeface="Georgia"/>
              </a:rPr>
              <a:t>-Fetal heart sounds usually are heard loudest slightly above the umbilicus</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ephalic Breech</a:t>
            </a:r>
            <a:r>
              <a:rPr b="0" lang="en-PH" sz="2300" spc="-1" strike="noStrike">
                <a:solidFill>
                  <a:srgbClr val="000000"/>
                </a:solidFill>
                <a:latin typeface="Georgia"/>
              </a:rPr>
              <a:t>- the heart sounds are loudest below the umbilicus</a:t>
            </a:r>
            <a:endParaRPr b="0" lang="en-US" sz="2300" spc="-1" strike="noStrike">
              <a:solidFill>
                <a:srgbClr val="000000"/>
              </a:solidFill>
              <a:latin typeface="Georgi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AGINAL EXAMINATION</a:t>
            </a:r>
            <a:endParaRPr b="0" lang="en-US" sz="3300" spc="-1" strike="noStrike">
              <a:solidFill>
                <a:srgbClr val="7b9899"/>
              </a:solidFill>
              <a:latin typeface="Georgia"/>
            </a:endParaRPr>
          </a:p>
        </p:txBody>
      </p:sp>
      <p:graphicFrame>
        <p:nvGraphicFramePr>
          <p:cNvPr id="638" name=""/>
          <p:cNvGraphicFramePr/>
          <p:nvPr/>
        </p:nvGraphicFramePr>
        <p:xfrm>
          <a:off x="228600" y="1447920"/>
          <a:ext cx="8610480" cy="5029200"/>
        </p:xfrm>
        <a:graphic>
          <a:graphicData uri="http://schemas.openxmlformats.org/drawingml/2006/table">
            <a:tbl>
              <a:tblPr/>
              <a:tblGrid>
                <a:gridCol w="2666880"/>
                <a:gridCol w="5943600"/>
              </a:tblGrid>
              <a:tr h="51732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CATEGORIES OF BREECH</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451188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FRANK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ischial tuberosities, the sacrum, and the anus usually are palpabl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after further descent, the external genitalia may be distinguish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anus may be mistaken for the mouth and the ischial      tuberosities for the malar eminences</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nger encounters muscular resistance with the anus</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nger, upon removal from the anus, sometimes is stained with meconium</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rmer, less yielding jaws are felt through the mouth</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mouth and malar eminences form a triangular shape, whereas the ischial tuberosities and anus are in a straight lin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1800" spc="-1" strike="noStrike">
                          <a:solidFill>
                            <a:srgbClr val="000000"/>
                          </a:solidFill>
                          <a:latin typeface="Calibri"/>
                          <a:ea typeface="Calibri"/>
                        </a:rPr>
                        <a:t>the most accurate information</a:t>
                      </a:r>
                      <a:r>
                        <a:rPr b="1" lang="en-PH" sz="1800" spc="-1" strike="noStrike">
                          <a:solidFill>
                            <a:srgbClr val="000000"/>
                          </a:solidFill>
                          <a:latin typeface="Calibri"/>
                          <a:ea typeface="Calibri"/>
                        </a:rPr>
                        <a:t>: the location of </a:t>
                      </a:r>
                      <a:r>
                        <a:rPr b="1" lang="en-PH" sz="1800" spc="-1" strike="noStrike" u="sng">
                          <a:solidFill>
                            <a:srgbClr val="000000"/>
                          </a:solidFill>
                          <a:uFillTx/>
                          <a:latin typeface="Calibri"/>
                          <a:ea typeface="Calibri"/>
                        </a:rPr>
                        <a:t>the sacrum and its spinous processes, establishes the diagnosis of position and variety</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AGINAL EXAMINATION</a:t>
            </a:r>
            <a:endParaRPr b="0" lang="en-US" sz="3300" spc="-1" strike="noStrike">
              <a:solidFill>
                <a:srgbClr val="7b9899"/>
              </a:solidFill>
              <a:latin typeface="Georgia"/>
            </a:endParaRPr>
          </a:p>
        </p:txBody>
      </p:sp>
      <p:graphicFrame>
        <p:nvGraphicFramePr>
          <p:cNvPr id="640" name=""/>
          <p:cNvGraphicFramePr/>
          <p:nvPr/>
        </p:nvGraphicFramePr>
        <p:xfrm>
          <a:off x="228600" y="1447920"/>
          <a:ext cx="8610480" cy="3595680"/>
        </p:xfrm>
        <a:graphic>
          <a:graphicData uri="http://schemas.openxmlformats.org/drawingml/2006/table">
            <a:tbl>
              <a:tblPr/>
              <a:tblGrid>
                <a:gridCol w="2666880"/>
                <a:gridCol w="5943600"/>
              </a:tblGrid>
              <a:tr h="38088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CATEGORIES OF BREECH</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COMPLETE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feet may be felt alongside the buttocks</a:t>
                      </a:r>
                      <a:endParaRPr b="0" lang="en-US" sz="24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231624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FOOTLING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one or both feet are inferior to the buttocks</a:t>
                      </a:r>
                      <a:endParaRPr b="0" lang="en-US" sz="2400" spc="-1" strike="noStrike">
                        <a:solidFill>
                          <a:srgbClr val="000000"/>
                        </a:solidFill>
                        <a:latin typeface="Arial"/>
                      </a:endParaRPr>
                    </a:p>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foot can readily be identified as right or left on the basis of the </a:t>
                      </a:r>
                      <a:endParaRPr b="0" lang="en-US" sz="2400" spc="-1" strike="noStrike">
                        <a:solidFill>
                          <a:srgbClr val="000000"/>
                        </a:solidFill>
                        <a:latin typeface="Arial"/>
                      </a:endParaRPr>
                    </a:p>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relation to the great toe</a:t>
                      </a:r>
                      <a:endParaRPr b="0" lang="en-US" sz="24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MAGING TECHNIQUES</a:t>
            </a:r>
            <a:endParaRPr b="0" lang="en-US" sz="3300" spc="-1" strike="noStrike">
              <a:solidFill>
                <a:srgbClr val="7b9899"/>
              </a:solidFill>
              <a:latin typeface="Georgia"/>
            </a:endParaRPr>
          </a:p>
        </p:txBody>
      </p:sp>
      <p:sp>
        <p:nvSpPr>
          <p:cNvPr id="642" name=""/>
          <p:cNvSpPr txBox="1"/>
          <p:nvPr/>
        </p:nvSpPr>
        <p:spPr>
          <a:xfrm>
            <a:off x="301320" y="1447560"/>
            <a:ext cx="8504280" cy="52578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ULTRASOUND-</a:t>
            </a:r>
            <a:endParaRPr b="0" lang="en-US" sz="2300" spc="-1" strike="noStrike">
              <a:solidFill>
                <a:srgbClr val="000000"/>
              </a:solidFill>
              <a:latin typeface="Georgia"/>
            </a:endParaRPr>
          </a:p>
          <a:p>
            <a:pPr lvl="1" marL="547560" indent="-272880">
              <a:lnSpc>
                <a:spcPct val="80000"/>
              </a:lnSpc>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used to confirm a clinically suspected breech presentation and to identify, if possible, any fetal anomalie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If cesarean delivery is planned, additional imaging is not indicated. If, however, vaginal delivery is considered, the type of breech presentation and the degree of flexion or deflexion of the head is important.</a:t>
            </a:r>
            <a:endParaRPr b="0" lang="en-US" sz="20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T SCAN</a:t>
            </a:r>
            <a:endParaRPr b="0" lang="en-US" sz="2300" spc="-1" strike="noStrike">
              <a:solidFill>
                <a:srgbClr val="000000"/>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will provide pelvic measurements and configuration at lower doses of radiation than standard radiography</a:t>
            </a:r>
            <a:endParaRPr b="0" lang="en-US" sz="22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MRI</a:t>
            </a:r>
            <a:endParaRPr b="0" lang="en-US" sz="2300" spc="-1" strike="noStrike">
              <a:solidFill>
                <a:srgbClr val="000000"/>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provides reliable information about pelvic capacity and architecture without ionizing radiation</a:t>
            </a:r>
            <a:endParaRPr b="0" lang="en-US" sz="2200" spc="-1" strike="noStrike">
              <a:solidFill>
                <a:srgbClr val="646b86"/>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not always readily available</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PROGNOSI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oth mother and fetus are at greater risk with breech presentation compared with cephalic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may not be coincidental, but rather is a consequence of poor fetal qu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Obstetrical intervention will not eliminate all mortality and long-term morbidity associated with breech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PERINATAL MORBIDITY AND MORTALITY</a:t>
            </a:r>
            <a:endParaRPr b="0" lang="en-US" sz="3000" spc="-1" strike="noStrike">
              <a:solidFill>
                <a:srgbClr val="7b9899"/>
              </a:solidFill>
              <a:latin typeface="Georgia"/>
            </a:endParaRPr>
          </a:p>
        </p:txBody>
      </p:sp>
      <p:sp>
        <p:nvSpPr>
          <p:cNvPr id="646" name=""/>
          <p:cNvSpPr txBox="1"/>
          <p:nvPr/>
        </p:nvSpPr>
        <p:spPr>
          <a:xfrm>
            <a:off x="301320" y="1526760"/>
            <a:ext cx="8504280" cy="46450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gnosis for the fetus in a breech presentation is considerably worse than when in a vertex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ajor contributors to perinatal loss: preterm delivery, congenital anomalies, and birth traum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With a term fetus, some degree of head molding may be essential for it to negotiate the birth canal successful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PERINATAL MORBIDITY AND MORTALITY</a:t>
            </a:r>
            <a:endParaRPr b="0" lang="en-US" sz="3000" spc="-1" strike="noStrike">
              <a:solidFill>
                <a:srgbClr val="7b9899"/>
              </a:solidFill>
              <a:latin typeface="Georgia"/>
            </a:endParaRPr>
          </a:p>
        </p:txBody>
      </p:sp>
      <p:sp>
        <p:nvSpPr>
          <p:cNvPr id="648" name=""/>
          <p:cNvSpPr txBox="1"/>
          <p:nvPr/>
        </p:nvSpPr>
        <p:spPr>
          <a:xfrm>
            <a:off x="301320" y="1527120"/>
            <a:ext cx="8504280" cy="4873680"/>
          </a:xfrm>
          <a:prstGeom prst="rect">
            <a:avLst/>
          </a:prstGeom>
          <a:noFill/>
          <a:ln w="0">
            <a:noFill/>
          </a:ln>
        </p:spPr>
        <p:txBody>
          <a:bodyPr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200" spc="-1" strike="noStrike">
                <a:solidFill>
                  <a:srgbClr val="000000"/>
                </a:solidFill>
                <a:latin typeface="Georgia"/>
              </a:rPr>
              <a:t>Thus, in certain cases:</a:t>
            </a:r>
            <a:endParaRPr b="0" lang="en-US" sz="2200" spc="-1" strike="noStrike">
              <a:solidFill>
                <a:srgbClr val="000000"/>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Delivery may be delayed many minutes while the aftercoming head accommodates to the maternal pelvis, resulting in hypoxia and acidemia, which can become severe; or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Delivery may be forced, causing trauma from compression, traction, or both.</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With a preterm fetus, the disparity between the size of the head and buttocks is even greater than with a larger fetu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umbilical cord length is significantly shorter in breech present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multiple coils of cord entangling the fetus are more common with breech presentations</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8840" y="4572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MECHANICAL PROBLEM ENCOUNTERED IN DELIVERY OF BREECH DELIVERY:</a:t>
            </a:r>
            <a:endParaRPr b="0" lang="en-US" sz="30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t times, the buttocks and lower extremities of the preterm fetus will pass through the cervix and be delivered, and yet the cervix will not be dilated adequately for the head to esca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echanical problem with breech delivery is entrapment of the fetal arm behind the neck (nuchal arm), which complicates up to 6 percent of vaginal breech deliveries and is associated with increased neonatal mort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8840" y="4572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MECHANICAL PROBLEM ENCOUNTERED IN DELIVERY OF BREECH DELIVERY:</a:t>
            </a:r>
            <a:endParaRPr b="0" lang="en-US" sz="30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DUHRSSEN’S INCISION</a:t>
            </a:r>
            <a:endParaRPr b="0" lang="en-US" sz="2800" spc="-1" strike="noStrike">
              <a:solidFill>
                <a:srgbClr val="000000"/>
              </a:solidFill>
              <a:latin typeface="Georgia"/>
            </a:endParaRPr>
          </a:p>
          <a:p>
            <a:pPr lvl="1" marL="547560" indent="-272880">
              <a:spcBef>
                <a:spcPts val="70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at 10 o'clock (already cut) and 2 o'clock (being cut with bandage scissors) to relieve entrapped aftercoming head. Infrequently, an additional incision is required at 6 o'clock</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incisions are so placed as to minimize bleeding from the laterally located cervical branches of the uterine artery.</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UNFAVORABLE PELVIS</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ecause there is no time for molding of the aftercoming head, a moderately contracted pelvis that had not previously caused problems in delivery of an average-size cephalic fetus might prove dangerous with a bree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Gynecoid</a:t>
            </a:r>
            <a:r>
              <a:rPr b="0" lang="en-PH" sz="2700" spc="-1" strike="noStrike">
                <a:solidFill>
                  <a:srgbClr val="000000"/>
                </a:solidFill>
                <a:latin typeface="Georgia"/>
              </a:rPr>
              <a:t> (round) and </a:t>
            </a:r>
            <a:r>
              <a:rPr b="1" lang="en-PH" sz="2700" spc="-1" strike="noStrike">
                <a:solidFill>
                  <a:srgbClr val="000000"/>
                </a:solidFill>
                <a:latin typeface="Georgia"/>
              </a:rPr>
              <a:t>anthropoid </a:t>
            </a:r>
            <a:r>
              <a:rPr b="0" lang="en-PH" sz="2700" spc="-1" strike="noStrike">
                <a:solidFill>
                  <a:srgbClr val="000000"/>
                </a:solidFill>
                <a:latin typeface="Georgia"/>
              </a:rPr>
              <a:t>(elliptical) pelves are favorable configur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 </a:t>
            </a:r>
            <a:r>
              <a:rPr b="1" lang="en-PH" sz="2700" spc="-1" strike="noStrike">
                <a:solidFill>
                  <a:srgbClr val="000000"/>
                </a:solidFill>
                <a:latin typeface="Georgia"/>
              </a:rPr>
              <a:t>platypelloid</a:t>
            </a:r>
            <a:r>
              <a:rPr b="0" lang="en-PH" sz="2700" spc="-1" strike="noStrike">
                <a:solidFill>
                  <a:srgbClr val="000000"/>
                </a:solidFill>
                <a:latin typeface="Georgia"/>
              </a:rPr>
              <a:t> (anteroposteriorly flat) and </a:t>
            </a:r>
            <a:r>
              <a:rPr b="1" lang="en-PH" sz="2700" spc="-1" strike="noStrike">
                <a:solidFill>
                  <a:srgbClr val="000000"/>
                </a:solidFill>
                <a:latin typeface="Georgia"/>
              </a:rPr>
              <a:t>android</a:t>
            </a:r>
            <a:r>
              <a:rPr b="0" lang="en-PH" sz="2700" spc="-1" strike="noStrike">
                <a:solidFill>
                  <a:srgbClr val="000000"/>
                </a:solidFill>
                <a:latin typeface="Georgia"/>
              </a:rPr>
              <a:t> (heart-shaped) pelves are not favor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BREECH EXTRACTION AND DELIVERY</a:t>
            </a:r>
            <a:endParaRPr b="0" lang="en-US" sz="30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BREECH</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when the buttocks of the fetus enter the pelvis before the head</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derives from the same word as </a:t>
            </a:r>
            <a:r>
              <a:rPr b="0" i="1" lang="en-PH" sz="2700" spc="-1" strike="noStrike">
                <a:solidFill>
                  <a:srgbClr val="000000"/>
                </a:solidFill>
                <a:latin typeface="Georgia"/>
              </a:rPr>
              <a:t>britches,</a:t>
            </a:r>
            <a:r>
              <a:rPr b="0" lang="en-PH" sz="2700" spc="-1" strike="noStrike">
                <a:solidFill>
                  <a:srgbClr val="000000"/>
                </a:solidFill>
                <a:latin typeface="Georgia"/>
              </a:rPr>
              <a:t> which described a cloth covering the loins and thigh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is more common remote from term</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efore the onset of labor the fetus turns spontaneously to a cephalic presentation, so that breech presentation persists in only about 3 to 4 percent of singleton deliverie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HYPEREXTENSION OF THE </a:t>
            </a:r>
            <a:br>
              <a:rPr sz="3000"/>
            </a:br>
            <a:r>
              <a:rPr b="1" lang="en-PH" sz="3000" spc="-1" strike="noStrike">
                <a:solidFill>
                  <a:srgbClr val="7b9899"/>
                </a:solidFill>
                <a:latin typeface="Georgia"/>
              </a:rPr>
              <a:t>FETAL HEAD</a:t>
            </a:r>
            <a:endParaRPr b="0" lang="en-US" sz="30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Georgia"/>
              </a:rPr>
              <a:t>STARGAZER/FLYING FETUS- </a:t>
            </a:r>
            <a:r>
              <a:rPr b="0" lang="en-PH" sz="2800" spc="-1" strike="noStrike">
                <a:solidFill>
                  <a:srgbClr val="000000"/>
                </a:solidFill>
                <a:latin typeface="Georgia"/>
              </a:rPr>
              <a:t>hyperextension of the fetal head</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may result in injury to the cervical spinal cord</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5160" y="30492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LABOR INDUCTION AND AUGMENTATION</a:t>
            </a:r>
            <a:endParaRPr b="0" lang="en-US" sz="30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Induction of labor in women with a breech presentation is defended by some clinicians and condemned by other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TERM BREECH FETUS</a:t>
            </a:r>
            <a:endParaRPr b="0" lang="en-US" sz="3300" spc="-1" strike="noStrike">
              <a:solidFill>
                <a:srgbClr val="7b9899"/>
              </a:solidFill>
              <a:latin typeface="Georgia"/>
            </a:endParaRPr>
          </a:p>
        </p:txBody>
      </p:sp>
      <p:sp>
        <p:nvSpPr>
          <p:cNvPr id="660" name=""/>
          <p:cNvSpPr txBox="1"/>
          <p:nvPr/>
        </p:nvSpPr>
        <p:spPr>
          <a:xfrm>
            <a:off x="301320" y="1527120"/>
            <a:ext cx="8504280" cy="4873680"/>
          </a:xfrm>
          <a:prstGeom prst="rect">
            <a:avLst/>
          </a:prstGeom>
          <a:noFill/>
          <a:ln w="0">
            <a:noFill/>
          </a:ln>
        </p:spPr>
        <p:txBody>
          <a:bodyPr anchor="t">
            <a:normAutofit fontScale="97000"/>
          </a:bodyPr>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LANNED VAGINAL  DELIVER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Increased neonatal mortality and morbidit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causes of death were head entrapment, cerebral injury and intracranial hemorrhage, cord prolapse, and severe asphyxia</a:t>
            </a:r>
            <a:endParaRPr b="0" lang="en-US" sz="2300" spc="-1" strike="noStrike">
              <a:solidFill>
                <a:srgbClr val="000000"/>
              </a:solidFill>
              <a:latin typeface="Georg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LANNED CS DELIVER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 </a:t>
            </a:r>
            <a:r>
              <a:rPr b="1" lang="en-PH" sz="2300" spc="-1" strike="noStrike">
                <a:solidFill>
                  <a:srgbClr val="000000"/>
                </a:solidFill>
                <a:latin typeface="Georgia"/>
              </a:rPr>
              <a:t>PRETERM FETUS</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aftercoming head of a preterm fetus may be trapped by a cervix that is sufficiently effaced and dilated to allow passage of the thorax but not of the less-compressible head. </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consequences of vaginal delivery :hypoxia and physical trauma</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preterm infants undergoing cesarean delivery had a better prognosis</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RECOMMENDATIONS FOR DELIVERY </a:t>
            </a:r>
            <a:endParaRPr b="0" lang="en-US" sz="3000" spc="-1" strike="noStrike">
              <a:solidFill>
                <a:srgbClr val="7b9899"/>
              </a:solidFill>
              <a:latin typeface="Georgia"/>
            </a:endParaRPr>
          </a:p>
        </p:txBody>
      </p:sp>
      <p:sp>
        <p:nvSpPr>
          <p:cNvPr id="662" name=""/>
          <p:cNvSpPr txBox="1"/>
          <p:nvPr/>
        </p:nvSpPr>
        <p:spPr>
          <a:xfrm>
            <a:off x="301320" y="1828800"/>
            <a:ext cx="8504280" cy="42703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Cesarean delivery is commonly but not exclusively used in the following circumstance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 large fetu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ny degree of contraction or unfavorable shape of the pelvi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 hyperextended head.</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When delivery is indicated in the absence of spontaneous labor (some clinicians use oxytocin augment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Uterine dysfunction (some use oxytocin augment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RECOMMENDATIONS FOR DELIVERY </a:t>
            </a:r>
            <a:endParaRPr b="0" lang="en-US" sz="3000" spc="-1" strike="noStrike">
              <a:solidFill>
                <a:srgbClr val="7b9899"/>
              </a:solidFill>
              <a:latin typeface="Georgia"/>
            </a:endParaRPr>
          </a:p>
        </p:txBody>
      </p:sp>
      <p:sp>
        <p:nvSpPr>
          <p:cNvPr id="664" name=""/>
          <p:cNvSpPr txBox="1"/>
          <p:nvPr/>
        </p:nvSpPr>
        <p:spPr>
          <a:xfrm>
            <a:off x="301320" y="175248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Incomplete or footling breech present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n apparently healthy and viable preterm fetus with the mother in either active labor or in whom delivery is indicated.</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Severe fetal growth restric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Previous perinatal death or children suffering from birth trauma.</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 </a:t>
            </a:r>
            <a:r>
              <a:rPr b="0" lang="en-PH" sz="2400" spc="-1" strike="noStrike">
                <a:solidFill>
                  <a:srgbClr val="000000"/>
                </a:solidFill>
                <a:latin typeface="Georgia"/>
                <a:ea typeface="Arial"/>
              </a:rPr>
              <a:t>A request for steriliz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Lack of an experienced operator</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24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66" name=""/>
          <p:cNvSpPr txBox="1"/>
          <p:nvPr/>
        </p:nvSpPr>
        <p:spPr>
          <a:xfrm>
            <a:off x="301320" y="1526760"/>
            <a:ext cx="8504280" cy="5102280"/>
          </a:xfrm>
          <a:prstGeom prst="rect">
            <a:avLst/>
          </a:prstGeom>
          <a:noFill/>
          <a:ln w="0">
            <a:noFill/>
          </a:ln>
        </p:spPr>
        <p:txBody>
          <a:bodyPr anchor="t">
            <a:normAutofit fontScale="97000"/>
          </a:bodyPr>
          <a:p>
            <a:pPr marL="264600" indent="-2646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Vaginal delivery requires skilled participation by the obstetrician for a favorable outcome</a:t>
            </a:r>
            <a:endParaRPr b="0" lang="en-US" sz="24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Engagement and descent</a:t>
            </a:r>
            <a:r>
              <a:rPr b="0" lang="en-PH" sz="2500" spc="-1" strike="noStrike">
                <a:solidFill>
                  <a:srgbClr val="000000"/>
                </a:solidFill>
                <a:latin typeface="Georgia"/>
              </a:rPr>
              <a:t> </a:t>
            </a:r>
            <a:endParaRPr b="0" lang="en-US" sz="2500" spc="-1" strike="noStrike">
              <a:solidFill>
                <a:srgbClr val="000000"/>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usually take place with the bitrochanteric diameter in one of the </a:t>
            </a:r>
            <a:r>
              <a:rPr b="0" lang="en-PH" sz="2400" spc="-1" strike="noStrike">
                <a:solidFill>
                  <a:srgbClr val="000000"/>
                </a:solidFill>
                <a:latin typeface="Georgia"/>
              </a:rPr>
              <a:t>oblique pelvic diameters</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The anterior hip usually descends more rapidly than the posterior hip</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when the resistance of the pelvic floor is met, internal rotation of 45 degrees usually follows, bringing the anterior hip toward the pubic arch and allowing the bitrochanteric diameter to occupy the anteroposterior diameter of the pelvic outlet. </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If the posterior extremity is prolapsed, however, it rotates to the symphysis pubis rather than the anterior hip.</a:t>
            </a:r>
            <a:endParaRPr b="0" lang="en-US" sz="2400" spc="-1" strike="noStrike">
              <a:solidFill>
                <a:srgbClr val="646b86"/>
              </a:solidFill>
              <a:latin typeface="Georgia"/>
            </a:endParaRPr>
          </a:p>
          <a:p>
            <a:pPr marL="264600" indent="-26460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2824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After rotation</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descent continues until the perineum is distended by the advancing breech, and the anterior hip appears at the vulva.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By lateral flexion of the fetal body, the posterior hip then is forced over the perineum, which retracts over the buttocks, thus allowing the infant to straighten out when the anterior hip is born.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The legs and feet follow the breech and may be born spontaneously or with aid.</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70" name=""/>
          <p:cNvSpPr txBox="1"/>
          <p:nvPr/>
        </p:nvSpPr>
        <p:spPr>
          <a:xfrm>
            <a:off x="301320" y="1526760"/>
            <a:ext cx="8504280" cy="5102280"/>
          </a:xfrm>
          <a:prstGeom prst="rect">
            <a:avLst/>
          </a:prstGeom>
          <a:noFill/>
          <a:ln w="0">
            <a:noFill/>
          </a:ln>
        </p:spPr>
        <p:txBody>
          <a:bodyPr anchor="t">
            <a:normAutofit fontScale="99000"/>
          </a:bodyPr>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fter the birth of the breech, there is </a:t>
            </a:r>
            <a:r>
              <a:rPr b="1" lang="en-PH" sz="2500" spc="-1" strike="noStrike">
                <a:solidFill>
                  <a:srgbClr val="000000"/>
                </a:solidFill>
                <a:latin typeface="Georgia"/>
              </a:rPr>
              <a:t>slight external rotation</a:t>
            </a:r>
            <a:r>
              <a:rPr b="0" lang="en-PH" sz="2500" spc="-1" strike="noStrike">
                <a:solidFill>
                  <a:srgbClr val="000000"/>
                </a:solidFill>
                <a:latin typeface="Georgia"/>
              </a:rPr>
              <a:t>, with the back turning anteriorly as the shoulders are brought into relation with one of the oblique diameters of the pelvis.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shoulders then </a:t>
            </a:r>
            <a:r>
              <a:rPr b="1" lang="en-PH" sz="2500" spc="-1" strike="noStrike">
                <a:solidFill>
                  <a:srgbClr val="000000"/>
                </a:solidFill>
                <a:latin typeface="Georgia"/>
              </a:rPr>
              <a:t>descend </a:t>
            </a:r>
            <a:r>
              <a:rPr b="0" lang="en-PH" sz="2500" spc="-1" strike="noStrike">
                <a:solidFill>
                  <a:srgbClr val="000000"/>
                </a:solidFill>
                <a:latin typeface="Georgia"/>
              </a:rPr>
              <a:t>rapidly and undergo </a:t>
            </a:r>
            <a:r>
              <a:rPr b="1" lang="en-PH" sz="2500" spc="-1" strike="noStrike">
                <a:solidFill>
                  <a:srgbClr val="000000"/>
                </a:solidFill>
                <a:latin typeface="Georgia"/>
              </a:rPr>
              <a:t>internal rotation</a:t>
            </a:r>
            <a:r>
              <a:rPr b="0" lang="en-PH" sz="2500" spc="-1" strike="noStrike">
                <a:solidFill>
                  <a:srgbClr val="000000"/>
                </a:solidFill>
                <a:latin typeface="Georgia"/>
              </a:rPr>
              <a:t>, with the bisacromial diameter occupying the anteroposterior plane.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Immediately following the shoulders, the head, which is normally sharply flexed upon the thorax, enters the pelvis in one of the oblique diameters and then rotates in such a manner as to bring the posterior portion of the neck under the symphysis pubis.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head is then born in flexion.</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breech may engage in the transverse diameter of the pelvis, with the sacrum directed anteriorly or posteriorly. The mechanism of labor in the transverse position differs only in that internal rotation occurs through an arc of 90 rather than 45 degrees. Infrequently, rotation occurs in such a manner that the back of the infant is directed posteriorly instead of anteriorly. Such rotation should be prevented if possible. Although the head may be delivered by allowing the chin and face to pass beneath the symphysis, the slightest traction on the body may cause extension of the head, which increases the diameter of the head that must pass through the pelvis.</a:t>
            </a:r>
            <a:endParaRPr b="0" lang="en-US" sz="2500" spc="-1" strike="noStrike">
              <a:solidFill>
                <a:srgbClr val="000000"/>
              </a:solidFill>
              <a:latin typeface="Georgia"/>
            </a:endParaRPr>
          </a:p>
          <a:p>
            <a:pPr marL="261720" indent="-2617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ETHODS OF VAGINAL DELIVERY</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3 GENERAL METHODS OF BREECH DELIVERY</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Spontaneous breech delivery</a:t>
            </a:r>
            <a:r>
              <a:rPr b="0" i="1" lang="en-PH" sz="2500" spc="-1" strike="noStrike">
                <a:solidFill>
                  <a:srgbClr val="000000"/>
                </a:solidFill>
                <a:latin typeface="Georgia"/>
              </a:rPr>
              <a:t>.</a:t>
            </a:r>
            <a:r>
              <a:rPr b="0" lang="en-PH" sz="2500" spc="-1" strike="noStrike">
                <a:solidFill>
                  <a:srgbClr val="000000"/>
                </a:solidFill>
                <a:latin typeface="Georgia"/>
              </a:rPr>
              <a:t> The infant is expelled entirely spontaneously without any traction or manipulation other than support of the infant.</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Partial breech extraction</a:t>
            </a:r>
            <a:r>
              <a:rPr b="0" i="1" lang="en-PH" sz="2500" spc="-1" strike="noStrike">
                <a:solidFill>
                  <a:srgbClr val="000000"/>
                </a:solidFill>
                <a:latin typeface="Georgia"/>
              </a:rPr>
              <a:t>.</a:t>
            </a:r>
            <a:r>
              <a:rPr b="0" lang="en-PH" sz="2500" spc="-1" strike="noStrike">
                <a:solidFill>
                  <a:srgbClr val="000000"/>
                </a:solidFill>
                <a:latin typeface="Georgia"/>
              </a:rPr>
              <a:t> The infant is delivered spontaneously as far as the umbilicus, but the remainder of the body is extracted or delivered with operator traction and assisted maneuvers, with or without maternal expulsive effort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Total breech extraction</a:t>
            </a:r>
            <a:r>
              <a:rPr b="0" i="1" lang="en-PH" sz="2500" spc="-1" strike="noStrike">
                <a:solidFill>
                  <a:srgbClr val="000000"/>
                </a:solidFill>
                <a:latin typeface="Georgia"/>
              </a:rPr>
              <a:t>.</a:t>
            </a:r>
            <a:r>
              <a:rPr b="0" lang="en-PH" sz="2500" spc="-1" strike="noStrike">
                <a:solidFill>
                  <a:srgbClr val="000000"/>
                </a:solidFill>
                <a:latin typeface="Georgia"/>
              </a:rPr>
              <a:t> The entire body of the infant is extracted by the obstetrician.</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2060"/>
                </a:solidFill>
                <a:latin typeface="Calibri"/>
                <a:ea typeface="Calibri"/>
              </a:rPr>
              <a:t>PREVALENCE OF BREECH PRESENTATION BY GESTATIONAL AGE</a:t>
            </a:r>
            <a:endParaRPr b="0" lang="en-US" sz="3200" spc="-1" strike="noStrike">
              <a:solidFill>
                <a:srgbClr val="7b9899"/>
              </a:solidFill>
              <a:latin typeface="Georgia"/>
            </a:endParaRPr>
          </a:p>
        </p:txBody>
      </p:sp>
      <p:graphicFrame>
        <p:nvGraphicFramePr>
          <p:cNvPr id="618" name=""/>
          <p:cNvGraphicFramePr/>
          <p:nvPr/>
        </p:nvGraphicFramePr>
        <p:xfrm>
          <a:off x="533520" y="1600200"/>
          <a:ext cx="8001000" cy="4800600"/>
        </p:xfrm>
        <a:graphic>
          <a:graphicData uri="http://schemas.openxmlformats.org/drawingml/2006/table">
            <a:tbl>
              <a:tblPr/>
              <a:tblGrid>
                <a:gridCol w="2427120"/>
                <a:gridCol w="1347840"/>
                <a:gridCol w="1349280"/>
                <a:gridCol w="1258920"/>
                <a:gridCol w="1617840"/>
              </a:tblGrid>
              <a:tr h="409680">
                <a:tc>
                  <a:txBody>
                    <a:bodyPr lIns="68760" rIns="6876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PRESENTATIO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Gestational Age (wk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BREECH</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VERTEX</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OTA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BREECH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1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7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89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7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5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5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3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0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2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2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7-4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ANAGEMENT OF LABOR</a:t>
            </a:r>
            <a:endParaRPr b="0" lang="en-US" sz="3300" spc="-1" strike="noStrike">
              <a:solidFill>
                <a:srgbClr val="7b9899"/>
              </a:solidFill>
              <a:latin typeface="Georgia"/>
            </a:endParaRPr>
          </a:p>
        </p:txBody>
      </p:sp>
      <p:sp>
        <p:nvSpPr>
          <p:cNvPr id="676"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ssessment  to establish the status of the membranes, labor, and fetal condition.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Close surveillance of fetal heart rate and uterine contractions.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Recruitment of  nursing, obstetrical, and anesthesia team to accomplish a vaginal or abdominal delivery, nursery is notified.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 venous catheter is inserted and an infusion begun as soon as the woman arrives in the labor suite.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Emergency induction of anesthesia, or hemorrhage from lacerations or from uterine atony, are but two of many reasons that may require immediate intravenous access for the administration of medications, fluids, or blood.</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STAGE OF LABOR</a:t>
            </a:r>
            <a:endParaRPr b="0" lang="en-US" sz="3300" spc="-1" strike="noStrike">
              <a:solidFill>
                <a:srgbClr val="7b9899"/>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Assessment of cervical dilatation and effacement and the station of the presenting part are essential for planning the route of delivery</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CONDITION</a:t>
            </a:r>
            <a:endParaRPr b="0" lang="en-US" sz="3300" spc="-1" strike="noStrike">
              <a:solidFill>
                <a:srgbClr val="7b9899"/>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Cesarean delivery is not performed under emergency conditions for an anomalous infant with no chance of surviva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MONITORING</a:t>
            </a:r>
            <a:endParaRPr b="0" lang="en-US" sz="3300" spc="-1" strike="noStrike">
              <a:solidFill>
                <a:srgbClr val="7b9899"/>
              </a:solidFill>
              <a:latin typeface="Georgia"/>
            </a:endParaRPr>
          </a:p>
        </p:txBody>
      </p:sp>
      <p:sp>
        <p:nvSpPr>
          <p:cNvPr id="68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Fetal heart rate is recorded at least every 15 minutes. </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Most clinicians prefer continuous electronic monitoring of fetal heart rate and uterine contraction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 </a:t>
            </a:r>
            <a:r>
              <a:rPr b="0" lang="en-PH" sz="2800" spc="-1" strike="noStrike">
                <a:solidFill>
                  <a:srgbClr val="000000"/>
                </a:solidFill>
                <a:latin typeface="Georgia"/>
              </a:rPr>
              <a:t>Vaginal examination should be performed following rupture to check for cord prolaps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ROUTE OF DELIVERY</a:t>
            </a:r>
            <a:endParaRPr b="0" lang="en-US" sz="3300" spc="-1" strike="noStrike">
              <a:solidFill>
                <a:srgbClr val="7b9899"/>
              </a:solidFill>
              <a:latin typeface="Georgia"/>
            </a:endParaRPr>
          </a:p>
        </p:txBody>
      </p:sp>
      <p:sp>
        <p:nvSpPr>
          <p:cNvPr id="68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choice of abdominal or vaginal delivery is based on the type of breech, flexion of the head, fetal size, quality of uterine contractions, and size of the maternal pelvi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TIMING OF DELIVERY</a:t>
            </a:r>
            <a:endParaRPr b="0" lang="en-US" sz="3300" spc="-1" strike="noStrike">
              <a:solidFill>
                <a:srgbClr val="7b9899"/>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Delivery is easier, and in turn, morbidity and mortality are probably lower, when the breech is allowed to deliver spontaneously to the umbilicus</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Delivery team</a:t>
            </a:r>
            <a:r>
              <a:rPr b="0" lang="en-PH" sz="2500" spc="-1" strike="noStrike">
                <a:solidFill>
                  <a:srgbClr val="000000"/>
                </a:solidFill>
                <a:latin typeface="Georgia"/>
              </a:rPr>
              <a:t> include:</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1.An obstetrician skilled in the art of breech extraction.</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2.An associate to assist with the delivery.</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3.Anesthesia personnel who can assure adequate analgesia or anesthesia when needed.</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4.An individual trained to resuscitate the infant</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9" name="Picture 2" descr="Figure 24-6"/>
          <p:cNvPicPr/>
          <p:nvPr/>
        </p:nvPicPr>
        <p:blipFill>
          <a:blip r:embed="rId1"/>
          <a:stretch/>
        </p:blipFill>
        <p:spPr>
          <a:xfrm>
            <a:off x="1600200" y="1371600"/>
            <a:ext cx="5952960" cy="500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2" name="Picture 2" descr="Figure 24-7"/>
          <p:cNvPicPr/>
          <p:nvPr/>
        </p:nvPicPr>
        <p:blipFill>
          <a:blip r:embed="rId1"/>
          <a:stretch/>
        </p:blipFill>
        <p:spPr>
          <a:xfrm>
            <a:off x="1295280" y="1676520"/>
            <a:ext cx="6681960" cy="42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5" name="Picture 2" descr="Figure 24-8"/>
          <p:cNvPicPr/>
          <p:nvPr/>
        </p:nvPicPr>
        <p:blipFill>
          <a:blip r:embed="rId1"/>
          <a:stretch/>
        </p:blipFill>
        <p:spPr>
          <a:xfrm>
            <a:off x="2057400" y="1676520"/>
            <a:ext cx="525132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8" name="Picture 2" descr="Figure 24-9"/>
          <p:cNvPicPr/>
          <p:nvPr/>
        </p:nvPicPr>
        <p:blipFill>
          <a:blip r:embed="rId1"/>
          <a:stretch/>
        </p:blipFill>
        <p:spPr>
          <a:xfrm>
            <a:off x="1319040" y="1295280"/>
            <a:ext cx="6301080" cy="495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ETIOLOGY</a:t>
            </a:r>
            <a:endParaRPr b="0" lang="en-US" sz="3300" spc="-1" strike="noStrike">
              <a:solidFill>
                <a:srgbClr val="7b9899"/>
              </a:solidFill>
              <a:latin typeface="Georgia"/>
            </a:endParaRPr>
          </a:p>
        </p:txBody>
      </p:sp>
      <p:sp>
        <p:nvSpPr>
          <p:cNvPr id="620" name=""/>
          <p:cNvSpPr txBox="1"/>
          <p:nvPr/>
        </p:nvSpPr>
        <p:spPr>
          <a:xfrm>
            <a:off x="301320" y="1676520"/>
            <a:ext cx="8504280" cy="457200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Gestational age</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Hydramnio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Uterine relaxation associated with great parit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Multiple fetus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Oligohydramnio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Hydrocephal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nencephal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revious breech delivery</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Uterine anomali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elvic tumor</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lacenta previa</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70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1" name="Picture 2" descr="Figure 24-10"/>
          <p:cNvPicPr/>
          <p:nvPr/>
        </p:nvPicPr>
        <p:blipFill>
          <a:blip r:embed="rId1"/>
          <a:stretch/>
        </p:blipFill>
        <p:spPr>
          <a:xfrm>
            <a:off x="2209680" y="1523880"/>
            <a:ext cx="4788000" cy="4496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RANK BREECH EXTRACTION</a:t>
            </a:r>
            <a:endParaRPr b="0" lang="en-US" sz="33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4" name="Picture 2" descr="Figure 24-11"/>
          <p:cNvPicPr/>
          <p:nvPr/>
        </p:nvPicPr>
        <p:blipFill>
          <a:blip r:embed="rId1"/>
          <a:stretch/>
        </p:blipFill>
        <p:spPr>
          <a:xfrm>
            <a:off x="2114640" y="1523880"/>
            <a:ext cx="51670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RANK BREECH EXTRACTION</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7" name="Picture 2" descr="Figure 24-12"/>
          <p:cNvPicPr/>
          <p:nvPr/>
        </p:nvPicPr>
        <p:blipFill>
          <a:blip r:embed="rId1"/>
          <a:stretch/>
        </p:blipFill>
        <p:spPr>
          <a:xfrm>
            <a:off x="2057400" y="1600200"/>
            <a:ext cx="497052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0" name="Picture 2" descr="Figure 24-13"/>
          <p:cNvPicPr/>
          <p:nvPr/>
        </p:nvPicPr>
        <p:blipFill>
          <a:blip r:embed="rId1"/>
          <a:stretch/>
        </p:blipFill>
        <p:spPr>
          <a:xfrm>
            <a:off x="1393920" y="1523880"/>
            <a:ext cx="6302160" cy="487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3808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3" name="Picture 2" descr="Figure 24-14"/>
          <p:cNvPicPr/>
          <p:nvPr/>
        </p:nvPicPr>
        <p:blipFill>
          <a:blip r:embed="rId1"/>
          <a:stretch/>
        </p:blipFill>
        <p:spPr>
          <a:xfrm>
            <a:off x="1695600" y="1523880"/>
            <a:ext cx="5924520" cy="4191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6" name="Picture 2" descr="Figure 24-15"/>
          <p:cNvPicPr/>
          <p:nvPr/>
        </p:nvPicPr>
        <p:blipFill>
          <a:blip r:embed="rId1"/>
          <a:stretch/>
        </p:blipFill>
        <p:spPr>
          <a:xfrm>
            <a:off x="2038320" y="1600200"/>
            <a:ext cx="512460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9" name="Picture 2" descr="Figure 24-16"/>
          <p:cNvPicPr/>
          <p:nvPr/>
        </p:nvPicPr>
        <p:blipFill>
          <a:blip r:embed="rId1"/>
          <a:stretch/>
        </p:blipFill>
        <p:spPr>
          <a:xfrm>
            <a:off x="2031840" y="1523880"/>
            <a:ext cx="5131080" cy="4419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2" name="Picture 2" descr="Figure 24-17"/>
          <p:cNvPicPr/>
          <p:nvPr/>
        </p:nvPicPr>
        <p:blipFill>
          <a:blip r:embed="rId1"/>
          <a:stretch/>
        </p:blipFill>
        <p:spPr>
          <a:xfrm>
            <a:off x="2057400" y="1600200"/>
            <a:ext cx="50706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5" name="Picture 2" descr="Figure 24-18"/>
          <p:cNvPicPr/>
          <p:nvPr/>
        </p:nvPicPr>
        <p:blipFill>
          <a:blip r:embed="rId1"/>
          <a:stretch/>
        </p:blipFill>
        <p:spPr>
          <a:xfrm>
            <a:off x="1371600" y="1219320"/>
            <a:ext cx="6384960" cy="541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DELIVERY OF THE AFTERCOMING HEAD</a:t>
            </a:r>
            <a:endParaRPr b="0" lang="en-US" sz="3000" spc="-1" strike="noStrike">
              <a:solidFill>
                <a:srgbClr val="7b9899"/>
              </a:solidFill>
              <a:latin typeface="Georgia"/>
            </a:endParaRPr>
          </a:p>
        </p:txBody>
      </p:sp>
      <p:sp>
        <p:nvSpPr>
          <p:cNvPr id="727"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MAURICEAU</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Index and middle finger of one hand are applied over the maxilla, to flex the head, while the fetal body rests on the palm of the hand and forearm.</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9" name="Picture 2" descr="Figure 24-19"/>
          <p:cNvPicPr/>
          <p:nvPr/>
        </p:nvPicPr>
        <p:blipFill>
          <a:blip r:embed="rId1"/>
          <a:stretch/>
        </p:blipFill>
        <p:spPr>
          <a:xfrm>
            <a:off x="4343400" y="1676520"/>
            <a:ext cx="4495680" cy="458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COMPLICATIONS</a:t>
            </a:r>
            <a:endParaRPr b="0" lang="en-US" sz="3300" spc="-1" strike="noStrike">
              <a:solidFill>
                <a:srgbClr val="7b9899"/>
              </a:solidFill>
              <a:latin typeface="Georgia"/>
            </a:endParaRPr>
          </a:p>
        </p:txBody>
      </p:sp>
      <p:sp>
        <p:nvSpPr>
          <p:cNvPr id="622" name=""/>
          <p:cNvSpPr txBox="1"/>
          <p:nvPr/>
        </p:nvSpPr>
        <p:spPr>
          <a:xfrm>
            <a:off x="301320" y="182880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erinatal morbidity and mortality from difficult delive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Low birthweight from preterm delivery, growth restriction, or bot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lapsed cor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lacenta previ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neonatal, and infant anomal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erine anomalies and tumo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1" name=""/>
          <p:cNvSpPr txBox="1"/>
          <p:nvPr/>
        </p:nvSpPr>
        <p:spPr>
          <a:xfrm>
            <a:off x="301320" y="1371600"/>
            <a:ext cx="8504280" cy="4572000"/>
          </a:xfrm>
          <a:prstGeom prst="rect">
            <a:avLst/>
          </a:prstGeom>
          <a:noFill/>
          <a:ln w="0">
            <a:noFill/>
          </a:ln>
        </p:spPr>
        <p:txBody>
          <a:bodyPr anchor="t">
            <a:normAutofit fontScale="95000"/>
          </a:bodyPr>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The forearm is straddled by the fetal legs.</a:t>
            </a:r>
            <a:endParaRPr b="0" lang="en-US" sz="2200" spc="-1" strike="noStrike">
              <a:solidFill>
                <a:srgbClr val="000000"/>
              </a:solidFill>
              <a:latin typeface="Georg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 </a:t>
            </a:r>
            <a:r>
              <a:rPr b="0" lang="en-PH" sz="2200" spc="-1" strike="noStrike">
                <a:solidFill>
                  <a:srgbClr val="000000"/>
                </a:solidFill>
                <a:latin typeface="Georgia"/>
              </a:rPr>
              <a:t>Two fingers of the other hand then are hooked over the fetal neck, and grasping the shoulders, downward traction is applied until the suboccipital region appears under the symphysis. </a:t>
            </a:r>
            <a:endParaRPr b="0" lang="en-US" sz="2200" spc="-1" strike="noStrike">
              <a:solidFill>
                <a:srgbClr val="000000"/>
              </a:solidFill>
              <a:latin typeface="Georg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Gentle suprapubic pressure simultaneously applied by an assistant helps keep the head flexed. The body then is elevated toward the maternal abdomen, and the mouth, nose, brow, and eventually the occiput emerge successively over the perineum. </a:t>
            </a: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It is emphasized that with this maneuver, the operator uses both hands simultaneously and in tandem to exert continuous downward gentle traction simultaneously on the fetal neck and on the maxilla.</a:t>
            </a:r>
            <a:r>
              <a:rPr b="0" lang="en-PH"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t the same time, appropriate suprapubic pressure applied by an assistant is helpful in delivery of the hea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DELIVERY OF THE AFTERCOMING HEAD</a:t>
            </a:r>
            <a:endParaRPr b="0" lang="en-US" sz="3000" spc="-1" strike="noStrike">
              <a:solidFill>
                <a:srgbClr val="7b9899"/>
              </a:solidFill>
              <a:latin typeface="Georgia"/>
            </a:endParaRPr>
          </a:p>
        </p:txBody>
      </p:sp>
      <p:sp>
        <p:nvSpPr>
          <p:cNvPr id="7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2.PRAGUE MANEU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36" name="Picture 2" descr="Figure 24-20"/>
          <p:cNvPicPr/>
          <p:nvPr/>
        </p:nvPicPr>
        <p:blipFill>
          <a:blip r:embed="rId1"/>
          <a:stretch/>
        </p:blipFill>
        <p:spPr>
          <a:xfrm>
            <a:off x="1724040" y="2057400"/>
            <a:ext cx="5743440" cy="4343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8"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back of the fetus fails to rotate to the anterior. </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When this occurs, rotation of the back to the anterior may be achieved by using stronger traction on the fetal legs or bony pelvis.</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If the back still remains oriented posteriorly, extraction may be accomplished using the Mauriceau maneuver and delivering the fetus back down. </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If this is impossible, the fetus still may be delivered using the modified Prague maneuver, which, as practiced today, consists of two fingers of one hand grasping the shoulders of the back-down fetus from below while the other hand draws the feet up over the maternal abdomen</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ORCEPS TO AFTERCOMING HEAD</a:t>
            </a:r>
            <a:endParaRPr b="0" lang="en-US" sz="3300" spc="-1" strike="noStrike">
              <a:solidFill>
                <a:srgbClr val="7b9899"/>
              </a:solidFill>
              <a:latin typeface="Georgia"/>
            </a:endParaRPr>
          </a:p>
        </p:txBody>
      </p:sp>
      <p:sp>
        <p:nvSpPr>
          <p:cNvPr id="740"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IPER FORCEPS –</a:t>
            </a:r>
            <a:r>
              <a:rPr b="0" lang="en-PH" sz="2300" spc="-1" strike="noStrike">
                <a:solidFill>
                  <a:srgbClr val="000000"/>
                </a:solidFill>
                <a:latin typeface="Georgia"/>
              </a:rPr>
              <a:t>specialized forceps used to deliver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blades of the forceps should not be applied to the aftercoming head until it has been brought into the pelvis by gentle traction, combined with suprapubic pressure, and is engaged. Suspension of the body of the fetus in a towel effectively holds the fetus and helps keep the arms out of the way.</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A.</a:t>
            </a:r>
            <a:r>
              <a:rPr b="0" lang="en-PH" sz="2300" spc="-1" strike="noStrike">
                <a:solidFill>
                  <a:srgbClr val="000000"/>
                </a:solidFill>
                <a:latin typeface="Georgia"/>
              </a:rPr>
              <a:t>The fetal body is elevated using a warm towel and the left blade of the forceps is applied to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B.</a:t>
            </a:r>
            <a:r>
              <a:rPr b="0" lang="en-PH" sz="2300" spc="-1" strike="noStrike">
                <a:solidFill>
                  <a:srgbClr val="000000"/>
                </a:solidFill>
                <a:latin typeface="Georgia"/>
              </a:rPr>
              <a:t> The right blade is applied with the body still elevated. </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a:t>
            </a:r>
            <a:r>
              <a:rPr b="0" lang="en-PH" sz="2300" spc="-1" strike="noStrike">
                <a:solidFill>
                  <a:srgbClr val="000000"/>
                </a:solidFill>
                <a:latin typeface="Georgia"/>
              </a:rPr>
              <a:t> Forceps delivery of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Figure 24-21"/>
          <p:cNvPicPr/>
          <p:nvPr/>
        </p:nvPicPr>
        <p:blipFill>
          <a:blip r:embed="rId1"/>
          <a:srcRect l="0" t="0" r="0" b="4596"/>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ENTRAPMENT OF THE AFTERCOMING HEAD</a:t>
            </a:r>
            <a:endParaRPr b="0" lang="en-US" sz="3000" spc="-1" strike="noStrike">
              <a:solidFill>
                <a:srgbClr val="7b9899"/>
              </a:solidFill>
              <a:latin typeface="Georgia"/>
            </a:endParaRPr>
          </a:p>
        </p:txBody>
      </p:sp>
      <p:sp>
        <p:nvSpPr>
          <p:cNvPr id="7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small preterm fetuses, the incompletely dilated cervix will not allow delivery of the aftercoming head. With gentle traction on the fetal body, the cervix, at times, may be manually slipped over the occip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DUHRSSEN INCISION</a:t>
            </a:r>
            <a:endParaRPr b="0" lang="en-US" sz="3300" spc="-1" strike="noStrike">
              <a:solidFill>
                <a:srgbClr val="7b9899"/>
              </a:solidFill>
              <a:latin typeface="Georgia"/>
            </a:endParaRPr>
          </a:p>
        </p:txBody>
      </p:sp>
      <p:sp>
        <p:nvSpPr>
          <p:cNvPr id="7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8" name="Picture 2" descr="Figure 24-4"/>
          <p:cNvPicPr/>
          <p:nvPr/>
        </p:nvPicPr>
        <p:blipFill>
          <a:blip r:embed="rId1"/>
          <a:stretch/>
        </p:blipFill>
        <p:spPr>
          <a:xfrm>
            <a:off x="1066680" y="1447920"/>
            <a:ext cx="7013520" cy="4952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ANALGESIA AND ANESTHESIA</a:t>
            </a:r>
            <a:endParaRPr b="0" lang="en-US" sz="3300" spc="-1" strike="noStrike">
              <a:solidFill>
                <a:srgbClr val="7b9899"/>
              </a:solidFill>
              <a:latin typeface="Georgia"/>
            </a:endParaRPr>
          </a:p>
        </p:txBody>
      </p:sp>
      <p:sp>
        <p:nvSpPr>
          <p:cNvPr id="7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nesthesia for breech decomposition and extraction must provide sufficient relaxation to allow intrauterine manipula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EPIDURAL ANALGESIA-</a:t>
            </a:r>
            <a:r>
              <a:rPr b="0" lang="en-PH" sz="2700" spc="-1" strike="noStrike">
                <a:solidFill>
                  <a:srgbClr val="000000"/>
                </a:solidFill>
                <a:latin typeface="Georgia"/>
              </a:rPr>
              <a:t>provide sufficient relaxation to allow intrauterine manipul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GENERAL ANESTHESIA-</a:t>
            </a:r>
            <a:r>
              <a:rPr b="0" lang="en-PH" sz="2700" spc="-1" strike="noStrike">
                <a:solidFill>
                  <a:srgbClr val="000000"/>
                </a:solidFill>
                <a:latin typeface="Georgia"/>
              </a:rPr>
              <a:t>may be required to relax the uterus as well as to provide analgesi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ATERNAL INJURIES</a:t>
            </a:r>
            <a:endParaRPr b="0" lang="en-US" sz="3300" spc="-1" strike="noStrike">
              <a:solidFill>
                <a:srgbClr val="7b9899"/>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ncrease the risk of infe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rupture of the uterus, lacerations of the cervix</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xtensions of the episiotomy and deep perineal te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nesthesia sufficient to induce appreciable uterine relaxation may cause uterine atony and, in turn, postpartum hemorrh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1.DOUBLE FOOTLING BREE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5" name="Picture 2" descr="Figure 24-3"/>
          <p:cNvPicPr/>
          <p:nvPr/>
        </p:nvPicPr>
        <p:blipFill>
          <a:blip r:embed="rId1"/>
          <a:stretch/>
        </p:blipFill>
        <p:spPr>
          <a:xfrm>
            <a:off x="2362320" y="2057400"/>
            <a:ext cx="4430520" cy="4191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INJURIES</a:t>
            </a:r>
            <a:endParaRPr b="0" lang="en-US" sz="3300" spc="-1" strike="noStrike">
              <a:solidFill>
                <a:srgbClr val="7b9899"/>
              </a:solidFill>
              <a:latin typeface="Georgia"/>
            </a:endParaRPr>
          </a:p>
        </p:txBody>
      </p:sp>
      <p:sp>
        <p:nvSpPr>
          <p:cNvPr id="7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racture of the humerus, clavicle and femu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Hematomas of the sternocleidomastoid musc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achial plexus inju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5" name="Picture 2" descr="Figure 24-22"/>
          <p:cNvPicPr/>
          <p:nvPr/>
        </p:nvPicPr>
        <p:blipFill>
          <a:blip r:embed="rId1"/>
          <a:srcRect l="0" t="0" r="0" b="7997"/>
          <a:stretch/>
        </p:blipFill>
        <p:spPr>
          <a:xfrm>
            <a:off x="4343400" y="2514600"/>
            <a:ext cx="3987720" cy="396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ERSION</a:t>
            </a: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cedure in which the fetal presentation is altered by physical manipulation, either substituting one pole of a longitudinal presentation for the other or converting an oblique or transverse lie into a longitudinal presentatio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PODALIC  VERSION-</a:t>
            </a:r>
            <a:r>
              <a:rPr b="0" lang="en-PH" sz="2700" spc="-1" strike="noStrike">
                <a:solidFill>
                  <a:srgbClr val="000000"/>
                </a:solidFill>
                <a:latin typeface="Georgia"/>
              </a:rPr>
              <a:t>the head or breech is made the presenting par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EXTERNAL CEPHALIC VERSION-</a:t>
            </a:r>
            <a:r>
              <a:rPr b="0" lang="en-PH" sz="2700" spc="-1" strike="noStrike">
                <a:solidFill>
                  <a:srgbClr val="000000"/>
                </a:solidFill>
                <a:latin typeface="Georgia"/>
              </a:rPr>
              <a:t>manipulations are performed exclusively through the abdominal wall</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0" name="Picture 2" descr="Figure 24-23"/>
          <p:cNvPicPr/>
          <p:nvPr/>
        </p:nvPicPr>
        <p:blipFill>
          <a:blip r:embed="rId1"/>
          <a:stretch/>
        </p:blipFill>
        <p:spPr>
          <a:xfrm>
            <a:off x="533520" y="1371600"/>
            <a:ext cx="7983360" cy="4952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INDICATIONS OF EXTERNAL CEPHALIC VERSION</a:t>
            </a:r>
            <a:endParaRPr b="0" lang="en-US" sz="3000" spc="-1" strike="noStrike">
              <a:solidFill>
                <a:srgbClr val="7b9899"/>
              </a:solidFill>
              <a:latin typeface="Georgia"/>
            </a:endParaRPr>
          </a:p>
        </p:txBody>
      </p:sp>
      <p:sp>
        <p:nvSpPr>
          <p:cNvPr id="7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is recognized prior to labor in a woman who has reached 36 weeks' gestation, external cephalic version should be consider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should nIncreasing parityot be attempted if there is a contraindication to vaginal delive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ior uterine incision is a relative contraindic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FACTORS ASSOCIATED WITH SUCCESSFUL VERSION</a:t>
            </a:r>
            <a:endParaRPr b="0" lang="en-US" sz="3000" spc="-1" strike="noStrike">
              <a:solidFill>
                <a:srgbClr val="7b9899"/>
              </a:solidFill>
              <a:latin typeface="Georgia"/>
            </a:endParaRPr>
          </a:p>
        </p:txBody>
      </p:sp>
      <p:sp>
        <p:nvSpPr>
          <p:cNvPr id="76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ncreasing par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presentation, and then the amount of amnionic flui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Gestational 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aternal obesity, anterior placenta, cervical dilatation, descent of the breech into the pelvis, and anterior or posterior positioning of the fetal spin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TECHNIQ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Z is performed to confirm nonvertex presentation and adequacy of amnionic fluid volume, to rule out obvious fetal anomalies if not done previously, and to identify placental loc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xternal monitoring is performed to assess fetal heart rate reactivit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The nonstress test is repeated after version until a normal test result is obtain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FORWARD ROLL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ach hand grasps one of the fetal poles, and the buttocks are elevated from the maternal pelvis and displaced laterall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The buttocks are then gently guided toward the fundus, while the head is directed </a:t>
            </a:r>
            <a:r>
              <a:rPr b="0" lang="en-PH" sz="2700" spc="-1" strike="noStrike">
                <a:solidFill>
                  <a:srgbClr val="000000"/>
                </a:solidFill>
                <a:latin typeface="Georgia"/>
              </a:rPr>
              <a:t>	</a:t>
            </a:r>
            <a:r>
              <a:rPr b="0" lang="en-PH" sz="2700" spc="-1" strike="noStrike">
                <a:solidFill>
                  <a:srgbClr val="000000"/>
                </a:solidFill>
                <a:latin typeface="Georgia"/>
              </a:rPr>
              <a:t>toward the pelv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BACKWARD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CONDUCTION ANALGESIA-</a:t>
            </a:r>
            <a:r>
              <a:rPr b="0" lang="en-PH" sz="2700" spc="-1" strike="noStrike">
                <a:solidFill>
                  <a:srgbClr val="000000"/>
                </a:solidFill>
                <a:latin typeface="Georgia"/>
              </a:rPr>
              <a:t> increased success with version when epidural analgesia is us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TOCOLYSIS-</a:t>
            </a:r>
            <a:r>
              <a:rPr b="0" lang="en-PH" sz="2700" spc="-1" strike="noStrike">
                <a:solidFill>
                  <a:srgbClr val="000000"/>
                </a:solidFill>
                <a:latin typeface="Georgia"/>
              </a:rPr>
              <a:t> uterine relaxation with a tocolytic ag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COMPLICATIONS</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lacental abrup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erine ruptur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mnionic fluid embolis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omaternal hemorrh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soimmuniz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eterm labo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distr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demi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NTERNAL VERSION</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ccomplished inside the uterine cav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sed only for delivery of a second twi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2.COMPLETE BREECH</a:t>
            </a:r>
            <a:endParaRPr b="0" lang="en-US" sz="2700" spc="-1" strike="noStrike">
              <a:solidFill>
                <a:srgbClr val="000000"/>
              </a:solidFill>
              <a:latin typeface="Georgia"/>
            </a:endParaRPr>
          </a:p>
        </p:txBody>
      </p:sp>
      <p:pic>
        <p:nvPicPr>
          <p:cNvPr id="628" name="Picture 2" descr="Figure 24-2"/>
          <p:cNvPicPr/>
          <p:nvPr/>
        </p:nvPicPr>
        <p:blipFill>
          <a:blip r:embed="rId1"/>
          <a:stretch/>
        </p:blipFill>
        <p:spPr>
          <a:xfrm>
            <a:off x="1676520" y="2057400"/>
            <a:ext cx="4952880" cy="4282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NTERNAL VERSION</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Insertion of a hand into the uterine cavity to turn the fetus manually.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operator seizes one or both feet and draws them through the fully dilated cervix while using the other hand to transabdominally push the upper portion of the fetal body in the opposite direction.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operation is followed by breech extraction</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46b86"/>
                </a:solidFill>
                <a:latin typeface="Georgia"/>
              </a:rPr>
              <a:t>THANK YOU</a:t>
            </a:r>
            <a:endParaRPr b="0" lang="en-US" sz="6000" spc="-1" strike="noStrike">
              <a:solidFill>
                <a:srgbClr val="000000"/>
              </a:solidFill>
              <a:latin typeface="Georgia"/>
            </a:endParaRPr>
          </a:p>
        </p:txBody>
      </p:sp>
      <p:sp>
        <p:nvSpPr>
          <p:cNvPr id="778"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4200" spc="-1" strike="noStrike">
              <a:solidFill>
                <a:srgbClr val="d1634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3.FRANK BREECH </a:t>
            </a:r>
            <a:endParaRPr b="0" lang="en-US" sz="2700" spc="-1" strike="noStrike">
              <a:solidFill>
                <a:srgbClr val="000000"/>
              </a:solidFill>
              <a:latin typeface="Georgia"/>
            </a:endParaRPr>
          </a:p>
        </p:txBody>
      </p:sp>
      <p:pic>
        <p:nvPicPr>
          <p:cNvPr id="631" name="Picture 2" descr="Figure 24-1"/>
          <p:cNvPicPr/>
          <p:nvPr/>
        </p:nvPicPr>
        <p:blipFill>
          <a:blip r:embed="rId1"/>
          <a:stretch/>
        </p:blipFill>
        <p:spPr>
          <a:xfrm>
            <a:off x="1905120" y="2057400"/>
            <a:ext cx="467820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BDOMINAL EXAMINATION:</a:t>
            </a:r>
            <a:br>
              <a:rPr sz="3000"/>
            </a:br>
            <a:r>
              <a:rPr b="1" lang="en-PH" sz="3000" spc="-1" strike="noStrike">
                <a:solidFill>
                  <a:srgbClr val="7b9899"/>
                </a:solidFill>
                <a:latin typeface="Georgia"/>
              </a:rPr>
              <a:t>LEOPOLD’S MANEUVER</a:t>
            </a:r>
            <a:endParaRPr b="0" lang="en-US" sz="30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4" name="Picture 2" descr="Figure 24-23"/>
          <p:cNvPicPr/>
          <p:nvPr/>
        </p:nvPicPr>
        <p:blipFill>
          <a:blip r:embed="rId1"/>
          <a:srcRect l="0" t="0" r="0" b="10168"/>
          <a:stretch/>
        </p:blipFill>
        <p:spPr>
          <a:xfrm>
            <a:off x="685800" y="1600200"/>
            <a:ext cx="77770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06:35:36Z</dcterms:created>
  <dc:creator>Carla L. dela Cruz, MD.</dc:creator>
  <dc:description/>
  <dc:language>en-US</dc:language>
  <cp:lastModifiedBy>joseph c. nash</cp:lastModifiedBy>
  <dcterms:modified xsi:type="dcterms:W3CDTF">2012-06-07T04:57:42Z</dcterms:modified>
  <cp:revision>5</cp:revision>
  <dc:subject/>
  <dc:title>Slide 1</dc:title>
</cp:coreProperties>
</file>