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669-0638-46AB-A1B8-14E84A52A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B0BF-ED55-4FE8-B168-71960336D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BFA-D872-4FA1-A30E-AE53C164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45A-2535-4FA0-A912-1F287EB9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B27-7C01-4ED1-8C95-17E9A98E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1E1-BBD0-4E17-82BE-54A77D9E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F47-41C0-4593-B94A-B09ADE68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37F-DB2B-4311-8D47-BE275EC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8C2-1490-40D0-8469-522434D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14E-E4F9-457D-B259-FEADD706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652-C855-4B6E-9CAE-A7F9E170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691-9427-4C73-97BE-870CF51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93D-C6C2-468C-987D-D91D6020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14F-C04F-4294-AAE7-A342E4D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F595-9518-4386-9E8F-BED023E729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3FA3-A649-4627-BCB5-2B84EB0806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onadal Disorde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omi M. Sotto-Nocheseda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linefelter Syndrome (47XX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/500 newborn m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% mentally retarded, IQ&gt;50, psychiatr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% infertile m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-10% oligospermia or azoosper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xxy most common chromosomal pattern (8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ra chromosome 54% maternal &amp; 46% pater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ernal age may be a fa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aics &amp; varia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condition should be considered in all boys with mental retardation &amp; in children with psychosocial, learning or school adjustment proble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44756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xious, immature, excessively shy or aggress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bal IQ- reading, spelling, math difficul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lized learning disabilities, 4-5 grade levels behi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l, slim, underweight, long le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ayed puberty, sparse ha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ynecomastia in 8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idence of pulmonary disease, varicose veins, breast cancer (7.5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KlinefeltersIMG.jpg"/>
          <p:cNvPicPr/>
          <p:nvPr/>
        </p:nvPicPr>
        <p:blipFill>
          <a:blip r:embed="rId1"/>
          <a:srcRect l="-114046" t="0" r="-114046" b="0"/>
          <a:stretch/>
        </p:blipFill>
        <p:spPr>
          <a:xfrm>
            <a:off x="-3240000" y="457200"/>
            <a:ext cx="10567800" cy="563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klienfelter_1.jpg"/>
          <p:cNvPicPr/>
          <p:nvPr/>
        </p:nvPicPr>
        <p:blipFill>
          <a:blip r:embed="rId2"/>
          <a:stretch/>
        </p:blipFill>
        <p:spPr>
          <a:xfrm>
            <a:off x="4343400" y="838080"/>
            <a:ext cx="4267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klinefelter_gyno_43_05.jpg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atory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24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osterone, ↑estradiol, ↑gonadotrop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zoosper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icular biopsy- absent germinal cells, sertoli cell predomi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mosomal ty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images.jpg"/>
          <p:cNvPicPr/>
          <p:nvPr/>
        </p:nvPicPr>
        <p:blipFill>
          <a:blip r:embed="rId1"/>
          <a:stretch/>
        </p:blipFill>
        <p:spPr>
          <a:xfrm>
            <a:off x="1595520" y="914400"/>
            <a:ext cx="54910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acting testosterone beginning at 11-12 y/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ing dose 25-50 mg IM q 3-4 wk with 50 mg increments every 6-9 mo until a maintenance dose for adults 200-250 mg q 3-4 w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osterone gels/pa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cular sperm extraction followed by intracytoplasmic sperm in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X M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0,000 newborn 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e phenotype, small testes &amp; phal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vidence of mullerian duct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scended testes, hypospadias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necomastia, infert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mbles Klinefelter syndrome but with greater st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rner Syndrome (45X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xual infantilism, webbed neck &amp; cubitus  valgum in adult fem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bination of the characteristic phenotype features accompanied by complete or partial absence of the second chromosome with or without mosaic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sticular Hypo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pergonadotropic hypogonadism (Primar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elevated levels of gonadotrop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pogonadotropic  hypogonadism (Secondar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low or absent levels of gonadotrop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/1,500-2,500 newborn fem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celerated disappearance of oocy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arian streaks, usually connective tissue with few germ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bi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dema of the dorsa of hands and fe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loose skin folds at the nape and ne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childho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webbing of neck, low posterior hair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mall mandible, prominent 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high arched palate, broad ch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ubitus valgus, hyperconvex n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stature- cardinal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of sexual mat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defects- aortic valve defects, COA, MVP, renal malformations (pelvic kidneys, horseshoe kidneys, double collecting system), autoimmune thyroid disease, inflammatory bowel syndrome, scoliosis, sternal malformation, pigmented ne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rent bilateral otitis media in 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ori-neural hearing defic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ss &amp; fine motor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dys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intelligence in mos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aic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slide13.gif"/>
          <p:cNvPicPr/>
          <p:nvPr/>
        </p:nvPicPr>
        <p:blipFill>
          <a:blip r:embed="rId1"/>
          <a:stretch/>
        </p:blipFill>
        <p:spPr>
          <a:xfrm>
            <a:off x="797040" y="1027080"/>
            <a:ext cx="68990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slide15.gif"/>
          <p:cNvPicPr/>
          <p:nvPr/>
        </p:nvPicPr>
        <p:blipFill>
          <a:blip r:embed="rId1"/>
          <a:stretch/>
        </p:blipFill>
        <p:spPr>
          <a:xfrm>
            <a:off x="849240" y="1066680"/>
            <a:ext cx="6694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slide17.gif"/>
          <p:cNvPicPr/>
          <p:nvPr/>
        </p:nvPicPr>
        <p:blipFill>
          <a:blip r:embed="rId1"/>
          <a:stretch/>
        </p:blipFill>
        <p:spPr>
          <a:xfrm>
            <a:off x="747720" y="990720"/>
            <a:ext cx="6948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slide16.gif"/>
          <p:cNvPicPr/>
          <p:nvPr/>
        </p:nvPicPr>
        <p:blipFill>
          <a:blip r:embed="rId1"/>
          <a:stretch/>
        </p:blipFill>
        <p:spPr>
          <a:xfrm>
            <a:off x="849240" y="1066680"/>
            <a:ext cx="68468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slide18.gif"/>
          <p:cNvPicPr/>
          <p:nvPr/>
        </p:nvPicPr>
        <p:blipFill>
          <a:blip r:embed="rId1"/>
          <a:stretch/>
        </p:blipFill>
        <p:spPr>
          <a:xfrm>
            <a:off x="747720" y="990720"/>
            <a:ext cx="70246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slide19.gif"/>
          <p:cNvPicPr/>
          <p:nvPr/>
        </p:nvPicPr>
        <p:blipFill>
          <a:blip r:embed="rId1"/>
          <a:stretch/>
        </p:blipFill>
        <p:spPr>
          <a:xfrm>
            <a:off x="457200" y="457200"/>
            <a:ext cx="77868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genital Anorch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6% ( 1/20,000 ma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palpable testes, normal external genit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xious factor damaging the fetal testes after sexual differentiation (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ek of fetal lif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ishing testes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familial, monozygotic tw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ryonic regression syndr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atory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a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G of heart, kidneys, ov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studies – most common skeletal abnormalities: shortening of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atarsal &amp; metacarpal bones, epiphyseal dysgenesis in the joints of knees &amp; elbows, scoli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otropins especially F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binant h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gate estrogen 0.3-0.625 mg daily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nized estradiol 0.5 mg daily for 3-6 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cled with progesterone 5-10 mg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ychosocial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vitro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orders of Sex Development (Intersex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pancy between the morphology of the gonads and that of the external genitalia (inters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, appropriate term- disorders of sex development (DSD) →  atypical development of chromosomal, gonadal or anatomical se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6 XX DS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male pseudohermaphrod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otype is XX,  gonads are ovaries, external genitalia are virilized ( clitoral hypertrophy &amp; labioscrotal fusion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AM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 – CAH (21-OH deficienc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B-OH deficiency, 3B-OHdehydrogenas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matas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ilizing maternal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on of androgenic drugs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6 XY DS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le pseudohermaphrod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otype is XY, external genitalia are incompletely virilized, ambiguous or completely fema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nads are invariably testes ranging from rudimentary to norm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ects in testicular differenti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ects in testicular horm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ects in androgen action – most common form → androgen insensitivity syndromes, partial or compl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termined 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votesticular DS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ue hermaphrod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nadal inters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ue inters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arian and testicular tissues are present either in the same or in opposite gona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6 ,XX in 70% of all patients, 10% 46, X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% 46,XX/46,XY  mosaicis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st frequently  encountered gonad is an ovotestes, usually bilate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unilateral, the ovarian tissue is normal but testicular tissue is dysgeneti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mosomal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rmonal ass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lvic US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udimentary Te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ceedingly small tes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herited as autosomal or X-linked tra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icular  atrophy following damage to the vascula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rophy following bilateral torsion of tes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orchitis following mum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mediate (medical emergency) to decide on the sex of rea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m appro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counse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sychosocial/sexual counse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gical repair of genitalia – vaginoplasty/reduction of clitoromega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rmonal replac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Testicular Damage Due to Chemotherapy and Radiation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extent of damage dependent on agent used, dose, duration of therapy, post-therapy interval of observation, age of pati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examples- cyclophosphamide, ifosfamide, cisplatin  interleukin-2 , interfer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zoospermia&amp; infertility &gt; Leydig cell damag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ation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mporary azoospermia  &gt;0.1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anent azoospermia  &gt; 2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d damage to Leydig cells 6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gonadism  ≥ 30 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antile penis, scrot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nt facial, axillary, pubic ha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gh pitched vo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t accumulation around the hi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unucho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SH &amp; LH, ↓testoster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MH level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hibin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oster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5:46:49Z</dcterms:created>
  <dc:creator>mimi</dc:creator>
  <dc:description/>
  <dc:language>en-US</dc:language>
  <cp:lastModifiedBy>asus</cp:lastModifiedBy>
  <cp:lastPrinted>2011-10-31T04:48:31Z</cp:lastPrinted>
  <dcterms:modified xsi:type="dcterms:W3CDTF">2011-10-31T04:51:29Z</dcterms:modified>
  <cp:revision>29</cp:revision>
  <dc:subject/>
  <dc:title>Gonadal Disorders</dc:title>
</cp:coreProperties>
</file>