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9E5-077A-40DA-9AD6-04E7C521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EE07-FDD6-4AF0-BE33-E13CBD9DD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B24-5463-4118-9591-64062257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3C8-C40A-42BA-BA3B-413BC18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D9E-4D55-49F7-8C20-0CD8B0E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660-385A-46D8-87A5-8B954A00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032-81E8-4F1C-A756-E2E8B35D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E1D-0750-4EC7-A9C6-6F84C8E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AF1-7EB2-42AF-BB25-2A1712F7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13C-706D-434B-A6CF-1881E2F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6BC-834F-4418-84E5-BFDA079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3F8-4145-4EE5-AE91-058626C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AD3-7A25-4972-BE3D-71538C3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FF1-7543-4345-A501-5B4E9E3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C6D-DF93-481E-8CB8-232D106BD7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97C-25B3-48E9-87A1-A350B1B286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onadal Disord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omi M. Sotto-Nocheseda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linefelter Syndrome (47XX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500 newborn m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% mentally retarded, IQ&gt;50, psychiatr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% infertile m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-10% oligospermia or azoosper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xxy most common chromosomal pattern (8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ra chromosome 54% maternal &amp; 46% pater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ernal age may be a fa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aics &amp; varia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condition should be considered in all boys with mental retardation &amp; in children with psychosocial, learning or school adjustment proble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xious, immature, excessively shy or aggress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bal IQ- reading, spelling, math difficul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ized learning disabilities, 4-5 grade levels beh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l, slim, underweight, long le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ayed puberty, sparse ha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ynecomastia in 8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idence of pulmonary disease, varicose veins, breast cancer (7.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KlinefeltersIMG.jpg"/>
          <p:cNvPicPr/>
          <p:nvPr/>
        </p:nvPicPr>
        <p:blipFill>
          <a:blip r:embed="rId1"/>
          <a:srcRect l="-114046" t="0" r="-114046" b="0"/>
          <a:stretch/>
        </p:blipFill>
        <p:spPr>
          <a:xfrm>
            <a:off x="-3240000" y="457200"/>
            <a:ext cx="10567800" cy="563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klienfelter_1.jpg"/>
          <p:cNvPicPr/>
          <p:nvPr/>
        </p:nvPicPr>
        <p:blipFill>
          <a:blip r:embed="rId2"/>
          <a:stretch/>
        </p:blipFill>
        <p:spPr>
          <a:xfrm>
            <a:off x="4343400" y="83808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linefelter_gyno_43_05.jpg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ato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24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osterone, ↑estradiol, ↑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zoosper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icular biopsy- absent germinal cells, sertoli cell predomi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mosomal ty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images.jpg"/>
          <p:cNvPicPr/>
          <p:nvPr/>
        </p:nvPicPr>
        <p:blipFill>
          <a:blip r:embed="rId1"/>
          <a:stretch/>
        </p:blipFill>
        <p:spPr>
          <a:xfrm>
            <a:off x="1595520" y="914400"/>
            <a:ext cx="54910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acting testosterone beginning at 11-12 y/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ing dose 25-50 mg IM q 3-4 wk with 50 mg increments every 6-9 mo until a maintenance dose for adults 200-250 mg q 3-4 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osterone gels/pa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cular sperm extraction followed by intracytoplasmic sperm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X M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0,000 newbor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 phenotype, small testes &amp; phal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vidence of mullerian duct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scended testes, hypospadias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necomastia, infert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mbles Klinefelter syndrome but with greater st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rner Syndrome (45X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xual infantilism, webbed neck &amp; cubitus  valgum in adult fem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bination of the characteristic phenotype features accompanied by complete or partial absence of the second chromosome with or without mosaic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icular Hypo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ergonadotropic hypogonadism (Primar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elevated levels of 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ogonadotropic  hypogonadism (Secondar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low or absent levels of 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1,500-2,500 newborn fem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celerated disappearance of oocy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arian streaks, usually connective tissue with few germ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bi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dema of the dorsa of hands and f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loose skin folds at the nape and ne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childh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webbing of neck, low posterior hair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mall mandible, prominent 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high arched palate, broad ch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ubitus valgus, hyperconvex n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stature- cardinal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of sexual mat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defects- aortic valve defects, COA, MVP, renal malformations (pelvic kidneys, horseshoe kidneys, double collecting system), autoimmune thyroid disease, inflammatory bowel syndrome, scoliosis, sternal malformation, pigmented ne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rent bilateral otitis media in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ori-neural hearing defic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ss &amp; fine motor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intelligence in mos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ai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slide13.gif"/>
          <p:cNvPicPr/>
          <p:nvPr/>
        </p:nvPicPr>
        <p:blipFill>
          <a:blip r:embed="rId1"/>
          <a:stretch/>
        </p:blipFill>
        <p:spPr>
          <a:xfrm>
            <a:off x="797040" y="1027080"/>
            <a:ext cx="68990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slide15.gif"/>
          <p:cNvPicPr/>
          <p:nvPr/>
        </p:nvPicPr>
        <p:blipFill>
          <a:blip r:embed="rId1"/>
          <a:stretch/>
        </p:blipFill>
        <p:spPr>
          <a:xfrm>
            <a:off x="849240" y="1066680"/>
            <a:ext cx="669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slide17.gif"/>
          <p:cNvPicPr/>
          <p:nvPr/>
        </p:nvPicPr>
        <p:blipFill>
          <a:blip r:embed="rId1"/>
          <a:stretch/>
        </p:blipFill>
        <p:spPr>
          <a:xfrm>
            <a:off x="747720" y="990720"/>
            <a:ext cx="694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slide16.gif"/>
          <p:cNvPicPr/>
          <p:nvPr/>
        </p:nvPicPr>
        <p:blipFill>
          <a:blip r:embed="rId1"/>
          <a:stretch/>
        </p:blipFill>
        <p:spPr>
          <a:xfrm>
            <a:off x="849240" y="1066680"/>
            <a:ext cx="6846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slide18.gif"/>
          <p:cNvPicPr/>
          <p:nvPr/>
        </p:nvPicPr>
        <p:blipFill>
          <a:blip r:embed="rId1"/>
          <a:stretch/>
        </p:blipFill>
        <p:spPr>
          <a:xfrm>
            <a:off x="747720" y="990720"/>
            <a:ext cx="70246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slide19.gif"/>
          <p:cNvPicPr/>
          <p:nvPr/>
        </p:nvPicPr>
        <p:blipFill>
          <a:blip r:embed="rId1"/>
          <a:stretch/>
        </p:blipFill>
        <p:spPr>
          <a:xfrm>
            <a:off x="457200" y="457200"/>
            <a:ext cx="77868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genital Anorch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6% ( 1/20,000 ma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palpable testes, normal external genit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xious factor damaging the fetal testes after sexual differentiation (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ek of fetal lif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ishing testes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familial, monozygotic tw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ryonic regression syndr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ato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a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G of heart, kidneys, ov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studies – most common skeletal abnormalities: shortening of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atarsal &amp; metacarpal bones, epiphyseal dysgenesis in the joints of knees &amp; elbows, scol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otropins especially F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binant h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gate estrogen 0.3-0.625 mg daily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nized estradiol 0.5 mg daily for 3-6 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cled with progesterone 5-10 mg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vitro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orders of Sex Development (Intersex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pancy between the morphology of the gonads and that of the external genitalia (inters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, appropriate term- disorders of sex development (DSD) →  atypical development of chromosomal, gonadal or anatomical se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6 XX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male pseudohermaphrod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otype is XX,  gonads are ovaries, external genitalia are virilized ( clitoral hypertrophy &amp; labioscrotal fusion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AM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 – CAH (21-OH deficie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B-OH deficiency, 3B-OHdehydrogenas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matas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ilizing maternal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of androgenic drugs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6 XY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le pseudohermaphrod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otype is XY, external genitalia are incompletely virilized, ambiguous or completely fema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nads are invariably testes ranging from rudimentary to norm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testicular differenti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testicular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androgen action – most common form → androgen insensitivity syndromes, partial or compl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termined 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otesticular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ue hermaphrod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nadal inter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ue inter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arian and testicular tissues are present either in the same or in opposite gona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6 ,XX in 70% of all patients, 10% 46, X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% 46,XX/46,XY  mosaicis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st frequently  encountered gonad is an ovotestes, usually bilate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unilateral, the ovarian tissue is normal but testicular tissue is dysgeneti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mosomal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rmonal ass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lvic US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dimentary Te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ceedingly small tes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herited as autosomal or X-linked tra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icular  atrophy following damage to the vascula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rophy following bilateral torsion of tes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orchitis following mum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mediate (medical emergency) to decide on the sex of rea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 appro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couns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sychosocial/sexual couns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gical repair of genitalia – vaginoplasty/reduction of clitoromega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rmonal replac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esticular Damage Due to Chemotherapy and Radiation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xtent of damage dependent on agent used, dose, duration of therapy, post-therapy interval of observation, age of pati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xamples- cyclophosphamide, ifosfamide, cisplatin  interleukin-2 , interfer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zoospermia&amp; infertility &gt; Leydig cell damag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ation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mporary azoospermia  &gt;0.1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anent azoospermia  &gt; 2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d damage to Leydig cells 6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gonadism  ≥ 30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antile penis, scrot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nt facial, axillary, pubic ha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gh pitched v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t accumulation around the h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unucho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SH &amp; LH, ↓testoster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H level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ibin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oster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5:46:49Z</dcterms:created>
  <dc:creator>mimi</dc:creator>
  <dc:description/>
  <dc:language>en-US</dc:language>
  <cp:lastModifiedBy>asus</cp:lastModifiedBy>
  <cp:lastPrinted>2011-10-31T04:48:31Z</cp:lastPrinted>
  <dcterms:modified xsi:type="dcterms:W3CDTF">2011-10-31T04:51:29Z</dcterms:modified>
  <cp:revision>29</cp:revision>
  <dc:subject/>
  <dc:title>Gonadal Disorders</dc:title>
</cp:coreProperties>
</file>