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870-E1F0-4BE1-8F3A-0AD34DDF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92B-031B-471A-AF0D-41EE9F0A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EBB-AF68-43A4-B569-62098F39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F02-D16C-48C9-9574-22AED7CF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EAC7-AC6D-4603-9B8B-539220B4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A4CD-23E3-48AD-AF5C-92338965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6876-E675-4D20-AB11-9F916C5B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EDA3-CF6B-4036-9963-3C40DC49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CD9B-E285-4D05-8A56-31115DBB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A2F1-394A-4464-8C26-39A3E8DD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83B0-F465-4C98-B4CA-73955E4A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108-A5FF-4F9F-937C-AB22DAA7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2B62-83BA-4204-B336-C535880F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2D58-B204-4F07-B9BD-D9F8F6C8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D145-1D3C-4152-8B23-3AE28997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9A87-7AF0-4C71-AA35-54C94291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4A3E-8DBD-49BC-AA12-C35DBA4F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C71-96A0-48F7-88FA-2CA3533F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B8D-5C3D-4698-BAA9-A4A090F1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C60-5148-47BB-BE8E-B2393130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CB5-AE4A-47E3-8AA4-F5F5C990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86E-67B8-4C0A-83E9-2A2404E2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9D0-48AE-4922-B0E8-F76072B1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E81-B196-491D-AAE9-9DE7ECDA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EB7A-CF44-427D-B3CF-5D45435DA4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C73C-A394-4313-8C56-C811B3EA2D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imon R1"/>
              </a:rPr>
              <a:t>emeronTI1 ³ karvivtþn_énRTwsþIGPivDÆn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1"/>
              </a:rPr>
              <a:t>1&gt;1 TsSn³vis½yCaRbvtiþsaRsþénkarGPivDÆn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volution of Development The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man 4 dMNak;kalKW 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RbmUlplFmµCati nigbr)aj;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daMduH nigciBa©wmstV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begáInplitkmµksikmµtamry³bBa©Únbec©kviTüaksikm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eeFVI[manesßrPaBplitkmµ nigéføksikm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K&gt; karGPivDÆn_kñúgTsvtSn_TI 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nAkñúgTsvtSn_TI 70 GgÁkarshRbCaCati)anemIleXIjya:gc,as;GMBIbBaða sgÁmmYycMnYn EdlTak;TgnwgkarbMpøajbrisßan PaBGt;Xøan karxVHlMenA nigkarxVHkargareFV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nAqñaM 1975 mUlniF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g Hammaskjold</a:t>
            </a:r>
            <a:r>
              <a:rPr b="1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)anesñIrsuM[man karGPivDÆn_mYyepSgeTot KWkarsikSaedIm,IGPivDÆn_edaymankar cUlrY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uman Centred Development)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nAkñúgmhasnñi)atEdl]btßmÖed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LO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enAqñaM 1976  )anRbkasGMBI dMeNaHRsaytRmUvkarcaM)ac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asic Need Approa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KTTYlsÁal;fa karlUtlas;esdækic©minGaclubbM)at;nUvPaBGt;Xøan nigTukçevTna)aneLI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BlenaHeK)anesñIsuM[KitKUdl;RbCaBlrdæEdlmankMritCIvPaBrs;enAeRkam PaBRkIRkdac;x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solute Pover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dUecñHehIy)anCaGñkCMnajrbs;GgÁk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ESCO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)anbegáItnUv TsSn³TanmYyeTotKW karGPivDÆn_Ep¥kelIcMeNHdwg b¤mUldæanrbs;GñkRsu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dogenous Develop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TsSn³enHRbqaMgeTAnwgkarcmøgykbec©kviTüatamsgÁm]sSahkmµ eCOnelOn EdleKcat;TukCaKMrUEtmYy sRmab;BiPBelak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ab;BIeBlenaHmkKMnitpþÜcepþImTaMgLayRtUv)anecjmkGMBIvb,Fm’ nigRbB½n§epSg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X&gt; karGPivDÆn_kñúgTsvtSn_TI 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nAkñúgTsvtSn_TI 80 enHeKyl;eXIjfa karbegáInKuNPaBCIvIt tamry³ karFana[)annUvkarEbgEckRbkbedaysmFm’nUvkMeNInesdækic© nigkarpþl;lT§PaB[RbCaCnGPivDÆedayxøÜnÉg CaktþacaM)ac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dIm,IseRmceKaledAenH TamTar[mankEnTRmg; nigkarGnuvtþn_neya)ay vimCÄkar KWfñak;elI b¤fñak; kNþal)anepÞrsiT§iGMNacmYycMnYnEdlTak;Tgnwg vis½yesdækic© sgÁm eTA[shKm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yuT§saRsþ b¤rebobedaHRsayBImUldæaneTA nwgPaBCaédKUrvagrdæaPi)al nigsgÁmsIuvilnana RtUv)aneKTTYly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GPivDÆn_tamry³GgÁkarkñúgRsukRtUv)aneKykcitþTukdak;CaxøaM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g&gt; karGPivDÆn_kñúgTsvtSn_TI 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MeNItfµIénkarGPivDÆn_EdleKniyayfa  : karGPivDÆn_eLIgvij  :  KWCakarGPivDÆn_nirnþrPaB sRmab;GnaKtrYmKña edayepþateTAelIbrisßan FmµCatiébtg nigRbCaFibety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enAedImTsvtSn_TI 90 FnaKarBiPBelak)ancab;GarmµN_CaxøaMgelIkar lUtlas;esdækic©d¾elOnenAGasIuxagekIt b:uEnþva)andYlrlMeTAv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qøgtambTBiesaFn_knøgeTAenH eK)anbegáItTsSn³TanmYybEnßmeTotKW       : karGPivDÆn_nirnþr PaBedaymankarcUlrYmBIRbCaCn  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ustainable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-centred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1&gt;2&gt;2 viFIsaRsþGPivDÆn_énvis½ysMxan;²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Key Sector Appro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neya)ayGPivDÆn_kñúgTsvtSn_TI 60 eKepþateTAelIEpñksMxan;²EdlRtUv )ancat;TukCa]bsKÁ dl; karlUtlas;esdækic© KWkarbnßyPaBRkIRkenA CnbT tamry³kMeNInplitkmµksikmµedaykareFVI </a:t>
            </a:r>
            <a:r>
              <a:rPr b="1" lang="en-US" sz="4000" spc="-1" strike="noStrike">
                <a:solidFill>
                  <a:srgbClr val="000000"/>
                </a:solidFill>
                <a:latin typeface="Limon S1"/>
              </a:rPr>
              <a:t>bdivtþn_ ébtg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epÞrbec©kviTüa)ankøayeTACayuT§saRsþKnøwH edayeRbIR)as;nUvFnFan CahirBaØvtßú nigbec©k eTsCaeRcIn edIm,IRsavRCavksikmµ karbNþúHbNþal \NTan karrkTIpSar karbegáItshKmn_ nigkmµviFI pSBVpSayksikm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mnusSsMxan;² enAkñúgsm½yenH KWGñkÉkeTstamEpñk nigGñkerobcMEpnkar énkmµviFIGPivDÆn_Edl tRmg;eTArkkarerobcMfµInUvTunplit BRgwgsmtßPaB FnFanmnusS nigTb;kMeNInRbCaC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cUlrYmRtUv)anbMpusedaypþl;Bt’man edIm,I[RbCaCneKKaMRTkmµviF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bec©keTs nigkardaMduH tamEbbRbéBNI RtUveKKitfahYssm½y ehIyvaCa ]bsKÁdl;karGPivDÆn_ dUecñHRtUvCMnYsedaybec©keTs ksikmµTMenI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MeNInplitkmµksikmµRtUv)aneKyl;faCadMeNaHRsaymYyedIm,IbnßyPaB RkIRkenAtamCnb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Limon S1"/>
              </a:rPr>
              <a:t>yuT§saRsþ énkarepÞrbec©keTs KWQrelImUldæanBIr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sikrnwgTTYlya:gqab;rh½snUvEbbEpnepSg² fµI²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cMNUlrbs;eKnwgekIneLIg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1&gt;2&gt;3 karGPivDÆn_mUldæantamviFIsaRsþEbbsmFm’ 19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cal Development Through Equity Approaches, 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TsvtSn_TI 70 KWCaeBlcab;epþIméneKalneya)ayGPivDÆn_CnbT EdlepþatelIkMeNInesdækic© CamYynwgsmFm’sgÁ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KaledA nig\T§iBlénkarEkERbsgÁm edaykarEbgEckRbkmedaysmFm’ én kMeNInesdækic© KWRtUv)anykcitþTukdak; dUcCakarlUtlas;esdækic©Ed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lIsBIdMeNIrkarEpñkrdæ)al karpþl;esvakmµ nigepÞrFnFankarGPivDÆn_ CnbTRtUv)aneKsÁal;fa Ca dMeNIrkarEdlTamTar[mankarpøas;bþÚr rcna sm&lt;½n§ EdlGacnaMeTArksmFm’ nigPaBm©as;karxøÜnÉg énGñkRkIRkenAtam Cnb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1"/>
              </a:rPr>
              <a:t>1&gt;2 karvivtþn_énTsSn³Tan-RTwsþIénkarGPivDÆn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velopment Con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BiPakSaelIBakü  : GPivDÆn_  : kñúgry³eBl 50 qñaMknøgeTA vahak;dUcCa mankarvivtþn_dUcCa 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GPivDÆn_esdækic©edaysarkarrIkcMerInénviTüasaRsþ nig]sSahUb- nIykm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GPivDÆn_esdækic©-sgÁm neya)a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daysarEtgEtmankarExVgKMnitKñakñúgdMeNIrkarenH GñkÉkeTsxag neya)ay nigkarRKb;RKg KWCamnusSsMxan;kññúgkaeGnuvtþn_ nigRtYtBinitü kmµviFIGPivDÆn_Ebben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eFVIvimCÄk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centralization)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k¾bBa©ÚlRbB½n§cat;Ecgrdæ)alBIEpñkelI ehIysRmbeTAtamvb,Fm’rbs;GñkRsu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yuT§saRsþGPivDÆn_enH epþatelIPaBCaédKUrvagEpñksaFarN³ nigEpñkÉkCn edaysarmanGgÁk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Os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nigGgÁkarÉkCnsµ½RK citþEdlmantYnaTIkñúg karCMruj nigGnuvtþn_KeRmagGPivDÆn_Cnb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Mruj[ekItmannUvGgÁkarRbCaCnEdlCam©as;karxøÜnÉg vaTamTar[mankar KaMRTBI rdæaPi)al nigPñak;garminEmnrdæaPi)al EdleFVIkarelIEp¥kGPivDÆn_ Cnb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garenH KWRtUvCYyRkumTaMgenH[ecH cat;Ecg nigBRgwgsmtßPaBrbs;eK edIm,IseRmceCaKC½y kñúgkargarGPivDÆn_ edayEp¥kelIcMeNHdwg nig FnFanrbs;GñkRsuk EdlCaRbPBfamBld¾sMxan;sRmab;GPivDÆn_sgÁ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1&gt;2&gt;4 karGPivDÆn_nirnþrP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ustainable Development) By Y.C Jame Yen (1893-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lnSpc>
                <a:spcPct val="90000"/>
              </a:lnSpc>
              <a:spcBef>
                <a:spcPts val="1026"/>
              </a:spcBef>
              <a:buClr>
                <a:srgbClr val="ccccff"/>
              </a:buClr>
              <a:buSzPct val="7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CakarGPivDÆn_ edIm,IbMeBjtRmUvkarrbs;mnusSCMnan;\LÚv edayminePøc Kitdl;tRmUvkar rbs;mnusSCMnan;eRka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lnSpc>
                <a:spcPct val="90000"/>
              </a:lnSpc>
              <a:spcBef>
                <a:spcPts val="1026"/>
              </a:spcBef>
              <a:buClr>
                <a:srgbClr val="ccccff"/>
              </a:buClr>
              <a:buSzPct val="7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CakarGnuvtþn_nUvrebobGPivDÆn_fµI EdlelIksÞÜydl;nirnþrPaBbrisßan smFm’-sgÁm kmµsiT§rYm karRKb;RKgrYmKñaeTAelIFnFan lkçN³esµI PaBKñaEpñkEynD½r nigPaBesñIPaB KñarvagRbCaCatinana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lnSpc>
                <a:spcPct val="90000"/>
              </a:lnSpc>
              <a:spcBef>
                <a:spcPts val="1026"/>
              </a:spcBef>
              <a:buClr>
                <a:srgbClr val="ccccff"/>
              </a:buClr>
              <a:buSzPct val="7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CakarGPivDÆn_edIm,IbMeBjtRmUvkarrbs;mnusSCMnan;\LÚv Etmin[b:H Bal;dl;lT§PaB rbs;mnusSCMnan;eRkaykñúgkarbMeBjtRmUvkarrbs;eK ehIykarGPivDÆn_EbbenH RbCaCnGacRKb;RKg nigcat;Ecg)aneday xøÜnÉg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33800" y="533520"/>
            <a:ext cx="7739280" cy="5648400"/>
            <a:chOff x="1333800" y="533520"/>
            <a:chExt cx="7739280" cy="5648400"/>
          </a:xfrm>
        </p:grpSpPr>
        <p:sp>
          <p:nvSpPr>
            <p:cNvPr id="120" name=""/>
            <p:cNvSpPr/>
            <p:nvPr/>
          </p:nvSpPr>
          <p:spPr>
            <a:xfrm>
              <a:off x="2590920" y="533520"/>
              <a:ext cx="3989520" cy="158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imon S1"/>
                </a:rPr>
                <a:t>lT§plRbkbedaynirnþrPa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Limon S1"/>
                </a:rPr>
                <a:t>CMnYyEpñkGPivDÆn_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50280" y="4598280"/>
              <a:ext cx="3322800" cy="158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imon S1"/>
                </a:rPr>
                <a:t>plcMeNjRbkbeday nirnþrP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0" lang="en-US" sz="4000" spc="-1" strike="noStrike">
                  <a:solidFill>
                    <a:srgbClr val="000000"/>
                  </a:solidFill>
                  <a:latin typeface="Limon S1"/>
                </a:rPr>
                <a:t>sRmab;RbCaC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496800">
              <a:off x="1227960" y="2970720"/>
              <a:ext cx="2006280" cy="703080"/>
            </a:xfrm>
            <a:prstGeom prst="leftArrow">
              <a:avLst>
                <a:gd name="adj1" fmla="val 50000"/>
                <a:gd name="adj2" fmla="val 713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4161200">
              <a:off x="5554440" y="2946600"/>
              <a:ext cx="2034360" cy="700560"/>
            </a:xfrm>
            <a:prstGeom prst="leftArrow">
              <a:avLst>
                <a:gd name="adj1" fmla="val 50000"/>
                <a:gd name="adj2" fmla="val 725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4253040" y="5050440"/>
              <a:ext cx="1316520" cy="952920"/>
            </a:xfrm>
            <a:prstGeom prst="leftArrow">
              <a:avLst>
                <a:gd name="adj1" fmla="val 50000"/>
                <a:gd name="adj2" fmla="val 345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38080" y="4648320"/>
            <a:ext cx="3162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dMeNIrRbkbedaynirnþrP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FVIedayRbCaC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tþaGPivDÆn_RbkbedaynirnþrPaB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TMnak;TMngrvagbec©keTs nigbrisßa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TMnak;TMngrvaghirBaØvtßú nigesdækic©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26"/>
              </a:spcBef>
              <a:buClr>
                <a:srgbClr val="ccccff"/>
              </a:buClr>
              <a:buSzPct val="7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TMnak;TMngrvagvb,Fm’ sgÁm nigneya)a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lvl="1" marL="53496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tamKMnitrbs;GñkÉkeTsGPivDÆn_mYycMnYn bEnßmelIkar[niymn½y énBakü   : nirnþrPaB  : CaKnøwHdUcCa ³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1&gt; karGPivDÆn_RbkbedaynirnþrPaB Cakarpþl;GtßiPaBeTAelIkarRbmUl pþMúnUvFnFanTaMgGs;enAkñúg mUldæansRmab;vinieyaK kñúgkarGb;rM ksag smtßPaBrbs;RbCaCn kñúgeKalbMNg[Kat;TTYlxusRtUvpÞal; cMeBaH karEklMGrCIvPaBrs;enArbs;Kat; shKmn_ nigFnFanEdlman nigcUl rYmkñúgdMeNIrkarseRmccitþRKb;kMrit 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2&gt; karGPivDÆn_RbkbedaynirnþrPaB KWkarykRbCaCnCaFM .  eKcat;TukRbCaCnCacMNucEdlRtUv ykcitþTukdak;xøaMgCageK BIeRBaHRbCaCn CaGñkeFVI[ekItmaneLIg nigbBa©b;nUvkargarGPivDÆn_TaMgGs;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1&gt;2&gt;5 eKaledAGPivDÆn_shsvtSn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illennium Development Goals of UNDP and WB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KaledAGPivDÆn_shsvtSn_man 9cMNucdUcxageRkay 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t;bnßyPaBRkIRk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seRmc[)annUvkarGb;rMfñak;bz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CMruj[mansmFm’ePT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Gender)</a:t>
            </a: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 nigkarpþl;siT§idl;RsþI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t;bnßyGRtasøab;kumar eRkamGayu 5 qña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EklMGrsuxPaBmatuPaB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RbyuT§RbqaMgnwgCMgWeGds_ RKuncaj; nigCMgWepSg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Fana[)annUvnirnþrPaBbrisßa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begáInPaBCaédKU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kare)assMGacm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imon R1"/>
              </a:rPr>
              <a:t>sUmGrKuN 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GPivDÆn_Ep¥kelImUldæan b¤RbéBNIEdlmanRsab; KWkarGPivDÆn_eday manCMenOCak;elI xøÜnÉgtamry³karRsavRCavGMBIvb,Fm’rbs;xøÜnCMnYs TsSn³EdlykmkBIbre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karGPivDÆn_nirnþrPaBedaymankarcUlrYm nigPaBesµaHRtg;BIRbCaC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1"/>
              </a:rPr>
              <a:t>1&gt;2&gt;1 viFIsaRsþénkarGPivDÆn_Ca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Development Appr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Kalneya)ayGPivDÆn_enATsvtSn_qñaM 50 nig 60 KWepþatkarykcitþTukdak; elI]sSahUbnIkm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begáIn[)anqab;rh½snUvplitpldulCatisru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N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nigkarlUtlas;esdækictamry³karepÞrbec©keTs nigT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Gñkesdækic© edIrtYnaTInaMmuxeKkñúg kartak;EtgeKalneya)ayGPivDÆn_ nigerobEpnk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MnucCamUldæanKW eFIVEpnkaresdækic©BIelImkeRk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p Down Process)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MnucCamUldæanmYyeTotKWTun b¤FnFanCameFüa)aysMxan;bMputenAkñúgdMeNIr karGPivDÆn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Tun nigBlkmµ CaeRcInRtUv)aneKCMruj[eRbI]sSahkmµEdlBwgEp¥kelIkar naMcUl nigepþatelIkarnaMec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kaecMNaysaFarN³ KWepþatelIsMNg; ehdæarcnasm&lt;½n§ dUcCa kardwkCBa¢Ún karbegáItePøIgGKÁisnI kMBg;Ep nigeragcRk]sSahkm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b,Fm’ nigcMeNHdwgrbs;GñkRsuk CaktþaEdlKµansar³sMxan;kñúgkarGPivDÆn_ CnbTeT BIeRBaH eKGnuvtþn_Epnk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Dow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mon R4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imon R4"/>
              </a:rPr>
              <a:t>k&gt; karGPivDÆn_kñúgTsvtSn_TI 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elak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chs (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19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eyabl;fa karGPivDÆn_manGayu 50 qñaMehI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KW)ancab;epþImenAéf¶TI 20 Ex mkra 1949 enAeBlEdlela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man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)anRbkasfa RbeTsEpñkxagt,Úg KWCa tMbn;enAeRkamkarGPivDÆn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ab;BIeBlenaHmk karGPivDÆn_tamKMnitBYkGWr:ub RtUv)anTTYlkarykcitþ Tukdak;CaxøaM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Kcat;TukRbeTs]sSahkmµmankarvivtþn_sgÁmx&lt;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htuenHehIy)anCakarGPivDÆn_mann½fa </a:t>
            </a:r>
            <a:r>
              <a:rPr b="1" lang="en-US" sz="4000" spc="-1" strike="noStrike">
                <a:solidFill>
                  <a:srgbClr val="000000"/>
                </a:solidFill>
                <a:latin typeface="Limon S1"/>
              </a:rPr>
              <a:t>CaclnaRbedjtamRbeTs eCOnelOnTaMgena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plvi)akrbs;va KWkar)at;bg;Gs;nUvTMrg;sgÁmedImrbs;x&lt;Ün nigTMenIbEbb bc©wmRb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kñúgTsvtSn_TI 50 karGPivDÆn_mann½ygayfa   : karlUtlas;esdækic© ]sSahUbnIykmµ nigkarekIneLIgéncMNUlsRmab;mnusSmñak;enARbeTs kñúgtMbn;eRkamkarGPivDÆn_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x&gt; karGPivDÆn_kñúgTsvtSn_TI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nAcugTsvtSn_TI 60 eK)anyl;fa karlUtlas;esdækic© RtUv)anrYmdMeNIr edaykMeNInvisalPaBkñúgsgÁ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aelIkTI1 EdlGgÁkarshRbCaCati)anRbkassuM[mankar GPivDÆn_ esdækic© rYmTaMgkarpøas;bþÚrsgÁm nigkarelIksÞÜyKuNPaBrs;enA rbs; RbCaBlrdæp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4:35:37Z</dcterms:created>
  <dc:creator>khc</dc:creator>
  <dc:description/>
  <dc:language>en-US</dc:language>
  <cp:lastModifiedBy>khc</cp:lastModifiedBy>
  <dcterms:modified xsi:type="dcterms:W3CDTF">2011-08-10T03:10:04Z</dcterms:modified>
  <cp:revision>40</cp:revision>
  <dc:subject/>
  <dc:title>emeronTI1 ³ karvivtþn_énRTwsþIGPivDÆn_</dc:title>
</cp:coreProperties>
</file>