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CFE-A023-4692-B9AA-DC266112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DC2-A1FA-4540-8F8C-74DE55EE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A4A-EF50-475B-AF4E-2B0429BC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DA8-7B9F-4BDF-8510-D2B16096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AC3-0F44-41B0-AEA7-38509B43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440-6C5A-465D-9AA6-096B0677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F9B-74E4-4C3A-876F-CFFDA90D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8E0-184A-4DE0-896E-F33CE6FE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44C-8FAC-4276-91B6-DFA935B0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450-862C-4DA3-B83C-3F7C7A9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802-8618-4A6E-92FF-61818F1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652-A371-4A6D-931D-8F1FEAA6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099F8-0637-45D6-B992-10D2C3FDC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A520B-DC3B-478B-BCBD-5AA6E418DB1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6:49:01Z</dcterms:created>
  <dc:creator>최봉수</dc:creator>
  <dc:description/>
  <dc:language>en-US</dc:language>
  <cp:lastModifiedBy>군만두 맛있다</cp:lastModifiedBy>
  <dcterms:modified xsi:type="dcterms:W3CDTF">2023-07-12T06:05:51Z</dcterms:modified>
  <cp:revision>3</cp:revision>
  <dc:subject/>
  <dc:title>슬라이드 1</dc:title>
</cp:coreProperties>
</file>