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94AB-F0AD-499A-A561-A09969901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5C2B-193C-4AAB-853A-6F1587F2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C7C0-B026-4008-8FEF-4681F3B47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3684-C363-4457-9DDE-4B4AC740B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257B-FCC8-4F6B-B1CF-F0DF0A90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3741-0A4D-4304-9F59-D401DD03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FE64-EE3E-4F9D-B737-E79E57C3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A7C3-0CCA-4EE0-8E06-6D44EC17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B7AA-7857-4D78-81EC-F6E2A7EF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112F-531A-46B5-A21B-1F2D2817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F1AE-B4C2-4153-B572-3C4A4C5B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03AB-AC17-41EF-9DB6-CA2A1D78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13844F-235D-409E-ACB4-A71FFFB29B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6210AC-069E-4DD4-9BC3-3825A1EC44D3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5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5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7T16:49:01Z</dcterms:created>
  <dc:creator>최봉수</dc:creator>
  <dc:description/>
  <dc:language>en-US</dc:language>
  <cp:lastModifiedBy>군만두 맛있다</cp:lastModifiedBy>
  <dcterms:modified xsi:type="dcterms:W3CDTF">2023-07-12T06:05:51Z</dcterms:modified>
  <cp:revision>3</cp:revision>
  <dc:subject/>
  <dc:title>슬라이드 1</dc:title>
</cp:coreProperties>
</file>