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AA7-F326-4282-99E1-EF897EF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DD9-F170-4DBD-91F5-51693BF9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FD7-7E3F-46F4-9D91-29F01174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30E-08F5-4E26-9188-CB48534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7A4-209C-4CFA-BB36-7A2E8A8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738-18B6-4C90-9119-FC4676B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FE0-B6E6-4E16-AA50-72B8122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51A-E0D7-4B40-919B-4FE72516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807-051C-451C-9D85-0E27AA1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D98-51A6-495C-9355-AB46B233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029-9EDE-4A3F-AE9D-CC57584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E0B-43F8-4915-8F6A-62EACF5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A3CB6-6FD8-42F9-B28F-80A6DB74DC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11E4D-EF96-4FF5-8B88-AF127278DFE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43:22Z</dcterms:created>
  <dc:creator>최봉수</dc:creator>
  <dc:description/>
  <dc:language>en-US</dc:language>
  <cp:lastModifiedBy>맛있다 군만두</cp:lastModifiedBy>
  <dcterms:modified xsi:type="dcterms:W3CDTF">2024-10-01T03:13:15Z</dcterms:modified>
  <cp:revision>4</cp:revision>
  <dc:subject/>
  <dc:title>슬라이드 1</dc:title>
</cp:coreProperties>
</file>