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741-8F1A-43FA-AD71-A0B4557B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A012-E558-40BA-A2EA-64A0BA3B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8587-8858-4011-86F2-6AA9988C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A88B-5AB7-4777-9BC7-4049235D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29D2-9F8B-4393-97BC-1FDD58E8B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5C5-F292-447C-AA2C-DB7BA3E2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440F-3877-4E3A-9065-100602CF3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404-39C9-4B96-B66B-ED9637BE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157-13E5-417B-B357-67BC518D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C3E8-74C1-442A-A0D7-9C0E500A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AFD1-B14A-4C6C-91E9-BEF72E22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4A47-EAB8-470E-8B7A-A675CA05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7AA85-3F55-4CA4-83CA-8311EF34CF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FA95F-52EE-4324-940D-56683F714D7E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1:43:22Z</dcterms:created>
  <dc:creator>최봉수</dc:creator>
  <dc:description/>
  <dc:language>en-US</dc:language>
  <cp:lastModifiedBy>맛있다 군만두</cp:lastModifiedBy>
  <dcterms:modified xsi:type="dcterms:W3CDTF">2024-10-01T03:13:15Z</dcterms:modified>
  <cp:revision>4</cp:revision>
  <dc:subject/>
  <dc:title>슬라이드 1</dc:title>
</cp:coreProperties>
</file>