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5D5-5720-42D8-BC7E-1FAA4E4C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D5D-90E4-4315-8586-8FF3C6C7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85A-0576-4740-A90D-40B12A80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E67-A43A-49AB-9F09-CD1FDF7C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168-0E12-4B76-9E8B-D2744472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213-3716-44C0-AC49-B59882B8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B34-89D5-4549-AE12-71527C4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E93-459A-41A0-B09E-6E31E145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949-812D-4304-8831-B28ABFAB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34F-5593-4C33-B307-C54471A1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CAA-0170-4EC2-94BA-54A077D5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82E-45BF-46A3-9E75-4F3C20E1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9F3B-A69D-4B94-A77B-BFF56BA57B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2:01:01Z</dcterms:modified>
  <cp:revision>25</cp:revision>
  <dc:subject/>
  <dc:title>슬라이드 1</dc:title>
</cp:coreProperties>
</file>