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779A-4E77-4628-B42D-E4D3DEFD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1D25-EA24-4AAE-BE3A-DC90603E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CBDE-D3CC-45D7-B29E-4CBC7EF3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6481-98DA-4F03-8028-27CEDEEA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D014-D5F1-4E85-A922-200CACC3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DD90-D411-4DC7-A781-4FE6D566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F649-020C-4DC1-9737-9D27107D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1FA8-8AEF-4149-A58F-364CB95A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9930-601F-4DF4-844F-07438097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B8F9-24DB-409E-BAE1-3C249B08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C5FC-2911-4168-9B05-691243A5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CFF1-080A-4899-96CB-4FADB473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E42B-DC5A-42AD-9998-5C882B83317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31T02:01:01Z</dcterms:modified>
  <cp:revision>25</cp:revision>
  <dc:subject/>
  <dc:title>슬라이드 1</dc:title>
</cp:coreProperties>
</file>