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DAE9-52EA-415A-960B-08E427EA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E4C0-648C-49EA-BE3A-0FC41337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1C71-9C1F-43EB-B2CA-D4507AF6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9295-8491-45CD-B103-39A69B50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14D1-A07F-4774-8A1E-1DB176F6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374-0D42-4D81-B221-B1CDDD10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AD4E-0927-4144-8D81-1B4C9416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C07D-D142-4300-B18D-F423C177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259D-D7D9-4F58-A1F8-91D33640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00BC-EC21-46A0-9B53-6D99F10C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922B-0BCA-4A7E-B18B-9CC1518F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4BE6-97A2-428C-8460-7CC6799B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254F-F88C-4F04-836C-2717BBA0B7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lbertus Extra Bold"/>
              </a:rPr>
              <a:t>Pathology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lbertus Extra Bold"/>
              </a:rPr>
              <a:t>Circulatory disturbances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rof. Dr. SALAH FAY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Edema of solid organ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Gross examination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organ increases in size and weigh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Microscopic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re is separation of parenchymal element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Pulmonary edema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ypically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occur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in left-sided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art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ilur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lso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see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in renal failure, acute respiratory distress syndrome (ARDS), infections, and hypersensitivity reaction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The lungs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e 2-3 times their normal weight, cut section reveals a frothy mixture of air, fluid and RBC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Brain edema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y be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localize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to the site of injury (abscess) or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diffus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(encephalitis, hypertensive crisis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en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diffus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, the brain is grossly swollen with narrowed sulci and distended gyri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yper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Definition: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t is an excessive amount of blood in a tissue or organ secondary to 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active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asodilat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It may b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hysiological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.g. muscular exercise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thological e.g. inflammatio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The tissue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e reddish in color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ongestio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Definition: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t is 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passiv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rocess, caused by impaired outflow of blood from a tissu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t may be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local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(isolated organ or tissue) or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generalized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in CHF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tissu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re blue-red in colo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ng-standing cases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may caus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ell death due to hypoxi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Morphology of congestio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acut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ases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vessels are engorged with bloo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organs are hyperemic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e is interstitial edem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chronic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ase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pillary rupture with focal hemorrhag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mosiderin-laden macrophag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renchymal cell atrophy or death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Lung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liver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re commonly affected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ung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volved in left ventricular failur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acut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ongestion: there is capillary engorgement, interstitial edema and alveolar transudat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chronic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ongestion: hemosiderin-laden macrophages (heart failure cells) are seen with edematous to fibrotic septa (brown induration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iver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volved in right-sided heart failure, hepatic vein or inferior vena cava obstruc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acut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gestion: there is central vein and sinusoidal dilatation, and may be central hepatocyte degener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 chronic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gestion: </a:t>
            </a: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grossly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he central regions of hepatic lobules are red-brown, surrounded by yellowish areas (nut-meg liver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Microscopically,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re is centri-lobular necrosis and hemorrhage with hemosiderin-laden macrophages. Later on hepatic fibrosis may occur (cardiac cirrhosis)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ronic venous congestion, li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2" descr="G:\Cotran\Images\CH05\f005003.jpg"/>
          <p:cNvPicPr/>
          <p:nvPr/>
        </p:nvPicPr>
        <p:blipFill>
          <a:blip r:embed="rId1"/>
          <a:stretch/>
        </p:blipFill>
        <p:spPr>
          <a:xfrm>
            <a:off x="857160" y="1785960"/>
            <a:ext cx="7572600" cy="421488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584280" y="6143760"/>
            <a:ext cx="42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ross appearance: Nut-meg l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5293800" y="6143760"/>
            <a:ext cx="32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icroscopic appea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Edem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Definition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bnormal accumulation of fluid in the interstitial tissue spaces or body caviti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Edema may be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calized.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ystemic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emorrhag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Definition: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t is escape of blood from blood vessels to surrounding tissues most often due to traum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lassification of hemorrhag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External hemorrhag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Epistaxis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bleeding from the nos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Hemoptysis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ughing of bloo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Hematemesis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vomiting of bloo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Melena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gested blood in the stoo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Menorrhagia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excessive menstrual bleedin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Metrorrhagia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abnormal uterine bleedin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Internal hemorrhag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Hemothorax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hemorrhage into the pleur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Hemopericardium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hemorrhage into pericardiu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Hemoperitoneum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hemorrhage into the peritoneal cavit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Interstitial hemorrhag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Petechial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morrhage (pin-point bleeding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Ecchymosis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r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bruise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: moderate amount of bloo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Hematoma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large amount of blood producing swellin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techial hemorrh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C:\Documents and Settings\Dr.Salah Fayed\My Documents\Webpath\JPEG5\CV090.JPG"/>
          <p:cNvPicPr/>
          <p:nvPr/>
        </p:nvPicPr>
        <p:blipFill>
          <a:blip r:embed="rId1"/>
          <a:stretch/>
        </p:blipFill>
        <p:spPr>
          <a:xfrm>
            <a:off x="2643120" y="1150920"/>
            <a:ext cx="3714840" cy="5641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auses of hemorrhag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Traumatic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upture of an artery or vei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Spontaneous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Hemorrhagic blood diseases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hemophilia, thrombocytopenia, leukemi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Hypertensio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and atherosclerosi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Neoplasmic erosion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f blood vesse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upture of an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aneurysm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itamin C and vitamin K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deficiency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Normal hemostasi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Definition: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sequence of events leading to cessation of bleeding by formation of a stable fibrin-platelet plug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Mechanisms of hemostasi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Vascular spasm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damaged vessels constric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Platelet plug formatio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platelets adhere to damaged endothelium to form platelet plug (primary hemostasi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Blood coagulation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ots form upon the conversion of fibrinogen to fibrin and its addition to platelet plug (secondary hemostas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Steps of hemostasi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first step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mmidiate vasoconstriction of damaged vessls by the effect of vasoconstrictive paracrine released by endotheliu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asoconstriction temporarily decreases blood flow and pressure within the damaged vesse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second step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chanical blockage of hole by a platelet plu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latelets stick to the exposed collagen and become activated releasing cytokines into the area around the injur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latelet factors reinforce local vasoconstriction and activate more platelets to stick to each other to form a loose platelet plu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third step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posed collagen and tissue factor initiate this step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d996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9694"/>
                </a:solidFill>
                <a:latin typeface="Calibri"/>
              </a:rPr>
              <a:t>Coagulation cascad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: a series of enzymatic reactions that ends in the formation of fibrin protein fiber mesh that stabilizes the platelet plu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agulation casca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Content Placeholder 3" descr="coag cascade.pn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743120" y="1546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Causes of localized edem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Increased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ascular permeabilit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Venou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obstruc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Lymphatic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obstruc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nical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cute inflammatio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aum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ymphedem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erebral edem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Eventually,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s the damaged vessel repairs it self, the clot retracts and is slowly dissolved by the enzyme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plasmi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mostasis, 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step, diagra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4" descr="H:\Cotran\SlideFix\7335.05.05a.jpg"/>
          <p:cNvPicPr/>
          <p:nvPr/>
        </p:nvPicPr>
        <p:blipFill>
          <a:blip r:embed="rId1"/>
          <a:stretch/>
        </p:blipFill>
        <p:spPr>
          <a:xfrm>
            <a:off x="1419120" y="1600200"/>
            <a:ext cx="630576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mostasis, 2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step, diagra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4" descr="H:\Cotran\SlideFix\7335.05.05b.jpg"/>
          <p:cNvPicPr/>
          <p:nvPr/>
        </p:nvPicPr>
        <p:blipFill>
          <a:blip r:embed="rId1"/>
          <a:stretch/>
        </p:blipFill>
        <p:spPr>
          <a:xfrm>
            <a:off x="1419120" y="1600200"/>
            <a:ext cx="630576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mostasis, 3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rd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step, diagra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4" descr="H:\Cotran\SlideFix\7335.05.05c.jpg"/>
          <p:cNvPicPr/>
          <p:nvPr/>
        </p:nvPicPr>
        <p:blipFill>
          <a:blip r:embed="rId1"/>
          <a:stretch/>
        </p:blipFill>
        <p:spPr>
          <a:xfrm>
            <a:off x="1419120" y="1600200"/>
            <a:ext cx="630576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mostasis, clot &amp; clot dissolution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1028" descr="H:\Cotran\SlideFix\7335.05.05d.jpg"/>
          <p:cNvPicPr/>
          <p:nvPr/>
        </p:nvPicPr>
        <p:blipFill>
          <a:blip r:embed="rId1"/>
          <a:stretch/>
        </p:blipFill>
        <p:spPr>
          <a:xfrm>
            <a:off x="844560" y="1600200"/>
            <a:ext cx="745488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rmal flow of interstitial flui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Picture 4" descr="H:\Cotran\SlideFix\7335.05.01.jpg"/>
          <p:cNvPicPr/>
          <p:nvPr/>
        </p:nvPicPr>
        <p:blipFill>
          <a:blip r:embed="rId1"/>
          <a:stretch/>
        </p:blipFill>
        <p:spPr>
          <a:xfrm>
            <a:off x="1285920" y="1357200"/>
            <a:ext cx="6442200" cy="50785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Causes of systemic edem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Increased hydrostatic pressur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art failur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ulmonary edem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dema of dependant part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Decreased osmotic pressure (low albumen)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nal edema, (nephrotic and nephritic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ver cirrhosi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utritional (hypoproteinemi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ephrotic edem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Content Placeholder 3" descr="Nephrotic Boy.jpg"/>
          <p:cNvPicPr/>
          <p:nvPr/>
        </p:nvPicPr>
        <p:blipFill>
          <a:blip r:embed="rId1"/>
          <a:stretch/>
        </p:blipFill>
        <p:spPr>
          <a:xfrm>
            <a:off x="1500120" y="1428840"/>
            <a:ext cx="6318360" cy="47386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Morphology of edem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Subcutaneous edema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ccurs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wher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hydrostatic pressure is greatest e.g. legs when standing, sacrum when recumben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t is typical for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right-side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heart failur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at due to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hypoproteinemia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is usually severe and evident in loose connective tissue e.g. peri-orbital edema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Pitting edema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transudate is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displace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under pressure into the tissue spac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Hard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dema: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no displacement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f the transudat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itting edem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Content Placeholder 3" descr="pitting edema.jpg"/>
          <p:cNvPicPr/>
          <p:nvPr/>
        </p:nvPicPr>
        <p:blipFill>
          <a:blip r:embed="rId1"/>
          <a:srcRect l="1597" t="19195" r="2795" b="21594"/>
          <a:stretch/>
        </p:blipFill>
        <p:spPr>
          <a:xfrm>
            <a:off x="254160" y="2000160"/>
            <a:ext cx="866448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scite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Content Placeholder 3" descr="general edema.jpg"/>
          <p:cNvPicPr/>
          <p:nvPr/>
        </p:nvPicPr>
        <p:blipFill>
          <a:blip r:embed="rId1"/>
          <a:stretch/>
        </p:blipFill>
        <p:spPr>
          <a:xfrm>
            <a:off x="1214280" y="1428840"/>
            <a:ext cx="6604200" cy="49528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5T07:09:10Z</dcterms:created>
  <dc:creator>Prof. Dr. Salah</dc:creator>
  <dc:description/>
  <dc:language>en-US</dc:language>
  <cp:lastModifiedBy>al shamil</cp:lastModifiedBy>
  <dcterms:modified xsi:type="dcterms:W3CDTF">2011-11-14T05:52:59Z</dcterms:modified>
  <cp:revision>50</cp:revision>
  <dc:subject/>
  <dc:title>Pathology  Circulatory pathology</dc:title>
</cp:coreProperties>
</file>