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C48-CFB9-4344-8FBC-4DD293F4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B7C-66D3-4875-A3BB-E411DC7B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B86-EF6A-4B0C-A7AF-7BE39A14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1ED-5324-43F7-ACAE-7A78B098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F98-66A4-4CEF-84F3-EC44E1C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681-9A2A-472F-97B0-33D3EF18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12B-FFC3-43C6-9F43-67C29713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FE9-031C-44C6-AD74-44E37DD1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0B1-3102-428E-B081-19C5A735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75C-C1E0-4341-9493-8F8204F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782-0C7F-477A-90E0-C9C9A3D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E14-D7F7-4106-B3E3-69E5AD8F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FDCA-C0DC-49E7-81E2-B6B402EBC4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lbertus Extra Bold"/>
              </a:rPr>
              <a:t>Patholog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lbertus Extra Bold"/>
              </a:rPr>
              <a:t>Circulatory disturbances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f. Dr. SALAH FAY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Edema of solid orga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Gross examina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organ increases in size and weigh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Microscop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is separation of parenchymal elemen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Pulmonary edem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ically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occur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n left-sided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art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so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se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n renal failure, acute respiratory distress syndrome (ARDS), infections, and hypersensitivity reaction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The lung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2-3 times their normal weight, cut section reveals a frothy mixture of air, fluid and RBC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Brain edem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y be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localiz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o the site of injury (abscess) or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diffu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encephalitis, hypertensive crisis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n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diffus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the brain is grossly swollen with narrowed sulci and distended gyr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yper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t is an excessive amount of blood in a tissue or organ secondary to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activ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sodilat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It may b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hysiologic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.g. muscular exercis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thological e.g. inflamm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The tissu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reddish in colo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onges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t is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passiv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rocess, caused by impaired outflow of blood from a tiss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may b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loc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isolated organ or tissue) or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generalized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in CHF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tissu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re blue-red in colo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ng-standing cases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may cau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ell death due to hypox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Morphology of conges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acut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se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vessels are engorged with bloo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organs are hyperemic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interstitial ede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hroni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s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pillary rupture with focal hemorrhag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mosiderin-laden macrophag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enchymal cell atrophy or dea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Lung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liv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commonly affecte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ung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d in left ventricular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acut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ongestion: there is capillary engorgement, interstitial edema and alveolar transuda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chroni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ongestion: hemosiderin-laden macrophages (heart failure cells) are seen with edematous to fibrotic septa (brown induration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iver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d in right-sided heart failure, hepatic vein or inferior vena cava obstru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acut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stion: there is central vein and sinusoidal dilatation, and may be central hepatocyte degener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 chronic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stion: 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grossly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he central regions of hepatic lobules are red-brown, surrounded by yellowish areas (nut-meg liver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Microscopically,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is centri-lobular necrosis and hemorrhage with hemosiderin-laden macrophages. Later on hepatic fibrosis may occur (cardiac cirrhosis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ronic venous congestion, li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G:\Cotran\Images\CH05\f005003.jpg"/>
          <p:cNvPicPr/>
          <p:nvPr/>
        </p:nvPicPr>
        <p:blipFill>
          <a:blip r:embed="rId1"/>
          <a:stretch/>
        </p:blipFill>
        <p:spPr>
          <a:xfrm>
            <a:off x="857160" y="1785960"/>
            <a:ext cx="7572600" cy="4214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584280" y="614376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oss appearance: Nut-meg l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5293800" y="614376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croscopic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dem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normal accumulation of fluid in the interstitial tissue spaces or body cav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Edema may b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calized.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ystem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emorrhag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is escape of blood from blood vessels to surrounding tissues most often due to traum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assification of hemorrhag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External hemorrhag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Epistaxis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leeding from the nos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ptysis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ghing of bloo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atemesis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vomiting of bloo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Melena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gested blood in the stoo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Menorrhagia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excessive menstrual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Metrorrhagia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bnormal uterine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Internal hemorrhag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thorax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morrhage into the pleur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pericardium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morrhage into pericardiu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peritoneum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morrhage into the peritoneal cavi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Interstitial hemorrhag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Petechi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morrhage (pin-point bleeding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Ecchymosi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ruise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moderate amount of bloo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atoma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large amount of blood producing swell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techial hemorrh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C:\Documents and Settings\Dr.Salah Fayed\My Documents\Webpath\JPEG5\CV090.JPG"/>
          <p:cNvPicPr/>
          <p:nvPr/>
        </p:nvPicPr>
        <p:blipFill>
          <a:blip r:embed="rId1"/>
          <a:stretch/>
        </p:blipFill>
        <p:spPr>
          <a:xfrm>
            <a:off x="2643120" y="1150920"/>
            <a:ext cx="3714840" cy="564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auses of hemorrhag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Traumatic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pture of an artery or vei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Spontaneou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emorrhagic blood diseases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mophilia, thrombocytopenia, leukemi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ypertensio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and atherosclerosi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Neoplasmic erosion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blood vesse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upture of an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aneurysm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tamin C and vitamin K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deficiency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Normal hemostas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finition: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sequence of events leading to cessation of bleeding by formation of a stable fibrin-platelet plu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Mechanisms of hemostas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Vascular spas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damaged vessels constri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Platelet plug form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platelets adhere to damaged endothelium to form platelet plug (primary hemostasi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Blood coagulatio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ots form upon the conversion of fibrinogen to fibrin and its addition to platelet plug (secondary hemosta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teps of hemostasi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first step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midiate vasoconstriction of damaged vessls by the effect of vasoconstrictive paracrine released by endothelium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soconstriction temporarily decreases blood flow and pressure within the damaged vesse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second step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cal blockage of hole by a platelet pl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telets stick to the exposed collagen and become activated releasing cytokines into the area around the inju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telet factors reinforce local vasoconstriction and activate more platelets to stick to each other to form a loose platelet pl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third step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posed collagen and tissue factor initiate this step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d99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9694"/>
                </a:solidFill>
                <a:latin typeface="Calibri"/>
              </a:rPr>
              <a:t>Coagulation cascad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: a series of enzymatic reactions that ends in the formation of fibrin protein fiber mesh that stabilizes the platelet pl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agulation casca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Content Placeholder 3" descr="coag cascad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743120" y="1546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Causes of localized edem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Increase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scular permeabilit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Venou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bstru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Lymphati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bstru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nical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ute inflamm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u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ymphede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rebral ede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Eventually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s the damaged vessel repairs it self, the clot retracts and is slowly dissolved by the enzyme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plasmi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mostasis, 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step, diagra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H:\Cotran\SlideFix\7335.05.05a.jpg"/>
          <p:cNvPicPr/>
          <p:nvPr/>
        </p:nvPicPr>
        <p:blipFill>
          <a:blip r:embed="rId1"/>
          <a:stretch/>
        </p:blipFill>
        <p:spPr>
          <a:xfrm>
            <a:off x="1419120" y="1600200"/>
            <a:ext cx="630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mostasis, 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step, diagra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4" descr="H:\Cotran\SlideFix\7335.05.05b.jpg"/>
          <p:cNvPicPr/>
          <p:nvPr/>
        </p:nvPicPr>
        <p:blipFill>
          <a:blip r:embed="rId1"/>
          <a:stretch/>
        </p:blipFill>
        <p:spPr>
          <a:xfrm>
            <a:off x="1419120" y="1600200"/>
            <a:ext cx="630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mostasis, 3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step, diagra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4" descr="H:\Cotran\SlideFix\7335.05.05c.jpg"/>
          <p:cNvPicPr/>
          <p:nvPr/>
        </p:nvPicPr>
        <p:blipFill>
          <a:blip r:embed="rId1"/>
          <a:stretch/>
        </p:blipFill>
        <p:spPr>
          <a:xfrm>
            <a:off x="1419120" y="1600200"/>
            <a:ext cx="630576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mostasis, clot &amp; clot dissolution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1028" descr="H:\Cotran\SlideFix\7335.05.05d.jpg"/>
          <p:cNvPicPr/>
          <p:nvPr/>
        </p:nvPicPr>
        <p:blipFill>
          <a:blip r:embed="rId1"/>
          <a:stretch/>
        </p:blipFill>
        <p:spPr>
          <a:xfrm>
            <a:off x="844560" y="1600200"/>
            <a:ext cx="74548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rmal flow of interstitial flui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4" descr="H:\Cotran\SlideFix\7335.05.01.jpg"/>
          <p:cNvPicPr/>
          <p:nvPr/>
        </p:nvPicPr>
        <p:blipFill>
          <a:blip r:embed="rId1"/>
          <a:stretch/>
        </p:blipFill>
        <p:spPr>
          <a:xfrm>
            <a:off x="1285920" y="1357200"/>
            <a:ext cx="6442200" cy="507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Causes of systemic edem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Increased hydrostatic pressur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art failu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ulmonary edem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dema of dependant par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Decreased osmotic pressure (low albumen)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nal edema, (nephrotic and nephritic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er cirrhosi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utritional (hypoproteinemi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phrotic edem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Content Placeholder 3" descr="Nephrotic Boy.jpg"/>
          <p:cNvPicPr/>
          <p:nvPr/>
        </p:nvPicPr>
        <p:blipFill>
          <a:blip r:embed="rId1"/>
          <a:stretch/>
        </p:blipFill>
        <p:spPr>
          <a:xfrm>
            <a:off x="1500120" y="1428840"/>
            <a:ext cx="631836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rc dist-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rphology of edem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Subcutaneous edem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ccurs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ydrostatic pressure is greatest e.g. legs when standing, sacrum when recumbe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 is typical for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right-side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heart failur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at due to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hypoproteinemi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s usually severe and evident in loose connective tissue e.g. peri-orbital edem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Pitting edem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ransudate is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displace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nder pressure into the tissue spac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Har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dema: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no displacem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the transud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itting edem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Content Placeholder 3" descr="pitting edema.jpg"/>
          <p:cNvPicPr/>
          <p:nvPr/>
        </p:nvPicPr>
        <p:blipFill>
          <a:blip r:embed="rId1"/>
          <a:srcRect l="1597" t="19195" r="2795" b="21594"/>
          <a:stretch/>
        </p:blipFill>
        <p:spPr>
          <a:xfrm>
            <a:off x="254160" y="2000160"/>
            <a:ext cx="86644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cit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Content Placeholder 3" descr="general edema.jpg"/>
          <p:cNvPicPr/>
          <p:nvPr/>
        </p:nvPicPr>
        <p:blipFill>
          <a:blip r:embed="rId1"/>
          <a:stretch/>
        </p:blipFill>
        <p:spPr>
          <a:xfrm>
            <a:off x="1214280" y="1428840"/>
            <a:ext cx="660420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7:09:10Z</dcterms:created>
  <dc:creator>Prof. Dr. Salah</dc:creator>
  <dc:description/>
  <dc:language>en-US</dc:language>
  <cp:lastModifiedBy>al shamil</cp:lastModifiedBy>
  <dcterms:modified xsi:type="dcterms:W3CDTF">2011-11-14T05:52:59Z</dcterms:modified>
  <cp:revision>50</cp:revision>
  <dc:subject/>
  <dc:title>Pathology  Circulatory pathology</dc:title>
</cp:coreProperties>
</file>